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7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15.wmf" ContentType="image/x-wmf"/>
  <Override PartName="/ppt/media/image41.wmf" ContentType="image/x-wmf"/>
  <Override PartName="/ppt/media/image53.wmf" ContentType="image/x-wmf"/>
  <Override PartName="/ppt/media/image30.wmf" ContentType="image/x-wmf"/>
  <Override PartName="/ppt/media/image42.wmf" ContentType="image/x-wmf"/>
  <Override PartName="/ppt/media/image54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A5E-AA3F-437F-BE77-2B8AB73B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6B6-7C05-42ED-992D-5F1EA5DA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1A8-2423-47F1-A803-CA91F722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119-79C0-4CFD-8F85-06F024CF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BA7-3BEF-40E1-9B90-8A0D1662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3FD-A691-4080-8530-6BA05C90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800-BC10-4219-AC4D-5020B714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BA9-6F4A-4B4C-8A7B-AE564A72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45A-B20B-4539-95C3-046D92CE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A74-B86C-4A2E-B90C-82E20FE0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4B2-1F2E-4D2C-8CF7-29C031AD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DD9-54A2-4535-89AA-23D3C9E2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A241-0C9D-4CDE-BEF1-7CAC91E5B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8.wmf"/><Relationship Id="rId3" Type="http://schemas.openxmlformats.org/officeDocument/2006/relationships/image" Target="../media/image2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9.wmf"/><Relationship Id="rId3" Type="http://schemas.openxmlformats.org/officeDocument/2006/relationships/image" Target="../media/image3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2.wmf"/><Relationship Id="rId3" Type="http://schemas.openxmlformats.org/officeDocument/2006/relationships/image" Target="../media/image6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2.wmf"/><Relationship Id="rId3" Type="http://schemas.openxmlformats.org/officeDocument/2006/relationships/image" Target="../media/image21.wmf"/><Relationship Id="rId4" Type="http://schemas.openxmlformats.org/officeDocument/2006/relationships/image" Target="../media/image16.wmf"/><Relationship Id="rId5" Type="http://schemas.openxmlformats.org/officeDocument/2006/relationships/image" Target="../media/image15.wmf"/><Relationship Id="rId6" Type="http://schemas.openxmlformats.org/officeDocument/2006/relationships/image" Target="../media/image33.wmf"/><Relationship Id="rId7" Type="http://schemas.openxmlformats.org/officeDocument/2006/relationships/image" Target="../media/image14.wmf"/><Relationship Id="rId8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9" Type="http://schemas.microsoft.com/office/2007/relationships/media" Target="file:///tmp/home/.config/libreoffice/4/user/gallery/&#1047;&#1072;&#1087;&#1080;&#1089;&#1072;&#1085;&#1085;&#1099;&#1081;%20&#1079;&#1074;&#1091;&#1082;" TargetMode="Externa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image" Target="../media/image10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image" Target="../media/image21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457200"/>
            <a:ext cx="579096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Verdana"/>
              </a:rPr>
              <a:t>ALPHAB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6172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АНГЛИЙСКИЙ А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4267080"/>
            <a:ext cx="1847880" cy="1784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1770120" cy="180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470720" y="380880"/>
            <a:ext cx="1673280" cy="159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28600" y="4191120"/>
            <a:ext cx="2209680" cy="1893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648320" y="3886200"/>
            <a:ext cx="1420560" cy="1839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0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7400" y="4572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I i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179244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657600" y="4724280"/>
            <a:ext cx="1409760" cy="1833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226120" y="4038480"/>
            <a:ext cx="349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буквой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ы так похож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я - одно и то 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не плачем, не хандр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есть пломби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ice-cr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507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57400" y="457200"/>
            <a:ext cx="4952880" cy="350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J j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35040" y="4343400"/>
            <a:ext cx="1657440" cy="226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19440" y="4343400"/>
            <a:ext cx="1233720" cy="1603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943240" y="5181480"/>
            <a:ext cx="29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дкоежка буква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ще булок и корж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J знакома вс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отведал сладкий j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557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57400" y="4572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K 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2055600" cy="1938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505320" y="5181480"/>
            <a:ext cx="1279440" cy="1452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04240" y="4495680"/>
            <a:ext cx="32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 откроет всем замк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нее есть ключ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арство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ingdom отвед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 волшебный распахн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55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057400" y="4572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L 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1700280" cy="183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172200" y="4572000"/>
            <a:ext cx="1157400" cy="171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681640" y="4343040"/>
            <a:ext cx="32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L пришла зат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 помочь ягненку –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m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в кровать боится леч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ит ламп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lamp заж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367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52480" y="533520"/>
            <a:ext cx="5867640" cy="3124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M m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4572000"/>
            <a:ext cx="2210040" cy="189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827360" cy="1298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78160" y="4647960"/>
            <a:ext cx="342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М для обезьян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еселой шустрой mon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щенья ждет 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Mel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ыня ей нуж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497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81080" y="457200"/>
            <a:ext cx="518184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N 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38080" y="4308480"/>
            <a:ext cx="2301840" cy="2097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200400" y="4800600"/>
            <a:ext cx="1839960" cy="154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31000" y="4343040"/>
            <a:ext cx="36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 висеть не надое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етвях гнез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a n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м птенцы. Хотелось нам 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читать число 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42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57400" y="4572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O 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1990800" cy="2243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781680" y="4952880"/>
            <a:ext cx="1827360" cy="1589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763120" y="-2332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15680" y="5257440"/>
            <a:ext cx="32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зари и до з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ет веткой дуб- oak-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х зовет под свод ветв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моча под нос: “O.K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45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057400" y="6858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P p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72960" y="4419720"/>
            <a:ext cx="1675080" cy="2158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391520" y="1371600"/>
            <a:ext cx="138744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00600" y="4647960"/>
            <a:ext cx="33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i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олодой пи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parr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пугаем ра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смотрите, это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ет веткой паль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alm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667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57400" y="685800"/>
            <a:ext cx="51814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Q q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0" y="5029200"/>
            <a:ext cx="1487520" cy="1676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3520" y="3809880"/>
            <a:ext cx="2152440" cy="2078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716080" y="4343040"/>
            <a:ext cx="327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т я песенку сп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сть прекрасной буквы Q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у что qu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цар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любит весел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288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57400" y="6858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R 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952880" y="4648320"/>
            <a:ext cx="1244880" cy="1423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202068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763120" y="-3808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31360" y="5667120"/>
            <a:ext cx="30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идет мол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егитесь буквы R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открою вам секр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противней крыс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rat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278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57400" y="4572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A 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4767120"/>
            <a:ext cx="2035440" cy="2090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86000" y="5257800"/>
            <a:ext cx="1373040" cy="1380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01680" y="4648320"/>
            <a:ext cx="366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у дверь стуча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то т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уква A и осен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aut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ому, чтоб грустным не бы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рят ябло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an ap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67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22440" y="4495680"/>
            <a:ext cx="1815840" cy="1982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57400" y="6858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S 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553080" y="4191120"/>
            <a:ext cx="1522440" cy="1393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85480" y="457164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лучайно буква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зывает интере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б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sky сверкает st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яркая звез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327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057400" y="6858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T 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1619280" cy="2220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1420560" cy="1839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57440" y="457164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“Детский мир” зовет нас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сти рады мы зай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подружится с т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ая игруш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to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357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33720" y="685800"/>
            <a:ext cx="487656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U u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7200" y="4800600"/>
            <a:ext cx="2054160" cy="185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590920" y="5334120"/>
            <a:ext cx="1527120" cy="1365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674600" y="4495680"/>
            <a:ext cx="326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стретишь букву 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ит скоро быть дожд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U сегодня подобрел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арила зонт - umbrel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437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057400" y="6858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200"/>
            </a:br>
            <a:r>
              <a:rPr b="0" lang="en-US" sz="18200" spc="-1" strike="noStrike">
                <a:solidFill>
                  <a:srgbClr val="990099"/>
                </a:solidFill>
                <a:latin typeface="Bookman Old Style"/>
              </a:rPr>
              <a:t>V v</a:t>
            </a:r>
            <a:endParaRPr b="0" lang="en-US" sz="18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828800" y="4495680"/>
            <a:ext cx="2054160" cy="2017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086600" y="2057400"/>
            <a:ext cx="1812960" cy="1825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96720" y="4646160"/>
            <a:ext cx="40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Эй! Беги, держи, лов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На подаче буква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рямо в небо мяч уш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божаю volley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46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00200" y="685800"/>
            <a:ext cx="586728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0"/>
            </a:b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W w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600200" y="3809880"/>
            <a:ext cx="2117880" cy="2230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257800" y="4876920"/>
            <a:ext cx="1825560" cy="1322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763120" y="-2332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439720" y="5667120"/>
            <a:ext cx="32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, известно всем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вернутая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мноте, клыком сверкну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ит серый вол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a wol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667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057400" y="6858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X x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952880" y="3886200"/>
            <a:ext cx="1825920" cy="174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1995480" cy="2079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763120" y="-3808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8520" y="5410080"/>
            <a:ext cx="33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ач сказал из-за двер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Я беру вас на X-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то такое? Может, в пле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ет, всего лишь на рентг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607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057400" y="6858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Y 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238880" y="3124080"/>
            <a:ext cx="1676520" cy="1630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1708200" cy="2284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14800" y="5105160"/>
            <a:ext cx="31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й, на весла налег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чится в море буква 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льний путь ребят з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й парус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a ya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447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057400" y="6858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Z z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819520" y="4876920"/>
            <a:ext cx="1827000" cy="1681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3520" y="4343400"/>
            <a:ext cx="1834920" cy="2249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463640" y="4191120"/>
            <a:ext cx="487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Что такое буква Z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Ты увидишь, взяв би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олка, тигра, и ко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зоопарке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- in the Z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507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Arial Blac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1619280" cy="22208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905120" y="2514600"/>
            <a:ext cx="1212840" cy="1417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2971800" y="2666880"/>
            <a:ext cx="1371600" cy="1184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3124080" y="4114800"/>
            <a:ext cx="2284560" cy="20858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5334120" y="4724280"/>
            <a:ext cx="1523880" cy="127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6858000" y="4495680"/>
            <a:ext cx="1150920" cy="1371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" action="ppaction://media"/>
          </p:cNvPr>
          <p:cNvPicPr/>
          <p:nvPr>
            <a:vide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916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57400" y="4572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B b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2280" y="4572000"/>
            <a:ext cx="2514600" cy="2154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029200" y="4038480"/>
            <a:ext cx="1251000" cy="1524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7440" y="5410080"/>
            <a:ext cx="306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B, как мяч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чет, прячется под 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ль, играть мне недосу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читаю книжку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o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45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057400" y="4572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C c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04920" y="4572000"/>
            <a:ext cx="2023920" cy="2136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209680" y="4952880"/>
            <a:ext cx="1676520" cy="1644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837040" y="4724280"/>
            <a:ext cx="28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хоту вышла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и! Лапы унос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 сегодня на об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остаться кошке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427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457200"/>
            <a:ext cx="518148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D 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4654440"/>
            <a:ext cx="2070000" cy="2014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391520" y="3429000"/>
            <a:ext cx="153504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865600" y="5257440"/>
            <a:ext cx="259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букве D не подхо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не то укусит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 бежит, не чуя но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дворе соб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45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57400" y="4572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E 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880" y="4572000"/>
            <a:ext cx="2284560" cy="2085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429000" y="4952880"/>
            <a:ext cx="1836720" cy="1586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31400" y="434304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Е белей, чем сне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Е берет начало eg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gg высиживает кв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т конец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 end. И точ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377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57400" y="457200"/>
            <a:ext cx="48769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F f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1900080" cy="2438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971800" y="4724280"/>
            <a:ext cx="1380960" cy="1874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837400" y="5257440"/>
            <a:ext cx="298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листок зеленый се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мко квакнет буква 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у что fro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лягу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менитая квакуш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46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609480"/>
            <a:ext cx="510516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G 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7800" y="4419720"/>
            <a:ext cx="2038680" cy="20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400800" y="4419720"/>
            <a:ext cx="1436760" cy="153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745000" y="4876560"/>
            <a:ext cx="292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этой буквой не дру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знается буква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голову задр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т свысока - giraf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417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7400" y="457200"/>
            <a:ext cx="5105520" cy="32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90099"/>
                </a:solidFill>
                <a:latin typeface="Bookman Old Style"/>
              </a:rPr>
              <a:t>H 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2130480" cy="2030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124080" y="4952880"/>
            <a:ext cx="1409760" cy="1646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763120" y="-3808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71120" y="4267080"/>
            <a:ext cx="364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 утрет любому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чится вихрем конь м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его преграды н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садник в шляп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47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nochka</cp:lastModifiedBy>
  <dcterms:modified xsi:type="dcterms:W3CDTF">2009-02-02T20:10:4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