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85E8-802D-406E-A5E6-FD0436802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926F-D525-4F4E-9A4D-725381B5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A191-4A45-44B7-8E9A-3F2CE8130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5012-F18B-41A3-A20B-AA3D1EEB1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98C7-A839-4366-B70E-E49DCA875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0F50-E792-4B31-8F82-0A0ABFC6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F3A6-42CC-4BCD-B48A-670FF442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F1F5-E39B-4541-BA25-AFD94826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D14C-7CB7-4E0D-9A91-9E4B7A4A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4D64-94EC-4287-A31B-25C9DB9C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3020-2746-4405-9F8A-70CA0876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B0D4-906D-4DDB-B795-25ECBE3B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6476-6689-4C86-B200-4F8FFBFF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FCB5-5443-4563-8AE2-DA8CBAF3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0F08-1AE4-4841-94D4-E23E65B6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AA30-9A6C-4FEF-89E6-295050049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1AAA-A9C1-42C4-A1FE-0689CE141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D8F3-1CF5-4EC6-B60B-A84AE8EF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61D7-3379-49DB-BB94-430BB3C7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6B29-3D23-4E1C-853F-910ABD74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87B9-C79F-44DC-9193-DE8F5334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9007-115B-4C14-8042-984586F6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CCAC-59C3-4B26-A395-789FAF76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94A5-293F-4CED-9C39-CECED1A6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599800" y="5896440"/>
              <a:ext cx="1254960" cy="824400"/>
              <a:chOff x="5599800" y="5896440"/>
              <a:chExt cx="1254960" cy="824400"/>
            </a:xfrm>
          </p:grpSpPr>
          <p:sp>
            <p:nvSpPr>
              <p:cNvPr id="4" name=""/>
              <p:cNvSpPr/>
              <p:nvPr/>
            </p:nvSpPr>
            <p:spPr>
              <a:xfrm>
                <a:off x="5851440" y="6046560"/>
                <a:ext cx="843120" cy="517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4800" y="6094080"/>
                <a:ext cx="71640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3720" y="6144480"/>
                <a:ext cx="545040" cy="3276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7080" y="6182640"/>
                <a:ext cx="415440" cy="2512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0720" y="6224040"/>
                <a:ext cx="304200" cy="169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5400" y="5896440"/>
                <a:ext cx="606960" cy="25452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5480" y="6616440"/>
                <a:ext cx="703800" cy="10440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599800" y="6198480"/>
                <a:ext cx="140760" cy="34200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6040" y="5943600"/>
                <a:ext cx="1188720" cy="72936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07640" y="5905800"/>
                <a:ext cx="152280" cy="4716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6400" y="6265080"/>
                <a:ext cx="133200" cy="835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8800" y="5763240"/>
              <a:ext cx="2578320" cy="1081440"/>
              <a:chOff x="2818800" y="5763240"/>
              <a:chExt cx="2578320" cy="1081440"/>
            </a:xfrm>
          </p:grpSpPr>
          <p:sp>
            <p:nvSpPr>
              <p:cNvPr id="16" name=""/>
              <p:cNvSpPr/>
              <p:nvPr/>
            </p:nvSpPr>
            <p:spPr>
              <a:xfrm>
                <a:off x="3598560" y="6242760"/>
                <a:ext cx="1011960" cy="5968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1640" y="6280920"/>
                <a:ext cx="861120" cy="52560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4480" y="6314040"/>
                <a:ext cx="794160" cy="4734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7320" y="6342840"/>
                <a:ext cx="704160" cy="408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4320" y="6355440"/>
                <a:ext cx="654840" cy="379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6760" y="6388560"/>
                <a:ext cx="485280" cy="3038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28320" y="6436080"/>
                <a:ext cx="360000" cy="2134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3440" y="6501240"/>
                <a:ext cx="142200" cy="94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1480" y="6065640"/>
                <a:ext cx="712080" cy="29448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399120" y="611280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3720" y="6074640"/>
                <a:ext cx="64548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39040" y="6417000"/>
                <a:ext cx="171000" cy="39888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1400" y="5848560"/>
                <a:ext cx="1324080" cy="23724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2800" y="6114600"/>
                <a:ext cx="27108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1800" y="5952960"/>
                <a:ext cx="570960" cy="89172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8120" y="5763240"/>
                <a:ext cx="170928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1960" y="6474240"/>
                <a:ext cx="155160" cy="37044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8800" y="5829480"/>
                <a:ext cx="762480" cy="101520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2000" y="5333400"/>
              <a:ext cx="2142360" cy="1300320"/>
              <a:chOff x="6552000" y="5333400"/>
              <a:chExt cx="2142360" cy="1300320"/>
            </a:xfrm>
          </p:grpSpPr>
          <p:sp>
            <p:nvSpPr>
              <p:cNvPr id="35" name=""/>
              <p:cNvSpPr/>
              <p:nvPr/>
            </p:nvSpPr>
            <p:spPr>
              <a:xfrm>
                <a:off x="6666120" y="5399640"/>
                <a:ext cx="1904400" cy="115776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2000" y="5342400"/>
                <a:ext cx="862560" cy="116748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5000" y="5333400"/>
                <a:ext cx="965880" cy="39888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5000" y="6358320"/>
                <a:ext cx="114120" cy="853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49960" y="6462720"/>
                <a:ext cx="1117800" cy="17100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67560" y="5798880"/>
                <a:ext cx="226800" cy="54036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1600" y="5751360"/>
                <a:ext cx="131400" cy="14256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4560" y="563724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2640" y="5570640"/>
                <a:ext cx="144108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3560" y="5542200"/>
                <a:ext cx="578880" cy="10440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3360" y="5646960"/>
                <a:ext cx="104400" cy="7560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5120" y="5725800"/>
                <a:ext cx="821160" cy="5054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5880" y="5760720"/>
                <a:ext cx="707040" cy="42912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6280" y="5792400"/>
                <a:ext cx="612000" cy="3693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6120" y="5837040"/>
                <a:ext cx="472320" cy="280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3360" y="5868720"/>
                <a:ext cx="352080" cy="2199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19320" y="591588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0440" y="4800240"/>
              <a:ext cx="672480" cy="407160"/>
              <a:chOff x="8380440" y="4800240"/>
              <a:chExt cx="672480" cy="407160"/>
            </a:xfrm>
          </p:grpSpPr>
          <p:sp>
            <p:nvSpPr>
              <p:cNvPr id="53" name=""/>
              <p:cNvSpPr/>
              <p:nvPr/>
            </p:nvSpPr>
            <p:spPr>
              <a:xfrm>
                <a:off x="8380440" y="5055840"/>
                <a:ext cx="606240" cy="15156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5880" y="4800240"/>
                <a:ext cx="407880" cy="8496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58240" y="4866480"/>
                <a:ext cx="9468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0560" y="5150520"/>
                <a:ext cx="303840" cy="2808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18240" y="4828320"/>
                <a:ext cx="25488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1280" y="4828320"/>
                <a:ext cx="294120" cy="3315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3400" y="4853880"/>
                <a:ext cx="473040" cy="2934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0280" y="4896360"/>
                <a:ext cx="357480" cy="206640"/>
                <a:chOff x="8540280" y="4896360"/>
                <a:chExt cx="357480" cy="20664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0280" y="4896360"/>
                  <a:ext cx="357480" cy="20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4840" y="4918320"/>
                  <a:ext cx="286200" cy="15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18760" y="4933800"/>
                  <a:ext cx="196560" cy="12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1240" y="4958640"/>
                  <a:ext cx="114840" cy="7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afe1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53F0249-CBD6-4C36-8E8F-C920F6D146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599800" y="5896440"/>
              <a:ext cx="1254960" cy="824400"/>
              <a:chOff x="5599800" y="5896440"/>
              <a:chExt cx="1254960" cy="82440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1440" y="6046560"/>
                <a:ext cx="843120" cy="517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4800" y="6094080"/>
                <a:ext cx="71640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3720" y="6144480"/>
                <a:ext cx="545040" cy="3276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7080" y="6182640"/>
                <a:ext cx="415440" cy="2512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0720" y="6224040"/>
                <a:ext cx="304200" cy="169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5400" y="5896440"/>
                <a:ext cx="606960" cy="25452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5480" y="6616440"/>
                <a:ext cx="703800" cy="10440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599800" y="6198480"/>
                <a:ext cx="140760" cy="34200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6040" y="5943600"/>
                <a:ext cx="1188720" cy="72936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07640" y="5905800"/>
                <a:ext cx="152280" cy="4716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6400" y="6265080"/>
                <a:ext cx="133200" cy="835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8800" y="5763240"/>
              <a:ext cx="2578320" cy="1081440"/>
              <a:chOff x="2818800" y="5763240"/>
              <a:chExt cx="2578320" cy="1081440"/>
            </a:xfrm>
          </p:grpSpPr>
          <p:sp>
            <p:nvSpPr>
              <p:cNvPr id="121" name=""/>
              <p:cNvSpPr/>
              <p:nvPr/>
            </p:nvSpPr>
            <p:spPr>
              <a:xfrm>
                <a:off x="3598560" y="6242760"/>
                <a:ext cx="1011960" cy="5968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1640" y="6280920"/>
                <a:ext cx="861120" cy="52560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4480" y="6314040"/>
                <a:ext cx="794160" cy="4734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7320" y="6342840"/>
                <a:ext cx="704160" cy="408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4320" y="6355440"/>
                <a:ext cx="654840" cy="379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6760" y="6388560"/>
                <a:ext cx="485280" cy="3038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28320" y="6436080"/>
                <a:ext cx="360000" cy="2134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3440" y="6501240"/>
                <a:ext cx="142200" cy="94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1480" y="6065640"/>
                <a:ext cx="712080" cy="29448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399120" y="611280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3720" y="6074640"/>
                <a:ext cx="64548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39040" y="6417000"/>
                <a:ext cx="171000" cy="39888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1400" y="5848560"/>
                <a:ext cx="1324080" cy="23724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2800" y="6114600"/>
                <a:ext cx="27108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1800" y="5952960"/>
                <a:ext cx="570960" cy="89172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8120" y="5763240"/>
                <a:ext cx="170928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1960" y="6474240"/>
                <a:ext cx="155160" cy="37044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8800" y="5829480"/>
                <a:ext cx="762480" cy="101520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2000" y="5333400"/>
              <a:ext cx="2142360" cy="1300320"/>
              <a:chOff x="6552000" y="5333400"/>
              <a:chExt cx="2142360" cy="130032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6120" y="5399640"/>
                <a:ext cx="1904400" cy="115776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2000" y="5342400"/>
                <a:ext cx="862560" cy="116748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5000" y="5333400"/>
                <a:ext cx="965880" cy="39888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5000" y="6358320"/>
                <a:ext cx="114120" cy="853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49960" y="6462720"/>
                <a:ext cx="1117800" cy="17100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67560" y="5798880"/>
                <a:ext cx="226800" cy="54036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1600" y="5751360"/>
                <a:ext cx="131400" cy="14256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4560" y="563724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2640" y="5570640"/>
                <a:ext cx="144108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3560" y="5542200"/>
                <a:ext cx="578880" cy="10440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3360" y="5646960"/>
                <a:ext cx="104400" cy="7560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5120" y="5725800"/>
                <a:ext cx="821160" cy="5054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5880" y="5760720"/>
                <a:ext cx="707040" cy="42912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6280" y="5792400"/>
                <a:ext cx="612000" cy="3693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6120" y="5837040"/>
                <a:ext cx="472320" cy="280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3360" y="5868720"/>
                <a:ext cx="352080" cy="2199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19320" y="591588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0440" y="4800240"/>
              <a:ext cx="672480" cy="407160"/>
              <a:chOff x="8380440" y="4800240"/>
              <a:chExt cx="672480" cy="40716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0440" y="5055840"/>
                <a:ext cx="606240" cy="15156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5880" y="4800240"/>
                <a:ext cx="407880" cy="8496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58240" y="4866480"/>
                <a:ext cx="9468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0560" y="5150520"/>
                <a:ext cx="303840" cy="2808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18240" y="4828320"/>
                <a:ext cx="25488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1280" y="4828320"/>
                <a:ext cx="294120" cy="3315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3400" y="4853880"/>
                <a:ext cx="473040" cy="2934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0280" y="4896360"/>
                <a:ext cx="357480" cy="206640"/>
                <a:chOff x="8540280" y="4896360"/>
                <a:chExt cx="357480" cy="2066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0280" y="4896360"/>
                  <a:ext cx="357480" cy="20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4840" y="4918320"/>
                  <a:ext cx="286200" cy="15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18760" y="4933800"/>
                  <a:ext cx="196560" cy="12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1240" y="4958640"/>
                  <a:ext cx="114840" cy="7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A4DB0E0-F331-41BE-8C71-271A2C17BA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afe1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000" y="666000"/>
            <a:ext cx="7777080" cy="52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Методическое объединение учителей физической культуры, технологии, музыки, эстетики и изобразительного искусства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17424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Работа с одаренными детьми Итоги 2008-2009 уч. год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55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место в городском конкурсе научно-исследовательских краеведческих работ учащихся образовательных учреждений «Колокола времени» целевая программа «Символика России и В. Новгород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есто в областном конкурсе научно-исследовательских краеведческих работ учащихся образовательных учреждений «Колокола времени» целевая программа «Символика России и В. Новгород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еница 11 А класса Ковалева Анастас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итель Миронова З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Работа с одаренными детьми Итоги 2008-2009 уч. год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ауреат Всероссийского конкурса «Зеленая планет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еница 9 А класса Дмитриева Натал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место в городском конкурсе в рамках недели Бианки «Страна Див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еница 11 А класса Ковалева Анастас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итель Миронова З.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Обобщение и трансляция опыта учителями МО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987280" y="1557000"/>
            <a:ext cx="615636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ауреат регионального этапа «Лучший детский тренер страны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ауреат финала Всероссийского конкурса «Мастер педагогического труда по учебным и внеучебным формам физкультурно-оздоровительной и спортивной работы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оминация «специалисты физической культуры общеобразовательных учреждений начального и среднего профессионального образования по учебной работ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rcRect l="0" t="5386" r="3887" b="0"/>
          <a:stretch/>
        </p:blipFill>
        <p:spPr>
          <a:xfrm>
            <a:off x="179280" y="1484280"/>
            <a:ext cx="2665440" cy="29019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0" y="4581360"/>
            <a:ext cx="352908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аксимова Т.В. учитель физической культуры начальной школ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Обобщение и трансляция опыта учителями МО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771280" y="2349000"/>
            <a:ext cx="54723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иронова З.В. -учитель ИЗО, эстетики и черч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322720" cy="31669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324000" y="465300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обедитель Всероссийского конкурса «Лучшие учителя школы Российской Федерации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ачественный состав М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08000" y="1844640"/>
            <a:ext cx="8854560" cy="3846240"/>
            <a:chOff x="108000" y="1844640"/>
            <a:chExt cx="8854560" cy="3846240"/>
          </a:xfrm>
        </p:grpSpPr>
        <p:sp>
          <p:nvSpPr>
            <p:cNvPr id="214" name=""/>
            <p:cNvSpPr/>
            <p:nvPr/>
          </p:nvSpPr>
          <p:spPr>
            <a:xfrm>
              <a:off x="7944120" y="5050080"/>
              <a:ext cx="101700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109280" y="5050080"/>
              <a:ext cx="83448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13960" y="5050080"/>
              <a:ext cx="89532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82640" y="5050080"/>
              <a:ext cx="93132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438440" y="5050080"/>
              <a:ext cx="84420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915280" y="5050080"/>
              <a:ext cx="152316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44120" y="3394080"/>
              <a:ext cx="101700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ыше 2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109280" y="3394080"/>
              <a:ext cx="83448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0-2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213960" y="3394080"/>
              <a:ext cx="89532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5-2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282640" y="3394080"/>
              <a:ext cx="93132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0-1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38440" y="3394080"/>
              <a:ext cx="84420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-1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915280" y="3394080"/>
              <a:ext cx="152316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До 3-х ле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75640" y="3394080"/>
              <a:ext cx="143928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7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8000" y="3394080"/>
              <a:ext cx="136764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7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915280" y="1844640"/>
              <a:ext cx="604584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едагогический стаж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75640" y="1844640"/>
              <a:ext cx="143928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бразование (высшее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8000" y="1844640"/>
              <a:ext cx="136764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Количество учителе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8000" y="1844640"/>
              <a:ext cx="885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08000" y="5689440"/>
              <a:ext cx="885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08000" y="1844640"/>
              <a:ext cx="1080" cy="38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961480" y="1844640"/>
              <a:ext cx="1080" cy="38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08000" y="3394080"/>
              <a:ext cx="885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475640" y="1844640"/>
              <a:ext cx="1080" cy="38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15280" y="1844640"/>
              <a:ext cx="1080" cy="38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15280" y="5050080"/>
              <a:ext cx="604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38440" y="3394080"/>
              <a:ext cx="1080" cy="22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82640" y="3394080"/>
              <a:ext cx="1080" cy="22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13960" y="3394080"/>
              <a:ext cx="1440" cy="22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109280" y="3394080"/>
              <a:ext cx="1080" cy="22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944120" y="3394080"/>
              <a:ext cx="1080" cy="22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0" y="42037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Цели работы МО на 2008-2009 учебный го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29600" cy="39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овышение качества образовательного процесс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Развитие творческих способностей учащихся с использованием новых образовательных технологий в процессе обуч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Задачи МО на 2008-2009 учебный го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должить работу по реализации программы развития шко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должить работу по укреплению здоровья учащихся, содействовать их нормальному физическому развит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нимать активное участие в мероприятиях, посвященных юбилею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Работа с одаренными детьми Итоги 2008-2009 уч. год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место в городском легкоатлетическом кроссе (1-4 класс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место в городских соревнованиях «Веселые старты» (1-4 класс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Учитель Максимова Т.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Работа с одаренными детьми Итоги 2008-2009 уч. год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5508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место в городской олимпиаде по технолог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место в областной олимпиаде по технолог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еница 8 А класса Лукьянова     Кс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итель Петрякова Н.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580000" y="2060640"/>
            <a:ext cx="324000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298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Работа с одаренными детьми Итоги 2008-2009 уч. год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3860280"/>
            <a:ext cx="7308720" cy="39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место в областном конкурсе научно-исследовательских краеведческих работ учащихся образовательных учреждений «Колокола времен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еник 9 Б класса Петряков Арт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итель Миронова З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1652760" cy="24256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2087640" y="1484280"/>
            <a:ext cx="705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место в городском конкурсе научно-исследовательских краеведческих работ учащихся образовательных учреждений «Колокола времени» целевая программа «Этнография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6804000" y="3716280"/>
            <a:ext cx="202716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Работа с одаренными детьми Итоги 2008-2009 уч. год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71280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есто в областном конкурсе научно-исследовательских краеведческих работ учащихся образовательных учреждений «Колокола времени» целевая программа «Краеведческая олимпиад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08000" y="4365720"/>
            <a:ext cx="1727280" cy="23032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2050920" y="4005360"/>
            <a:ext cx="70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место во Всероссийском конкурсе исследовательских краеведческих работ учащихся «Отечество»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екция «Культурное наследи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еник 9 Б класса Петряков Арт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итель Миронова З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7164360" y="1557360"/>
            <a:ext cx="1728720" cy="23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920" y="298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Работа с одаренными детьми Итоги 2008-2009 уч. год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763280" y="3644640"/>
            <a:ext cx="7380360" cy="38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ауреат премии по поддержке талантливой молодежи, установленной Указом Президента Российской Федер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еник 9 Б класса Петряков Арт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итель Миронова З.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6443640" y="1484280"/>
            <a:ext cx="2521080" cy="19447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08000" y="3933720"/>
            <a:ext cx="1874880" cy="251964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0" y="1268280"/>
            <a:ext cx="6543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ауреат премии мэра Великого Новгорода «За лучшую учебно-исследовательскую (творческую) работу юных историков и краеведов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</cp:lastModifiedBy>
  <dcterms:modified xsi:type="dcterms:W3CDTF">2009-11-15T15:51:04Z</dcterms:modified>
  <cp:revision>1</cp:revision>
  <dc:subject/>
  <dc:title>Методическое объединение учителей физической культуры, технологии, музыки, эстетики и изобразительного искусства</dc:title>
</cp:coreProperties>
</file>