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C1C2D-862D-41E4-A60C-4B81482B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077E-56A9-457B-AEC1-3B9A3157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2353-9BC0-41ED-BB8E-FD831BEA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4DDA-F12C-4541-8503-BB901A85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EA1-BE2B-4929-B687-E292AA94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3CD-80BE-4424-B98A-36342840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7C03-398D-4FD8-AFC3-998C40A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1E9F-6570-40DF-BCF0-2DCBB25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44F3-2721-4F12-9474-9BFDEC47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87CA-AA9A-4B88-9C0B-38B1E9C6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9D24-D496-4DC3-8CC1-5DB3670B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6AAA-0058-41EA-B842-28CD7550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318-850C-42FB-AC0E-9A2A582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C30-7122-4827-8FFB-B40F005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E4E0-895A-4421-A440-6C91047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568E-C459-465D-B8DE-1AE93C5F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67A5-82F5-4557-BFEF-2DBBFE09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6C20-CE07-4F56-BADA-2905D103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F983-4377-4484-BD95-98C4E89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5F9C-FAD3-400F-8A99-26937DCA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D14A-C675-4D96-956D-CFC16E1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F6B2-C080-49A9-A567-03F2FFDC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B96D-086A-4359-8302-3D386BE3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C296-E15D-43FC-8F83-11ECE5A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221-1105-4DED-9DBC-E2881395F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75F-A6A1-4C84-8263-CFDF551A95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964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ae8ba"/>
                </a:solidFill>
                <a:latin typeface="Arial Black"/>
              </a:rPr>
              <a:t>Растровые и векторные графические редакторы</a:t>
            </a:r>
            <a:endParaRPr b="1" lang="en-US" sz="80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859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кторный  редактор можно рассматривать как графический конструктор, который позволяет создавать рисунки из отдельных объект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708280"/>
            <a:ext cx="1944720" cy="12254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653000"/>
            <a:ext cx="21607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51640" y="2060640"/>
            <a:ext cx="1224000" cy="1655640"/>
          </a:xfrm>
          <a:prstGeom prst="can">
            <a:avLst>
              <a:gd name="adj" fmla="val 250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4797360"/>
            <a:ext cx="1440000" cy="1513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 Black"/>
              </a:rPr>
              <a:t>Объекты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46083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ждый графический примитив рисуется в своем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ло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поэтому рисунки состоят из множества слое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133720"/>
            <a:ext cx="1513080" cy="1295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49360"/>
            <a:ext cx="13687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6360" y="3860640"/>
            <a:ext cx="136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3573360"/>
            <a:ext cx="1513080" cy="1295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941720"/>
            <a:ext cx="1512720" cy="1295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157720"/>
            <a:ext cx="1368360" cy="863640"/>
          </a:xfrm>
          <a:prstGeom prst="rect">
            <a:avLst/>
          </a:prstGeom>
          <a:solidFill>
            <a:srgbClr val="ffff99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 Black"/>
              </a:rPr>
              <a:t>Слои объектов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461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каждого объекта (слоя рисунка) можно задать степень прозрачности( от 0 до 100%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2133720"/>
            <a:ext cx="2374920" cy="16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3284640"/>
            <a:ext cx="2374920" cy="1655640"/>
          </a:xfrm>
          <a:prstGeom prst="rect">
            <a:avLst/>
          </a:prstGeom>
          <a:solidFill>
            <a:srgbClr val="00ccff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85080" y="242100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667280" y="2708280"/>
            <a:ext cx="360360" cy="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8800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7%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08720" y="5013360"/>
            <a:ext cx="0" cy="50328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 Black"/>
              </a:rPr>
              <a:t>Прозрачность объектов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0" y="1412640"/>
            <a:ext cx="4572000" cy="50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екторном редакторе отдельные  графические примитивы можно преобразовать в единый объект (сгруппировать) или наоборот разбить объект состоящий  из нескольких примитив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1916280"/>
            <a:ext cx="1224000" cy="2809800"/>
            <a:chOff x="539640" y="1916280"/>
            <a:chExt cx="1224000" cy="2809800"/>
          </a:xfrm>
        </p:grpSpPr>
        <p:sp>
          <p:nvSpPr>
            <p:cNvPr id="125" name=""/>
            <p:cNvSpPr/>
            <p:nvPr/>
          </p:nvSpPr>
          <p:spPr>
            <a:xfrm>
              <a:off x="539640" y="1916280"/>
              <a:ext cx="1224000" cy="9363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2852640"/>
              <a:ext cx="1224000" cy="9367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9640" y="3789360"/>
              <a:ext cx="1224000" cy="9367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68360" y="5445000"/>
            <a:ext cx="1224000" cy="936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445000"/>
            <a:ext cx="1224000" cy="936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445000"/>
            <a:ext cx="1224000" cy="93672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 Black"/>
              </a:rPr>
              <a:t>Группировка объектов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43 0.01551 L -0.22448 0.01551 E">
                                      <p:cBhvr>
                                        <p:cTn id="1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140000" y="1413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векторных редакторах можно создавать текстовые обла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8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кстовые области и выноски существуют в рисунке как самостоятельные объекты и поэтому могут легко масштабироваться и перемещатьс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97000"/>
            <a:ext cx="2987640" cy="2087640"/>
          </a:xfrm>
          <a:prstGeom prst="cloudCallout">
            <a:avLst>
              <a:gd name="adj1" fmla="val -45375"/>
              <a:gd name="adj2" fmla="val 7091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Arial Black"/>
              </a:rPr>
              <a:t>Выноски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645000"/>
            <a:ext cx="2664000" cy="129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5445000"/>
            <a:ext cx="1363680" cy="92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171" y="26852"/>
                </a:moveTo>
                <a:lnTo>
                  <a:pt x="-1207" y="2663"/>
                </a:lnTo>
              </a:path>
              <a:path w="21600" h="21600">
                <a:moveTo>
                  <a:pt x="-1207" y="0"/>
                </a:moveTo>
                <a:lnTo>
                  <a:pt x="-1207" y="21600"/>
                </a:lnTo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дп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8:01:08Z</dcterms:created>
  <dc:creator>Юлия</dc:creator>
  <dc:description/>
  <dc:language>en-US</dc:language>
  <cp:lastModifiedBy>Lena</cp:lastModifiedBy>
  <dcterms:modified xsi:type="dcterms:W3CDTF">2009-03-20T20:22:56Z</dcterms:modified>
  <cp:revision>9</cp:revision>
  <dc:subject/>
  <dc:title>Инструменты рисования растровых графических редакторов</dc:title>
</cp:coreProperties>
</file>