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903-FCAE-4E1D-BCA8-71B9C5EB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074-072D-45E3-89AB-B7C66E1D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496-EEBE-4D81-B91B-5A206639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2DC-2CDB-4B6A-AF90-ECFD1DE5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6719-D704-411C-9763-FBB71032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660-6314-40CD-8DDF-526EF3E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820A-3A36-4295-91B9-933FE4C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08E4-04CA-44EA-A586-AA2FE4E2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CF53-778B-4F29-8B20-3B65AD73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4BCB-846F-4C9D-8D4D-BA22B1A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B3C1-67AB-4D91-9CFE-0116093E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CE2-3542-43FE-8690-EC310ED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BAA1-727D-4204-82C8-14F2651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3D5D-7BD9-4BE1-BD04-10BDCAB3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969B-7960-4D2C-BC3B-B1A78BC6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D661-4552-4E1F-BC9C-EAD5A43D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7BF0-B903-4168-939F-EB18E1D3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A7F-23E2-4B88-BA3D-835183D8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0CA-3432-4DC9-8013-BAF1E54E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5AA-7DF9-4D1B-9BDF-90D48B46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8F8-5385-467C-833F-353CC34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430-8B2F-4895-ADC7-8A48FB75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161-8647-463B-8A74-E8AA5F0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221-47BE-42D6-965D-C9D4D7CF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BAE-D6EF-4A55-9F88-F1D281663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F1FB-94C9-43BD-836B-0AFC310E7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981080"/>
            <a:ext cx="84978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7e7ff"/>
                </a:solidFill>
                <a:latin typeface="Arial Black"/>
              </a:rPr>
              <a:t>Файлы </a:t>
            </a:r>
            <a:br>
              <a:rPr sz="5400"/>
            </a:br>
            <a:r>
              <a:rPr b="1" lang="en-US" sz="5400" spc="-1" strike="noStrike">
                <a:solidFill>
                  <a:srgbClr val="b7e7ff"/>
                </a:solidFill>
                <a:latin typeface="Arial Black"/>
              </a:rPr>
              <a:t>и файловая система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9640" y="5589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: Гукова Елена Владимировна, учитель математики и инфор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СОШ №13 Великого Новго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 Black"/>
              </a:rPr>
              <a:t>Многоуровневая иерархическая файловая систем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5400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на диске хранятся сотни и тысячи файлов, то для удобства поиска файлы организуются в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уровневую иерархическую файловую систе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ая имеет «древовидную» структуру (имеет вид перевернутого дерев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многоуровневая иерархическая файловая система"/>
          <p:cNvPicPr/>
          <p:nvPr/>
        </p:nvPicPr>
        <p:blipFill>
          <a:blip r:embed="rId2"/>
          <a:stretch/>
        </p:blipFill>
        <p:spPr>
          <a:xfrm>
            <a:off x="5292720" y="3284640"/>
            <a:ext cx="385128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Путь к файл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8360" y="1557000"/>
            <a:ext cx="3822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того чтобы найти файл в иерархической файловой структуре необходимо указать путь к файлу. В путь к файлу входят записываемые через разделитель "\" логическое имя диска и последовательность имен вложенных друг в друга каталогов, в последнем из которых находится данный нужный фай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6360" y="2133720"/>
            <a:ext cx="518328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667480"/>
            <a:ext cx="3384720" cy="11912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C:\Рефераты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C:\Рефераты\Физика\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C:\Рефераты\Информатика\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Times New Roman"/>
              </a:rPr>
              <a:t>C:\Рисунки\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Полное имя фай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720" y="1989000"/>
            <a:ext cx="4643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ь к файлу вместе с именем файла называют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лным именем фай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6360" y="1906560"/>
            <a:ext cx="4606920" cy="2913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118120"/>
            <a:ext cx="7523280" cy="16185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C:\Рефераты\Физика\Оптические явления.</a:t>
            </a: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C:\Рефераты\Информатика\Интернет.</a:t>
            </a: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C:\Рефераты\Информатика\Компьютерные вирусы.</a:t>
            </a: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C:\Рисунки\Закат.</a:t>
            </a: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Times New Roman"/>
              </a:rPr>
              <a:t>C:\Рисунки\ Зима.</a:t>
            </a: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Пап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перационной систем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место каталогов используется понятие «папк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ап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это объект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редназначенный для объединения файлов и других папок в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папки шире, чем понятие «каталог». В Windows на вершине иерархии папок находится папка Рабочий стол. (Следующий уровень представлен папками Мой компьютер, Корзина и Сетевое окружение (если компьютер подключен к локальной сет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 Black"/>
              </a:rPr>
              <a:t>Иерархии папок Window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7920000" cy="46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Стандартные действия с файл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е действия с файлами, как «создать», «сохранить», «закрыть» можно выполнить только в прикладных программах («Блокнот», «Paint», …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йствия «открыть», «переименовать», «переместить», «копировать», «удалить» можно выполнить в системной сре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Операции с файлами и папкам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пиров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копия файла помещается в другой каталог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мещ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сам файл перемещается в другой каталог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дал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запись о файле удаляется из каталог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ереименов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изменяется имя файл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Что такое файл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программы и данные хранятся в долговременной (внешней) памяти компьютера в виде фай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Фай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это определенное количество информации (программа или данные), имеющее имя и хранящееся в долговременной (внешней) памя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Имя фай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я файла состоит из двух частей, разделенных точкой: собственн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шир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определяющее его тип (программа, данные и т.д.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ственно имя файлу дает пользователь, а тип файла обычно задается программой автоматически при его созда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proba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t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диницы измерения информаци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Длинные имена файл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Разрешается использовать до 255 симво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Разрешается использовать символы национальных алфавитов, в частности русск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Разрешается использовать пробелы и другие ранее запрещенные символы, за исключением следующих девяти: /\:*?"&lt;&gt;|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В имени файла можно использовать несколько точек. Расширением имени считаются все символы, стоящие за последней точ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500040" y="676440"/>
          <a:ext cx="8229600" cy="5921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Тип фай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9b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Исполняемые програм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exe, c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Текстовые фай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txt, rtf, </a:t>
                      </a: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do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Графические фай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bmp</a:t>
                      </a: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gif</a:t>
                      </a: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jpg</a:t>
                      </a: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png</a:t>
                      </a: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p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Web-страниц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htm, ht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Звуковые фай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wav, mp3, midi, kar, og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Видеофайл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avi, mpe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Код (текст) программы на языках программир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d4d4d"/>
                          </a:solidFill>
                          <a:latin typeface="Arial"/>
                          <a:ea typeface="Times New Roman"/>
                        </a:rPr>
                        <a:t>bas, pas, cp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Форматирование диско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того, чтобы на диске можно было хранить файлы, диск должен быть предварительно отформатирова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процессе форматирования диск разбивается на две области: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ласть хранения файлов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атало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 algn="just"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ществуют два различных вида форматирования дисков: полное и быстр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м форматирован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се хранившиеся на диске файлы уничтожаю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ыстрое форматирова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одит лишь очистку каталога диска. Информация, т.е. сами файлы, сохраняется и существует возможность их вос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2520" indent="0" algn="just">
              <a:spcBef>
                <a:spcPts val="799"/>
              </a:spcBef>
              <a:buNone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 Black"/>
              </a:rPr>
              <a:t>Файловая систе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406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каждом носителе информации (гибком, жестком или лазерном диске) может храниться большое количество файлов. Порядок хранения файлов на диске определяется установленной файловой систем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Файловая систе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это система хранения файлов и организации катало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 Black"/>
              </a:rPr>
              <a:t>Одноуровневая файловая систем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91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дисков с небольшим количеством файлов (до нескольких десятков) удобно применять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дноуровневую файловую систем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гда каталог (оглавление диска) представляет собой линейную последовательность имен файлов. Для отыск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айла на диске достаточно указать лишь имя фай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1763640" y="4437000"/>
            <a:ext cx="56167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41:01Z</dcterms:created>
  <dc:creator>Lena</dc:creator>
  <dc:description/>
  <dc:language>en-US</dc:language>
  <cp:lastModifiedBy>Alex</cp:lastModifiedBy>
  <dcterms:modified xsi:type="dcterms:W3CDTF">2009-04-27T14:47:29Z</dcterms:modified>
  <cp:revision>2</cp:revision>
  <dc:subject/>
  <dc:title>Файлы  и файловая система </dc:title>
</cp:coreProperties>
</file>