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3518-7CCD-48BF-A572-2EDAA741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7A32-4415-4523-AEB6-E2FC5B4E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97F7-AA04-4260-B34B-C6D6A05F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F1C4-4D34-481A-A7A9-0E8FF535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44FF-16CB-4A07-9229-BBDBBB8D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753E-0D9C-43BE-BA01-70F518E1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031A-8EA0-412A-BF88-B9CB98E3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CE11-221C-4733-8BE7-90E6D164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8D03-BDE7-4342-B9A7-E0FC23E2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39F7-50DE-49B6-8B5B-2D0B727D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30B8-7C73-4A91-938E-A1EB06D5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51F5-5AFC-4F34-BA82-11EA0C6A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C52C-6161-4F24-A90A-DCFC7CC8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6B8E-8DA9-4007-86B3-9371D84E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BA02-DFA8-4D77-B3DB-4FC6EF5D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4D09-68F1-400C-950C-FD65B7EB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2E17-A589-47C4-A942-E6C75835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0D13-C0DB-4C14-8F2F-947E25A3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FB9A-6D3A-4B92-B732-509780F0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34EA-0E0D-4486-9130-7524A9CD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2848-FA2B-498F-8D1F-5AC539B4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55E1-4D03-4C5C-8408-EB06B6A4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4388-79C8-4345-9288-05EEEE0A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CA25-D701-4716-8BE6-8B708C0C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D03B-65DF-4568-AC18-E24504DCFF9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C84C-F3E9-4E22-9F82-7DB58E2A600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7440" y="216000"/>
            <a:ext cx="8675640" cy="6381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333360"/>
            <a:ext cx="82803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ма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e00"/>
                </a:solidFill>
                <a:latin typeface="Arial"/>
              </a:rPr>
              <a:t>«Ввод информации в память компьютер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19640" y="5589720"/>
            <a:ext cx="482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: Гукова Елена Владимировна, учитель математики и информат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У СОШ №13 Великого Новгоро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684360" y="189000"/>
          <a:ext cx="8064000" cy="6432480"/>
        </p:xfrm>
        <a:graphic>
          <a:graphicData uri="http://schemas.openxmlformats.org/drawingml/2006/table">
            <a:tbl>
              <a:tblPr/>
              <a:tblGrid>
                <a:gridCol w="4677120"/>
                <a:gridCol w="3386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e701"/>
                          </a:solidFill>
                          <a:latin typeface="Tahoma"/>
                        </a:rPr>
                        <a:t>Вид информа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e701"/>
                          </a:solidFill>
                          <a:latin typeface="Tahoma"/>
                        </a:rPr>
                        <a:t>Орган чувст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вуко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ритель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онятель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кусо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актиль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" descr=""/>
          <p:cNvPicPr/>
          <p:nvPr/>
        </p:nvPicPr>
        <p:blipFill>
          <a:blip r:embed="rId1"/>
          <a:srcRect l="56383" t="12366" r="0" b="69650"/>
          <a:stretch/>
        </p:blipFill>
        <p:spPr>
          <a:xfrm>
            <a:off x="6373800" y="657360"/>
            <a:ext cx="1655640" cy="1116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rcRect l="56383" t="30358" r="0" b="52800"/>
          <a:stretch/>
        </p:blipFill>
        <p:spPr>
          <a:xfrm>
            <a:off x="6357960" y="1844640"/>
            <a:ext cx="1671480" cy="1116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rcRect l="57181" t="83878" r="0" b="0"/>
          <a:stretch/>
        </p:blipFill>
        <p:spPr>
          <a:xfrm>
            <a:off x="6315120" y="5481720"/>
            <a:ext cx="1714320" cy="1116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rcRect l="56383" t="48341" r="0" b="34817"/>
          <a:stretch/>
        </p:blipFill>
        <p:spPr>
          <a:xfrm>
            <a:off x="6342120" y="3068640"/>
            <a:ext cx="1671480" cy="1116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rcRect l="56383" t="65887" r="0" b="17271"/>
          <a:stretch/>
        </p:blipFill>
        <p:spPr>
          <a:xfrm>
            <a:off x="6342120" y="4292640"/>
            <a:ext cx="16714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-27000"/>
            <a:ext cx="8642160" cy="64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Числовая информ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2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Текстовая информ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Графическая информ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2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Звуковая информ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Видеоинформ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6443640" y="2708280"/>
            <a:ext cx="1504800" cy="1727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5400000">
            <a:off x="4122720" y="1287360"/>
            <a:ext cx="540000" cy="216000"/>
          </a:xfrm>
          <a:custGeom>
            <a:avLst/>
            <a:gdLst>
              <a:gd name="textAreaLeft" fmla="*/ 67320 w 540000"/>
              <a:gd name="textAreaRight" fmla="*/ 472680 w 540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4122720" y="2582640"/>
            <a:ext cx="539640" cy="216000"/>
          </a:xfrm>
          <a:custGeom>
            <a:avLst/>
            <a:gdLst>
              <a:gd name="textAreaLeft" fmla="*/ 67320 w 539640"/>
              <a:gd name="textAreaRight" fmla="*/ 472320 w 539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4122720" y="3877920"/>
            <a:ext cx="539640" cy="216000"/>
          </a:xfrm>
          <a:custGeom>
            <a:avLst/>
            <a:gdLst>
              <a:gd name="textAreaLeft" fmla="*/ 67320 w 539640"/>
              <a:gd name="textAreaRight" fmla="*/ 472320 w 539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4122720" y="5246640"/>
            <a:ext cx="540000" cy="216000"/>
          </a:xfrm>
          <a:custGeom>
            <a:avLst/>
            <a:gdLst>
              <a:gd name="textAreaLeft" fmla="*/ 67320 w 540000"/>
              <a:gd name="textAreaRight" fmla="*/ 472680 w 540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580000" y="189000"/>
            <a:ext cx="2882880" cy="8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60"/>
                            </p:stCondLst>
                            <p:childTnLst>
                              <p:par>
                                <p:cTn id="5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76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80"/>
                            </p:stCondLst>
                            <p:childTnLst>
                              <p:par>
                                <p:cTn id="7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88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6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0920" y="549360"/>
            <a:ext cx="5688000" cy="2089080"/>
          </a:xfrm>
          <a:prstGeom prst="wedgeRoundRectCallout">
            <a:avLst>
              <a:gd name="adj1" fmla="val -49583"/>
              <a:gd name="adj2" fmla="val 33435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e00"/>
                </a:solidFill>
                <a:latin typeface="Arial"/>
              </a:rPr>
              <a:t>Для ввода в компьютер звуковой информации служа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ИКРОФО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8000" y="3213000"/>
            <a:ext cx="7056720" cy="3384720"/>
          </a:xfrm>
          <a:prstGeom prst="wedgeRoundRectCallout">
            <a:avLst>
              <a:gd name="adj1" fmla="val 23837"/>
              <a:gd name="adj2" fmla="val -40902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e00"/>
                </a:solidFill>
                <a:latin typeface="Arial"/>
              </a:rPr>
              <a:t>Для ввода сложных графических изображений, фотографий и видеофильмов используются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КАНЕРЫ, ЦИФРОВЫЕ ФОТОАППАРАТЫ </a:t>
            </a:r>
            <a:r>
              <a:rPr b="1" lang="en-US" sz="3200" spc="-1" strike="noStrike">
                <a:solidFill>
                  <a:srgbClr val="fffe00"/>
                </a:solidFill>
                <a:latin typeface="Arial"/>
              </a:rPr>
              <a:t>и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ИДЕОКАМЕ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8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4270320"/>
            <a:ext cx="5184720" cy="2587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16000" y="260280"/>
            <a:ext cx="7777080" cy="3673440"/>
          </a:xfrm>
          <a:prstGeom prst="wedgeRoundRectCallout">
            <a:avLst>
              <a:gd name="adj1" fmla="val -29587"/>
              <a:gd name="adj2" fmla="val -23638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e00"/>
                </a:solidFill>
                <a:latin typeface="Arial"/>
              </a:rPr>
              <a:t>Важнейшим устройством ввода информации в память компьютера является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ЛАВИА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Они различаются формой, размером и количеством командных кноп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16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9280" y="549360"/>
            <a:ext cx="8640720" cy="5688000"/>
          </a:xfrm>
          <a:prstGeom prst="wedgeRoundRectCallout">
            <a:avLst>
              <a:gd name="adj1" fmla="val 35412"/>
              <a:gd name="adj2" fmla="val -33449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руппы клавиш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edbf0"/>
                </a:solidFill>
                <a:latin typeface="Arial"/>
              </a:rPr>
              <a:t>Функциональные клавиш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Arial"/>
              </a:rPr>
              <a:t>Символьные (алфавитно-цифровые) клавиш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00"/>
                </a:solidFill>
                <a:latin typeface="Arial"/>
              </a:rPr>
              <a:t>Клавиши управления курсоро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cc"/>
                </a:solidFill>
                <a:latin typeface="Arial"/>
              </a:rPr>
              <a:t>Специальные клавиш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e00"/>
                </a:solidFill>
                <a:latin typeface="Arial"/>
              </a:rPr>
              <a:t>Дополнительная клавиатур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395280" y="260280"/>
          <a:ext cx="8353440" cy="6408720"/>
        </p:xfrm>
        <a:graphic>
          <a:graphicData uri="http://schemas.openxmlformats.org/drawingml/2006/table">
            <a:tbl>
              <a:tblPr/>
              <a:tblGrid>
                <a:gridCol w="2033640"/>
                <a:gridCol w="2108160"/>
                <a:gridCol w="2104920"/>
                <a:gridCol w="2106720"/>
              </a:tblGrid>
              <a:tr h="153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99cc"/>
                          </a:solidFill>
                          <a:latin typeface="Times New Roman"/>
                          <a:ea typeface="Times New Roman"/>
                        </a:rPr>
                        <a:t>Название клавиши на английском язык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99cc"/>
                          </a:solidFill>
                          <a:latin typeface="Times New Roman"/>
                          <a:ea typeface="Times New Roman"/>
                        </a:rPr>
                        <a:t>Произношение на русском язык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99cc"/>
                          </a:solidFill>
                          <a:latin typeface="Times New Roman"/>
                          <a:ea typeface="Times New Roman"/>
                        </a:rPr>
                        <a:t>Название клавиши на английском язык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99cc"/>
                          </a:solidFill>
                          <a:latin typeface="Times New Roman"/>
                          <a:ea typeface="Times New Roman"/>
                        </a:rPr>
                        <a:t>Произношение на русском язык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e701"/>
                          </a:solidFill>
                          <a:latin typeface="Times New Roman"/>
                          <a:ea typeface="Times New Roman"/>
                        </a:rPr>
                        <a:t>Es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эскейп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e701"/>
                          </a:solidFill>
                          <a:latin typeface="Times New Roman"/>
                          <a:ea typeface="Times New Roman"/>
                        </a:rPr>
                        <a:t>Dele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делит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e701"/>
                          </a:solidFill>
                          <a:latin typeface="Times New Roman"/>
                          <a:ea typeface="Times New Roman"/>
                        </a:rPr>
                        <a:t>En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энтер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e701"/>
                          </a:solidFill>
                          <a:latin typeface="Times New Roman"/>
                          <a:ea typeface="Times New Roman"/>
                        </a:rPr>
                        <a:t>Inse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инсэрт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e701"/>
                          </a:solidFill>
                          <a:latin typeface="Times New Roman"/>
                          <a:ea typeface="Times New Roman"/>
                        </a:rPr>
                        <a:t>Shif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шифт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e701"/>
                          </a:solidFill>
                          <a:latin typeface="Times New Roman"/>
                          <a:ea typeface="Times New Roman"/>
                        </a:rPr>
                        <a:t>Ho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хоум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e701"/>
                          </a:solidFill>
                          <a:latin typeface="Times New Roman"/>
                          <a:ea typeface="Times New Roman"/>
                        </a:rPr>
                        <a:t>CapsL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капс лок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e701"/>
                          </a:solidFill>
                          <a:latin typeface="Times New Roman"/>
                          <a:ea typeface="Times New Roman"/>
                        </a:rPr>
                        <a:t>E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энд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e701"/>
                          </a:solidFill>
                          <a:latin typeface="Times New Roman"/>
                          <a:ea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контрл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e701"/>
                          </a:solidFill>
                          <a:latin typeface="Times New Roman"/>
                          <a:ea typeface="Times New Roman"/>
                        </a:rPr>
                        <a:t>PageU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пейдж ап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e701"/>
                          </a:solidFill>
                          <a:latin typeface="Times New Roman"/>
                          <a:ea typeface="Times New Roman"/>
                        </a:rPr>
                        <a:t>A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альт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e701"/>
                          </a:solidFill>
                          <a:latin typeface="Times New Roman"/>
                          <a:ea typeface="Times New Roman"/>
                        </a:rPr>
                        <a:t>Page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пейдж даун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e701"/>
                          </a:solidFill>
                          <a:latin typeface="Times New Roman"/>
                          <a:ea typeface="Times New Roman"/>
                        </a:rPr>
                        <a:t>Backsp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бэк спейс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e701"/>
                          </a:solidFill>
                          <a:latin typeface="Times New Roman"/>
                          <a:ea typeface="Times New Roman"/>
                        </a:rPr>
                        <a:t>NumL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нам лок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333360"/>
            <a:ext cx="849780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КЛАВИАТУР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это электронное устройство, содержащее внутри микросхемы и другие дета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Поэтому обращаться с ней следует бережно и аккуратно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льзя допускать загрязнения клавиатуры пылью, мелким мусором, металлическими скрепками и т.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Нет  нужды сильно стучать по клавишам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вижения ваших пальцев должны быть легкими, короткими и отрывисты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13:26Z</dcterms:created>
  <dc:creator>1</dc:creator>
  <dc:description/>
  <dc:language>en-US</dc:language>
  <cp:lastModifiedBy>Alex</cp:lastModifiedBy>
  <dcterms:modified xsi:type="dcterms:W3CDTF">2009-04-27T14:46:08Z</dcterms:modified>
  <cp:revision>227</cp:revision>
  <dc:subject/>
  <dc:title>Слайд 1</dc:title>
</cp:coreProperties>
</file>