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76C-8932-492F-A3FE-BAF10F0E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47D-DE2A-4745-B9EA-1B57FCEC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E07-83C1-407A-AADB-3D488729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7A5-AC5A-49A1-BD51-B70BBC23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E9ED-EEC8-4FE3-B62E-9D68C26E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8AAD-4517-46D7-A93F-C2666DC5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F431-7F59-47FF-8CFB-7C0DC5B1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B0EE-AC82-4E96-A586-ED36039B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4B18-E6C5-4223-9D6E-BB4FA959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B3C7-5BDA-4207-BEBB-977B0106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90B5-29B1-4049-BF2B-611248CA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C40-0B57-4322-A735-CF3C7650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7376-67BC-40D5-B0AC-C39618B4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1AEA-9130-4318-A03F-F4B7A0A3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2A08-A975-4B52-A0E8-4AC1A80F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81E6-B000-4AC6-AD94-3FE0C18D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2F1C-6F21-492E-88A7-9EE7BCE6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B34-B55A-4DEB-B0AE-34D11F34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60F-D87F-4471-8A3C-BE76E8CB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7E8-2E93-4993-A8AF-969FBC05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5CA-4163-4905-8A69-46D332AE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556-5439-4F60-B34C-ED5964DB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21D-C974-42D1-8A34-7E132296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D1E-B19C-4EF6-9504-E9E328C4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EA9F-9155-4283-83FD-420D78C4F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5986-4FC0-420F-8CB9-46BDA424D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0920" y="1916280"/>
            <a:ext cx="82072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c1c1c"/>
                </a:solidFill>
                <a:latin typeface="Arial Black"/>
              </a:rPr>
              <a:t>Графический интерфей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правляющие элемен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666633"/>
                </a:solidFill>
                <a:uFillTx/>
                <a:latin typeface="Arial"/>
                <a:hlinkClick r:id="rId1" action="ppaction://hlinksldjump"/>
              </a:rPr>
              <a:t>вкл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666633"/>
                </a:solidFill>
                <a:uFillTx/>
                <a:latin typeface="Arial"/>
                <a:hlinkClick r:id="rId2" action="ppaction://hlinksldjump"/>
              </a:rPr>
              <a:t>спи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666633"/>
                </a:solidFill>
                <a:uFillTx/>
                <a:latin typeface="Arial"/>
                <a:hlinkClick r:id="rId3" action="ppaction://hlinksldjump"/>
              </a:rPr>
              <a:t>счетч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лаж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мандные кноп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еключ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кстовые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зу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Вкладки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иалоговые панели могут включать в себя несколько страниц, которые называются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кладками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Переключение между вкладками осуществляется щелчком мышью на их назва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Списки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исок представляет собой набор предлагаемых на выбор значений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скрывающийся список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глядит как текстовое поле, снабженное кнопкой с направленной вниз стрелкой. Раскрытие списка осуществляется с помощью щелчка мыш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Счетчики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четчик представляет собой пару стрелок, которые позволяют увеличивать или уменьшать значение в связанном с ним п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Флажки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лажки обеспечивают присваивание каким-либо параметрам определенных значений и могут располагаться как группами, так и поодиночке. Флажок имеет форму квадратика; когда флажок установлен, в нем присутствует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лочк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Установка флажков производится с помощью щелчка мыш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Командные кнопки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жати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а кнопку (щелчок на ней мышью) обеспечивает выполнение того или иного действия, а надпись на кнопке поясняет назначение кноп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Переключатели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еключатель служит для выбора одного из взаимоисключающих вариантов, варианты выбора представлены в форме маленьких белых кружков. Выбранные вариант обозначается кружком с точкой внутри. Выбор варианта производится с помощью щелчка мыш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Текстовые поля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кстовое поле называется иногда полем редактирования и позволяет ввести какую-либо текстовую информа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Ползунки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зунок позволяет плавно изменять значение какого-либо парамет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Контекстные меню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йлы, папки и диски являются объектами, которые имеют определенные свойства и над которыми могут проводиться определенные операции. Ознакомиться со свойствами объекта, а также выполнить над ним разрешенные операции можно с помощью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текстного ме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Для вызова контекстного меню необходимо осуществить щелчок правой кнопкой мыши на значке объ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Графический интерфейс Windows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фический интерфейс позволяет осуществлять взаимодействие человека с компьютером в форме диалога с использованием окон, меню и элементов управления (диалоговых панелей, кнопок и так дале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4508640"/>
            <a:ext cx="2843280" cy="2415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427640" y="5013360"/>
            <a:ext cx="331308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Элементы окн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чая обла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внутренняя часть окн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держит вложенные папки или окна док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ниц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рамка, ограничивающая окно с четыре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торон. Размеры окна можно изменять, перемещая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аницу мыш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голов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строка непосредственно под верхней границей окна, содержащая название ок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чок системного мен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кнопка слева в строке заголовка открывает меню перемещения и изменения размеров ок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ока мен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располагается непосредственно под заголовком, содержит пункты меню, обеспечивает доступ к команд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нель инструмен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располагается под строкой меню, представляет собой набор кнопок, обеспечивает быстрый доступ к некоторым команд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нопки Свернуть, Развернуть/Восстановить, Закры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расположены в верхней правой части ок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осы прокрутк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Если текст или картинка полностью не помещается в окне программы, то для ее просмотра снизу или справа появляются полосы прокрутки, которые можно двигать, открывая участки, не помещающиеся на экр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Типы о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кна папок (в нем отображаются значки и имена вложенных папок и фай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кна приложений (оно открывается после запуска программы с помощью главного меню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кна документов (они предназначены для работы с документами 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иву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нутри окна приложени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 Black"/>
              </a:rPr>
              <a:t>Элементы графического интерфейса Windows: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чий  стол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вание «Рабочий стол» подобрано удачно. На нем, как и на обычном рабочем столе расположены различные программы и инструменты, представленные в виде значков, или ико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чки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чками в Windows обозначаются программы, документы. Запуск производится двойным щелчком кнопки мыши по значку. Программа может быть расположена непосредственно на Рабочем столе, а может быть скрыта глубоко на диске, но и в этом случае представлена на Рабочем столе своим образом – ярлы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рлыки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рлык программы – это не сама программа, а только ее образ, указание на то место на диске, где она находится. Двойной щелчок по ярлыку также вызывает запуск программы. Ярлыки от значков отличаются наличием небольшой стрелочки внизу сл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нель задач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полагается в нижней части экрана. На ней находятся: кнопка Пуск, кнопки открытых окон, индикаторы и ча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но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но – один из главных элементов интерфейса Windows. Окно – это обрамленная часть экрана, в которой отображается приложение, документ или сообщ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 Black"/>
              </a:rPr>
              <a:t>Рабочий стол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6348240" cy="5589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372360" y="1268280"/>
            <a:ext cx="277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 входа в систему вы увидите красочно оформленный рабочий стол. На нем можно расположить в удобном порядке значки, обеспечивающие доступ к ресурсам компьютера, локальной сети и к Интерн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Значки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 программы, и документы обозначаются значками-иконками. Щелкнув по любому из них, вы можете запустить нужную вам программу и тут же открыть в ней докумен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8675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Ярлыки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рлыки указывают на файл, находящийся в другом месте. Эти значки отличаются от обычных наличием маленькой черной стрелочки в левом нижнем угл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4365720"/>
            <a:ext cx="68421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Панель задач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анель задач имеет вид полосы, которая по умолчанию располагается вдоль нижней границы экрана. Она содержит кнопку «Пуск», кнопки выполняемых задач и открытых папок и другие пане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6524640"/>
          <a:ext cx="914400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24640"/>
                    <a:ext cx="91440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24000" y="4508640"/>
            <a:ext cx="158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9632"/>
                </a:solidFill>
                <a:latin typeface="Times New Roman"/>
              </a:rPr>
              <a:t>Кнопка «Пус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458136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Times New Roman"/>
              </a:rPr>
              <a:t>Панель быстрого</a:t>
            </a:r>
            <a:br>
              <a:rPr sz="1800"/>
            </a:br>
            <a:r>
              <a:rPr b="1" lang="en-US" sz="1800" spc="-1" strike="noStrike">
                <a:solidFill>
                  <a:srgbClr val="4d4d4d"/>
                </a:solidFill>
                <a:latin typeface="Times New Roman"/>
              </a:rPr>
              <a:t> запу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39640" y="4797360"/>
            <a:ext cx="503280" cy="1728720"/>
          </a:xfrm>
          <a:prstGeom prst="line">
            <a:avLst/>
          </a:prstGeom>
          <a:ln w="9360">
            <a:solidFill>
              <a:srgbClr val="4096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187280" y="4869000"/>
            <a:ext cx="1368720" cy="165564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59280" y="5300640"/>
            <a:ext cx="158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9800"/>
                </a:solidFill>
                <a:latin typeface="Times New Roman"/>
              </a:rPr>
              <a:t>Кнопки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123640" y="5805360"/>
            <a:ext cx="1368360" cy="719280"/>
          </a:xfrm>
          <a:prstGeom prst="line">
            <a:avLst/>
          </a:prstGeom>
          <a:ln w="9360">
            <a:solidFill>
              <a:srgbClr val="9c9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131640" y="5805360"/>
            <a:ext cx="360360" cy="719280"/>
          </a:xfrm>
          <a:prstGeom prst="line">
            <a:avLst/>
          </a:prstGeom>
          <a:ln w="9360">
            <a:solidFill>
              <a:srgbClr val="9c9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5805360"/>
            <a:ext cx="503280" cy="719280"/>
          </a:xfrm>
          <a:prstGeom prst="line">
            <a:avLst/>
          </a:prstGeom>
          <a:ln w="9360">
            <a:solidFill>
              <a:srgbClr val="9c9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92360" y="5805360"/>
            <a:ext cx="1656000" cy="719280"/>
          </a:xfrm>
          <a:prstGeom prst="line">
            <a:avLst/>
          </a:prstGeom>
          <a:ln w="9360">
            <a:solidFill>
              <a:srgbClr val="9c9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92360" y="5805360"/>
            <a:ext cx="3240360" cy="648000"/>
          </a:xfrm>
          <a:prstGeom prst="line">
            <a:avLst/>
          </a:prstGeom>
          <a:ln w="9360">
            <a:solidFill>
              <a:srgbClr val="9c9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80000" y="5373720"/>
            <a:ext cx="15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Times New Roman"/>
              </a:rPr>
              <a:t>Языковая</a:t>
            </a:r>
            <a:br>
              <a:rPr sz="1800"/>
            </a:br>
            <a:r>
              <a:rPr b="1" lang="en-US" sz="1800" spc="-1" strike="noStrike">
                <a:solidFill>
                  <a:srgbClr val="cc66ff"/>
                </a:solidFill>
                <a:latin typeface="Times New Roman"/>
              </a:rPr>
              <a:t>пан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77080" y="5661000"/>
            <a:ext cx="1440000" cy="863640"/>
          </a:xfrm>
          <a:prstGeom prst="line">
            <a:avLst/>
          </a:prstGeom>
          <a:ln w="9360">
            <a:solidFill>
              <a:srgbClr val="cc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40360" y="458136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Область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уведомлен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20000" y="5084640"/>
            <a:ext cx="1584360" cy="15130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08720" y="4581360"/>
            <a:ext cx="15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Times New Roman"/>
              </a:rPr>
              <a:t>Цифровые</a:t>
            </a:r>
            <a:br>
              <a:rPr sz="1800"/>
            </a:br>
            <a:r>
              <a:rPr b="1" lang="en-US" sz="1800" spc="-1" strike="noStrike">
                <a:solidFill>
                  <a:srgbClr val="ff7c80"/>
                </a:solidFill>
                <a:latin typeface="Times New Roman"/>
              </a:rPr>
              <a:t>час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172360" y="5013360"/>
            <a:ext cx="649440" cy="151272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Кнопка Пуск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348000" cy="5040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419640" y="1413000"/>
            <a:ext cx="5724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элементом Панели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 располагается в левом нижнем углу эк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чком на этой кнопке откр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лавное мен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ощный инструмент управления, работая с которым можно сделать абсолютно все, что только можно сделать в систе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особое назначение кнопк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076720" y="5229360"/>
            <a:ext cx="288000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 Black"/>
              </a:rPr>
              <a:t>Диалоговые панели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алоговые панели используются для настройки параметров работы операционной системы и прилож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9:58:46Z</dcterms:created>
  <dc:creator>Lena</dc:creator>
  <dc:description/>
  <dc:language>en-US</dc:language>
  <cp:lastModifiedBy>Lena</cp:lastModifiedBy>
  <dcterms:modified xsi:type="dcterms:W3CDTF">2009-03-20T20:03:50Z</dcterms:modified>
  <cp:revision>6</cp:revision>
  <dc:subject/>
  <dc:title>Слайд 1</dc:title>
</cp:coreProperties>
</file>