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A84B-B3F8-445B-BA7D-768E90F4C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DA7D-4434-4F4B-B103-4F6B6952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1E35-98B7-43E1-9939-D5517C24A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2786-BFFA-45B6-BB01-1322D7130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AE9F-6EE8-40E9-8749-07355C3DF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BCA2-3DF8-4F38-A1D1-1C1DED45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DB02-56B9-4E8B-8EC1-557D3EA3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B55E-DDB1-437C-A4ED-6FB4C7A8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13B8-1C16-4D0D-B417-A30175E9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00AC-B599-47C5-AEC2-56AD0F89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197D-528C-4447-80F0-0538369A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7B42-7A06-4A71-A4F6-6258BC1B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48408-4B9D-408E-9256-B24202EF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8599-43D3-4427-8230-DFE22C3E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E3D4-39F7-4DDE-8F40-188890CC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5F5D0-8C67-476E-A845-6E3A8DDCA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6644-D71E-4245-ACFE-C3D863836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5A2D-2ABD-49FF-965E-77ACA1CB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2313-D519-4D18-8588-5432DE1B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A56A-7D20-476E-A6B0-B2BD4F20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2457-53AC-4106-B4C8-444B6A18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E7A7-1CEB-4CE5-B9CE-648DD220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9B85-A7ED-4F25-8D26-1D2D56AC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CE33-BDA9-415B-85D2-9E468ED6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6CEF-21A4-4884-8A18-57384771D9E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1C47-493B-433C-92B8-402BA6E311F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0066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Black"/>
              </a:rPr>
              <a:t>Разветвляющиеся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Arial Black"/>
              </a:rPr>
              <a:t> алгоритмы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700"/>
                            </p:stCondLst>
                            <p:childTnLst>
                              <p:par>
                                <p:cTn id="11" nodeType="afterEffect" fill="hold" presetClass="emph" presetID="22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Clr clrSpc="hsl" dir="cw">
                                      <p:cBhvr>
                                        <p:cTn id="1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"/>
          <p:cNvGrpSpPr/>
          <p:nvPr/>
        </p:nvGrpSpPr>
        <p:grpSpPr>
          <a:xfrm>
            <a:off x="755640" y="549360"/>
            <a:ext cx="8064360" cy="5470560"/>
            <a:chOff x="755640" y="549360"/>
            <a:chExt cx="8064360" cy="5470560"/>
          </a:xfrm>
        </p:grpSpPr>
        <p:grpSp>
          <p:nvGrpSpPr>
            <p:cNvPr id="329" name=""/>
            <p:cNvGrpSpPr/>
            <p:nvPr/>
          </p:nvGrpSpPr>
          <p:grpSpPr>
            <a:xfrm>
              <a:off x="2340000" y="1268640"/>
              <a:ext cx="2447640" cy="503280"/>
              <a:chOff x="2340000" y="1268640"/>
              <a:chExt cx="2447640" cy="503280"/>
            </a:xfrm>
          </p:grpSpPr>
          <p:sp>
            <p:nvSpPr>
              <p:cNvPr id="330" name=""/>
              <p:cNvSpPr/>
              <p:nvPr/>
            </p:nvSpPr>
            <p:spPr>
              <a:xfrm>
                <a:off x="2340000" y="1268640"/>
                <a:ext cx="2447640" cy="503280"/>
              </a:xfrm>
              <a:prstGeom prst="flowChartInputOutput">
                <a:avLst/>
              </a:prstGeom>
              <a:solidFill>
                <a:srgbClr val="ffffcc"/>
              </a:solidFill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561760" y="1340280"/>
                <a:ext cx="186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ВВОД: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2555640" y="549360"/>
              <a:ext cx="2232000" cy="431640"/>
              <a:chOff x="2555640" y="549360"/>
              <a:chExt cx="2232000" cy="431640"/>
            </a:xfrm>
          </p:grpSpPr>
          <p:sp>
            <p:nvSpPr>
              <p:cNvPr id="333" name=""/>
              <p:cNvSpPr/>
              <p:nvPr/>
            </p:nvSpPr>
            <p:spPr>
              <a:xfrm>
                <a:off x="2555640" y="549360"/>
                <a:ext cx="2232000" cy="431640"/>
              </a:xfrm>
              <a:prstGeom prst="flowChartTerminator">
                <a:avLst/>
              </a:prstGeom>
              <a:solidFill>
                <a:srgbClr val="ffffcc"/>
              </a:solidFill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700000" y="549360"/>
                <a:ext cx="1871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НАЧАЛО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2411280" y="5588280"/>
              <a:ext cx="2232000" cy="431640"/>
              <a:chOff x="2411280" y="5588280"/>
              <a:chExt cx="2232000" cy="431640"/>
            </a:xfrm>
          </p:grpSpPr>
          <p:sp>
            <p:nvSpPr>
              <p:cNvPr id="336" name=""/>
              <p:cNvSpPr/>
              <p:nvPr/>
            </p:nvSpPr>
            <p:spPr>
              <a:xfrm>
                <a:off x="2411280" y="5588280"/>
                <a:ext cx="2232000" cy="431640"/>
              </a:xfrm>
              <a:prstGeom prst="flowChartTerminator">
                <a:avLst/>
              </a:prstGeom>
              <a:solidFill>
                <a:srgbClr val="ffffcc"/>
              </a:solidFill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698560" y="5588280"/>
                <a:ext cx="172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КОНЕЦ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2340000" y="4724640"/>
              <a:ext cx="2519280" cy="576000"/>
              <a:chOff x="2340000" y="4724640"/>
              <a:chExt cx="2519280" cy="576000"/>
            </a:xfrm>
          </p:grpSpPr>
          <p:sp>
            <p:nvSpPr>
              <p:cNvPr id="339" name=""/>
              <p:cNvSpPr/>
              <p:nvPr/>
            </p:nvSpPr>
            <p:spPr>
              <a:xfrm>
                <a:off x="2340000" y="4795920"/>
                <a:ext cx="2519280" cy="504720"/>
              </a:xfrm>
              <a:prstGeom prst="flowChartInputOutput">
                <a:avLst/>
              </a:prstGeom>
              <a:solidFill>
                <a:srgbClr val="ffffcc"/>
              </a:solidFill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759760" y="4724640"/>
                <a:ext cx="175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ВЫВОД:</a:t>
                </a:r>
                <a:r>
                  <a:rPr b="1" lang="ru-RU" sz="2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 flipH="1">
              <a:off x="3635280" y="981000"/>
              <a:ext cx="1440" cy="2876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635280" y="1773360"/>
              <a:ext cx="1440" cy="2872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635280" y="4510080"/>
              <a:ext cx="1440" cy="2872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636720" y="5300640"/>
              <a:ext cx="0" cy="2876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755640" y="2060640"/>
              <a:ext cx="8064360" cy="2449440"/>
              <a:chOff x="755640" y="2060640"/>
              <a:chExt cx="8064360" cy="2449440"/>
            </a:xfrm>
          </p:grpSpPr>
          <p:sp>
            <p:nvSpPr>
              <p:cNvPr id="346" name=""/>
              <p:cNvSpPr/>
              <p:nvPr/>
            </p:nvSpPr>
            <p:spPr>
              <a:xfrm>
                <a:off x="3635280" y="4078440"/>
                <a:ext cx="0" cy="216000"/>
              </a:xfrm>
              <a:prstGeom prst="line">
                <a:avLst/>
              </a:prstGeom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7" name=""/>
              <p:cNvGrpSpPr/>
              <p:nvPr/>
            </p:nvGrpSpPr>
            <p:grpSpPr>
              <a:xfrm>
                <a:off x="755640" y="2060640"/>
                <a:ext cx="8064360" cy="2449440"/>
                <a:chOff x="755640" y="2060640"/>
                <a:chExt cx="8064360" cy="244944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7596000" y="4076640"/>
                  <a:ext cx="0" cy="21600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49" name=""/>
                <p:cNvGrpSpPr/>
                <p:nvPr/>
              </p:nvGrpSpPr>
              <p:grpSpPr>
                <a:xfrm>
                  <a:off x="1834920" y="2060640"/>
                  <a:ext cx="720720" cy="720720"/>
                  <a:chOff x="1834920" y="2060640"/>
                  <a:chExt cx="720720" cy="72072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1834920" y="2060640"/>
                    <a:ext cx="576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ДА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 flipH="1">
                    <a:off x="1834920" y="2421000"/>
                    <a:ext cx="720720" cy="0"/>
                  </a:xfrm>
                  <a:prstGeom prst="line">
                    <a:avLst/>
                  </a:prstGeom>
                  <a:ln w="2844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1834920" y="2421000"/>
                    <a:ext cx="0" cy="360360"/>
                  </a:xfrm>
                  <a:prstGeom prst="line">
                    <a:avLst/>
                  </a:prstGeom>
                  <a:ln w="28440">
                    <a:solidFill>
                      <a:srgbClr val="66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4714560" y="2060640"/>
                  <a:ext cx="936720" cy="720720"/>
                  <a:chOff x="4714560" y="2060640"/>
                  <a:chExt cx="936720" cy="72072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4932360" y="2060640"/>
                    <a:ext cx="7189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НЕТ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flipH="1">
                    <a:off x="4714560" y="2421000"/>
                    <a:ext cx="936360" cy="0"/>
                  </a:xfrm>
                  <a:prstGeom prst="line">
                    <a:avLst/>
                  </a:prstGeom>
                  <a:ln w="2844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5651280" y="2421000"/>
                    <a:ext cx="0" cy="360360"/>
                  </a:xfrm>
                  <a:prstGeom prst="line">
                    <a:avLst/>
                  </a:prstGeom>
                  <a:ln w="28440">
                    <a:solidFill>
                      <a:srgbClr val="66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7" name=""/>
                <p:cNvSpPr/>
                <p:nvPr/>
              </p:nvSpPr>
              <p:spPr>
                <a:xfrm>
                  <a:off x="3635280" y="4292640"/>
                  <a:ext cx="3960720" cy="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58" name=""/>
                <p:cNvGrpSpPr/>
                <p:nvPr/>
              </p:nvGrpSpPr>
              <p:grpSpPr>
                <a:xfrm>
                  <a:off x="755640" y="2781360"/>
                  <a:ext cx="2448000" cy="506880"/>
                  <a:chOff x="755640" y="2781360"/>
                  <a:chExt cx="2448000" cy="50688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>
                    <a:off x="755640" y="2781360"/>
                    <a:ext cx="2448000" cy="503280"/>
                  </a:xfrm>
                  <a:prstGeom prst="rect">
                    <a:avLst/>
                  </a:prstGeom>
                  <a:solidFill>
                    <a:srgbClr val="ffffcc"/>
                  </a:solidFill>
                  <a:ln w="1908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1187280" y="2889360"/>
                    <a:ext cx="17287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y</a:t>
                    </a:r>
                    <a:r>
                      <a:rPr b="1" lang="ru-RU" sz="2000" spc="-1" strike="noStrike">
                        <a:solidFill>
                          <a:srgbClr val="000000"/>
                        </a:solidFill>
                        <a:latin typeface="Arial"/>
                      </a:rPr>
                      <a:t>: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 = x + 2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1" name=""/>
                <p:cNvSpPr/>
                <p:nvPr/>
              </p:nvSpPr>
              <p:spPr>
                <a:xfrm flipH="1">
                  <a:off x="1834920" y="4508280"/>
                  <a:ext cx="3818160" cy="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62" name=""/>
                <p:cNvGrpSpPr/>
                <p:nvPr/>
              </p:nvGrpSpPr>
              <p:grpSpPr>
                <a:xfrm>
                  <a:off x="2482920" y="3571920"/>
                  <a:ext cx="2447640" cy="503280"/>
                  <a:chOff x="2482920" y="3571920"/>
                  <a:chExt cx="2447640" cy="503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2482920" y="3571920"/>
                    <a:ext cx="2447640" cy="503280"/>
                  </a:xfrm>
                  <a:prstGeom prst="rect">
                    <a:avLst/>
                  </a:prstGeom>
                  <a:solidFill>
                    <a:srgbClr val="ffffcc"/>
                  </a:solidFill>
                  <a:ln w="1908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2627280" y="3643200"/>
                    <a:ext cx="21607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y</a:t>
                    </a:r>
                    <a:r>
                      <a:rPr b="1" lang="ru-RU" sz="2000" spc="-1" strike="noStrike">
                        <a:solidFill>
                          <a:srgbClr val="000000"/>
                        </a:solidFill>
                        <a:latin typeface="Arial"/>
                      </a:rPr>
                      <a:t>: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 = 5x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6372000" y="3571920"/>
                  <a:ext cx="2448000" cy="503280"/>
                  <a:chOff x="6372000" y="3571920"/>
                  <a:chExt cx="2448000" cy="50328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6372000" y="3571920"/>
                    <a:ext cx="2448000" cy="503280"/>
                  </a:xfrm>
                  <a:prstGeom prst="rect">
                    <a:avLst/>
                  </a:prstGeom>
                  <a:solidFill>
                    <a:srgbClr val="ffffcc"/>
                  </a:solidFill>
                  <a:ln w="1908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6516720" y="3643200"/>
                    <a:ext cx="21603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y</a:t>
                    </a:r>
                    <a:r>
                      <a:rPr b="1" lang="ru-RU" sz="2000" spc="-1" strike="noStrike">
                        <a:solidFill>
                          <a:srgbClr val="000000"/>
                        </a:solidFill>
                        <a:latin typeface="Arial"/>
                      </a:rPr>
                      <a:t>: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= x - 3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8" name=""/>
                <p:cNvSpPr/>
                <p:nvPr/>
              </p:nvSpPr>
              <p:spPr>
                <a:xfrm>
                  <a:off x="5651280" y="4292640"/>
                  <a:ext cx="0" cy="21564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834920" y="3284640"/>
                  <a:ext cx="0" cy="1225440"/>
                </a:xfrm>
                <a:prstGeom prst="line">
                  <a:avLst/>
                </a:prstGeom>
                <a:ln w="2844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70" name=""/>
                <p:cNvGrpSpPr/>
                <p:nvPr/>
              </p:nvGrpSpPr>
              <p:grpSpPr>
                <a:xfrm>
                  <a:off x="6659280" y="2708280"/>
                  <a:ext cx="936720" cy="863640"/>
                  <a:chOff x="6659280" y="2708280"/>
                  <a:chExt cx="936720" cy="86364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 flipH="1">
                    <a:off x="6659280" y="3068640"/>
                    <a:ext cx="936360" cy="0"/>
                  </a:xfrm>
                  <a:prstGeom prst="line">
                    <a:avLst/>
                  </a:prstGeom>
                  <a:ln w="2844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7596000" y="3068640"/>
                    <a:ext cx="0" cy="503280"/>
                  </a:xfrm>
                  <a:prstGeom prst="line">
                    <a:avLst/>
                  </a:prstGeom>
                  <a:ln w="28440">
                    <a:solidFill>
                      <a:srgbClr val="66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6875280" y="2708280"/>
                    <a:ext cx="7192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НЕТ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3634920" y="2708280"/>
                  <a:ext cx="863640" cy="863640"/>
                  <a:chOff x="3634920" y="2708280"/>
                  <a:chExt cx="863640" cy="86364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 flipH="1">
                    <a:off x="3634920" y="3068640"/>
                    <a:ext cx="863640" cy="0"/>
                  </a:xfrm>
                  <a:prstGeom prst="line">
                    <a:avLst/>
                  </a:prstGeom>
                  <a:ln w="2844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3635280" y="3068640"/>
                    <a:ext cx="0" cy="503280"/>
                  </a:xfrm>
                  <a:prstGeom prst="line">
                    <a:avLst/>
                  </a:prstGeom>
                  <a:ln w="28440">
                    <a:solidFill>
                      <a:srgbClr val="66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3706560" y="2708280"/>
                    <a:ext cx="576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ДА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8" name=""/>
                <p:cNvGrpSpPr/>
                <p:nvPr/>
              </p:nvGrpSpPr>
              <p:grpSpPr>
                <a:xfrm>
                  <a:off x="4282920" y="2781360"/>
                  <a:ext cx="2664000" cy="647640"/>
                  <a:chOff x="4282920" y="2781360"/>
                  <a:chExt cx="2664000" cy="647640"/>
                </a:xfrm>
              </p:grpSpPr>
              <p:sp>
                <p:nvSpPr>
                  <p:cNvPr id="379" name=""/>
                  <p:cNvSpPr/>
                  <p:nvPr/>
                </p:nvSpPr>
                <p:spPr>
                  <a:xfrm>
                    <a:off x="4282920" y="2781360"/>
                    <a:ext cx="2664000" cy="647640"/>
                  </a:xfrm>
                  <a:prstGeom prst="flowChartDecision">
                    <a:avLst/>
                  </a:prstGeom>
                  <a:solidFill>
                    <a:srgbClr val="ffffcc"/>
                  </a:solidFill>
                  <a:ln w="1908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4788000" y="2889360"/>
                    <a:ext cx="18000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x &gt; 15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81" name=""/>
            <p:cNvGrpSpPr/>
            <p:nvPr/>
          </p:nvGrpSpPr>
          <p:grpSpPr>
            <a:xfrm>
              <a:off x="2340000" y="2060640"/>
              <a:ext cx="2663640" cy="647640"/>
              <a:chOff x="2340000" y="2060640"/>
              <a:chExt cx="2663640" cy="647640"/>
            </a:xfrm>
          </p:grpSpPr>
          <p:sp>
            <p:nvSpPr>
              <p:cNvPr id="382" name=""/>
              <p:cNvSpPr/>
              <p:nvPr/>
            </p:nvSpPr>
            <p:spPr>
              <a:xfrm>
                <a:off x="2340000" y="2060640"/>
                <a:ext cx="2663640" cy="647640"/>
              </a:xfrm>
              <a:prstGeom prst="flowChartDecision">
                <a:avLst/>
              </a:prstGeom>
              <a:solidFill>
                <a:srgbClr val="ffffcc"/>
              </a:solidFill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916000" y="2203200"/>
                <a:ext cx="1513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x &lt; 7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58760" y="209520"/>
            <a:ext cx="30351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Решение квадратного уравнения                      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Ax</a:t>
            </a:r>
            <a:r>
              <a:rPr b="1" lang="en-US" sz="2000" spc="-1" strike="noStrike" baseline="30000">
                <a:solidFill>
                  <a:srgbClr val="ffff99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 + Bx + C =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39640" y="189000"/>
            <a:ext cx="8208720" cy="6480000"/>
            <a:chOff x="539640" y="189000"/>
            <a:chExt cx="8208720" cy="6480000"/>
          </a:xfrm>
        </p:grpSpPr>
        <p:sp>
          <p:nvSpPr>
            <p:cNvPr id="386" name=""/>
            <p:cNvSpPr/>
            <p:nvPr/>
          </p:nvSpPr>
          <p:spPr>
            <a:xfrm>
              <a:off x="3205080" y="1773360"/>
              <a:ext cx="2519280" cy="50472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= B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 – 4*A*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274920" y="2492280"/>
              <a:ext cx="2520720" cy="576360"/>
            </a:xfrm>
            <a:prstGeom prst="diamond">
              <a:avLst/>
            </a:prstGeom>
            <a:solidFill>
              <a:srgbClr val="ffffcc"/>
            </a:solidFill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≥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39640" y="5013360"/>
              <a:ext cx="2519280" cy="503280"/>
            </a:xfrm>
            <a:prstGeom prst="parallelogram">
              <a:avLst>
                <a:gd name="adj" fmla="val 125143"/>
              </a:avLst>
            </a:prstGeom>
            <a:solidFill>
              <a:srgbClr val="ffffcc"/>
            </a:solidFill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ывод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1, X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3276360" y="189000"/>
              <a:ext cx="2519280" cy="503280"/>
              <a:chOff x="3276360" y="189000"/>
              <a:chExt cx="2519280" cy="503280"/>
            </a:xfrm>
          </p:grpSpPr>
          <p:sp>
            <p:nvSpPr>
              <p:cNvPr id="390" name=""/>
              <p:cNvSpPr/>
              <p:nvPr/>
            </p:nvSpPr>
            <p:spPr>
              <a:xfrm>
                <a:off x="3276360" y="189000"/>
                <a:ext cx="2519280" cy="503280"/>
              </a:xfrm>
              <a:prstGeom prst="ellipse">
                <a:avLst/>
              </a:prstGeom>
              <a:solidFill>
                <a:srgbClr val="ffffcc"/>
              </a:solidFill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924000" y="254160"/>
                <a:ext cx="1225440" cy="3682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Начало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3205080" y="981000"/>
              <a:ext cx="2519280" cy="503280"/>
              <a:chOff x="3205080" y="981000"/>
              <a:chExt cx="2519280" cy="503280"/>
            </a:xfrm>
          </p:grpSpPr>
          <p:sp>
            <p:nvSpPr>
              <p:cNvPr id="393" name=""/>
              <p:cNvSpPr/>
              <p:nvPr/>
            </p:nvSpPr>
            <p:spPr>
              <a:xfrm>
                <a:off x="3205080" y="981000"/>
                <a:ext cx="2519280" cy="503280"/>
              </a:xfrm>
              <a:prstGeom prst="parallelogram">
                <a:avLst>
                  <a:gd name="adj" fmla="val 125143"/>
                </a:avLst>
              </a:prstGeom>
              <a:solidFill>
                <a:srgbClr val="ffffcc"/>
              </a:solidFill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779640" y="1052640"/>
                <a:ext cx="1368360" cy="3682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Arial"/>
                  </a:rPr>
                  <a:t>Ввод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, B, C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541080" y="3139920"/>
              <a:ext cx="2519280" cy="649440"/>
              <a:chOff x="541080" y="3139920"/>
              <a:chExt cx="2519280" cy="649440"/>
            </a:xfrm>
          </p:grpSpPr>
          <p:sp>
            <p:nvSpPr>
              <p:cNvPr id="396" name=""/>
              <p:cNvSpPr/>
              <p:nvPr/>
            </p:nvSpPr>
            <p:spPr>
              <a:xfrm>
                <a:off x="541080" y="3139920"/>
                <a:ext cx="2519280" cy="649440"/>
              </a:xfrm>
              <a:prstGeom prst="rect">
                <a:avLst/>
              </a:prstGeom>
              <a:solidFill>
                <a:srgbClr val="ffffcc"/>
              </a:solidFill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= (- B -       ) / 2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97" name=""/>
                  <p:cNvSpPr txBox="1"/>
                  <p:nvPr/>
                </p:nvSpPr>
                <p:spPr>
                  <a:xfrm>
                    <a:off x="1836360" y="3247920"/>
                    <a:ext cx="432000" cy="398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398" name=""/>
            <p:cNvGrpSpPr/>
            <p:nvPr/>
          </p:nvGrpSpPr>
          <p:grpSpPr>
            <a:xfrm>
              <a:off x="539640" y="4075200"/>
              <a:ext cx="2519280" cy="649080"/>
              <a:chOff x="539640" y="4075200"/>
              <a:chExt cx="2519280" cy="649080"/>
            </a:xfrm>
          </p:grpSpPr>
          <p:sp>
            <p:nvSpPr>
              <p:cNvPr id="399" name=""/>
              <p:cNvSpPr/>
              <p:nvPr/>
            </p:nvSpPr>
            <p:spPr>
              <a:xfrm>
                <a:off x="539640" y="4075200"/>
                <a:ext cx="2519280" cy="649080"/>
              </a:xfrm>
              <a:prstGeom prst="rect">
                <a:avLst/>
              </a:prstGeom>
              <a:solidFill>
                <a:srgbClr val="ffffcc"/>
              </a:solidFill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= (- B +      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) / 2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00" name=""/>
                  <p:cNvSpPr txBox="1"/>
                  <p:nvPr/>
                </p:nvSpPr>
                <p:spPr>
                  <a:xfrm>
                    <a:off x="1836360" y="4182840"/>
                    <a:ext cx="503280" cy="398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401" name=""/>
            <p:cNvGrpSpPr/>
            <p:nvPr/>
          </p:nvGrpSpPr>
          <p:grpSpPr>
            <a:xfrm>
              <a:off x="3348000" y="6165720"/>
              <a:ext cx="2519280" cy="503280"/>
              <a:chOff x="3348000" y="6165720"/>
              <a:chExt cx="2519280" cy="503280"/>
            </a:xfrm>
          </p:grpSpPr>
          <p:sp>
            <p:nvSpPr>
              <p:cNvPr id="402" name=""/>
              <p:cNvSpPr/>
              <p:nvPr/>
            </p:nvSpPr>
            <p:spPr>
              <a:xfrm>
                <a:off x="3348000" y="6165720"/>
                <a:ext cx="2519280" cy="503280"/>
              </a:xfrm>
              <a:prstGeom prst="ellipse">
                <a:avLst/>
              </a:prstGeom>
              <a:solidFill>
                <a:srgbClr val="ffffcc"/>
              </a:solidFill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995640" y="6237360"/>
                <a:ext cx="1225440" cy="3682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Конец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4500360" y="2276640"/>
              <a:ext cx="0" cy="2156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500360" y="1484280"/>
              <a:ext cx="0" cy="28728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500360" y="692280"/>
              <a:ext cx="0" cy="28872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1834920" y="2781360"/>
              <a:ext cx="1441440" cy="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836360" y="2781360"/>
              <a:ext cx="0" cy="3603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836360" y="3787920"/>
              <a:ext cx="0" cy="28872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836360" y="4726080"/>
              <a:ext cx="0" cy="28728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797440" y="2781360"/>
              <a:ext cx="1439640" cy="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237080" y="2781360"/>
              <a:ext cx="0" cy="108108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571640" y="5877000"/>
              <a:ext cx="0" cy="28872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836360" y="5877000"/>
              <a:ext cx="5400720" cy="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237080" y="4653000"/>
              <a:ext cx="0" cy="122400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36360" y="5516640"/>
              <a:ext cx="0" cy="3603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052360" y="2421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Д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300720" y="2421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Не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364000" y="3860640"/>
              <a:ext cx="3384360" cy="936720"/>
            </a:xfrm>
            <a:prstGeom prst="parallelogram">
              <a:avLst>
                <a:gd name="adj" fmla="val 90325"/>
              </a:avLst>
            </a:prstGeom>
            <a:solidFill>
              <a:srgbClr val="ffffcc"/>
            </a:solidFill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156000" y="3933720"/>
              <a:ext cx="1800360" cy="792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ывод: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Действительных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орней не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176040" y="493560"/>
            <a:ext cx="8758440" cy="55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Verdana"/>
              </a:rPr>
              <a:t>Домашнее задани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В квадратной комнате шириной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ысотой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окно с размерами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верь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змерами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N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 Вычислите площадь стен для оклеивания их обоями. Составьте блок-схему алгоритма решения поставленной задач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35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40" dur="5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0" y="29844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Составить блок-схему алгоритма вычисления значения функци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x + a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x &lt; 10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y =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x + b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0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≤ x ≤ 2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x + a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x &gt; 2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"/>
          <p:cNvSpPr/>
          <p:nvPr/>
        </p:nvSpPr>
        <p:spPr>
          <a:xfrm>
            <a:off x="2340000" y="2852640"/>
            <a:ext cx="230040" cy="2119320"/>
          </a:xfrm>
          <a:custGeom>
            <a:avLst/>
            <a:gdLst>
              <a:gd name="textAreaLeft" fmla="*/ 146880 w 230040"/>
              <a:gd name="textAreaRight" fmla="*/ 230400 w 230040"/>
              <a:gd name="textAreaTop" fmla="*/ 55080 h 2119320"/>
              <a:gd name="textAreaBottom" fmla="*/ 2064240 h 21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4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5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-360" y="990720"/>
            <a:ext cx="88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лгоритм называется 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разветвляющимся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, если порядок выполнения шагов алгоритма изменяется в зависимости от заданных условий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Форма организации действий, при которой в зависимости от выполнения некоторого условия совершается одна или другая последовательность действий, называется </a:t>
            </a: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ВЕТВЛЕНИЕМ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Black"/>
              </a:rPr>
              <a:t>Полная команда ветвления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979640" y="1027080"/>
            <a:ext cx="4754520" cy="5454000"/>
            <a:chOff x="1979640" y="1027080"/>
            <a:chExt cx="4754520" cy="5454000"/>
          </a:xfrm>
        </p:grpSpPr>
        <p:sp>
          <p:nvSpPr>
            <p:cNvPr id="165" name=""/>
            <p:cNvSpPr/>
            <p:nvPr/>
          </p:nvSpPr>
          <p:spPr>
            <a:xfrm>
              <a:off x="4356000" y="1413000"/>
              <a:ext cx="1800" cy="360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1979640" y="2492280"/>
              <a:ext cx="4754520" cy="2449440"/>
              <a:chOff x="1979640" y="2492280"/>
              <a:chExt cx="4754520" cy="2449440"/>
            </a:xfrm>
          </p:grpSpPr>
          <p:sp>
            <p:nvSpPr>
              <p:cNvPr id="167" name=""/>
              <p:cNvSpPr/>
              <p:nvPr/>
            </p:nvSpPr>
            <p:spPr>
              <a:xfrm>
                <a:off x="2917800" y="3284640"/>
                <a:ext cx="0" cy="503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917800" y="4579920"/>
                <a:ext cx="28796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278160" y="2852640"/>
                <a:ext cx="2160720" cy="863640"/>
              </a:xfrm>
              <a:prstGeom prst="flowChartDecision">
                <a:avLst/>
              </a:prstGeom>
              <a:solidFill>
                <a:srgbClr val="ff99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979640" y="3789360"/>
                <a:ext cx="1873080" cy="431640"/>
              </a:xfrm>
              <a:prstGeom prst="rect">
                <a:avLst/>
              </a:prstGeom>
              <a:solidFill>
                <a:srgbClr val="ff99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оператор 1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567240" y="3032280"/>
                <a:ext cx="1511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условие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861080" y="3787920"/>
                <a:ext cx="1873080" cy="431640"/>
              </a:xfrm>
              <a:prstGeom prst="rect">
                <a:avLst/>
              </a:prstGeom>
              <a:solidFill>
                <a:srgbClr val="ff99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оператор 2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356000" y="2492280"/>
                <a:ext cx="1800" cy="3603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>
                <a:off x="2917440" y="3284640"/>
                <a:ext cx="3603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5436720" y="3284640"/>
                <a:ext cx="3603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797440" y="3284640"/>
                <a:ext cx="0" cy="503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917800" y="4221000"/>
                <a:ext cx="0" cy="3589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797440" y="4221000"/>
                <a:ext cx="0" cy="3589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56000" y="4581360"/>
                <a:ext cx="0" cy="3603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5364000" y="29242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Не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844720" y="288756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Д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3419640" y="1027080"/>
              <a:ext cx="1871640" cy="459720"/>
              <a:chOff x="3419640" y="1027080"/>
              <a:chExt cx="1871640" cy="459720"/>
            </a:xfrm>
          </p:grpSpPr>
          <p:sp>
            <p:nvSpPr>
              <p:cNvPr id="183" name=""/>
              <p:cNvSpPr/>
              <p:nvPr/>
            </p:nvSpPr>
            <p:spPr>
              <a:xfrm>
                <a:off x="3419640" y="1027080"/>
                <a:ext cx="1871640" cy="432000"/>
              </a:xfrm>
              <a:prstGeom prst="flowChartTerminator">
                <a:avLst/>
              </a:prstGeom>
              <a:solidFill>
                <a:srgbClr val="ff99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706920" y="1027080"/>
                <a:ext cx="136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начало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3132000" y="1771560"/>
              <a:ext cx="2448000" cy="720720"/>
              <a:chOff x="3132000" y="1771560"/>
              <a:chExt cx="2448000" cy="720720"/>
            </a:xfrm>
          </p:grpSpPr>
          <p:sp>
            <p:nvSpPr>
              <p:cNvPr id="186" name=""/>
              <p:cNvSpPr/>
              <p:nvPr/>
            </p:nvSpPr>
            <p:spPr>
              <a:xfrm>
                <a:off x="3132000" y="1771560"/>
                <a:ext cx="2448000" cy="720720"/>
              </a:xfrm>
              <a:prstGeom prst="flowChartInputOutput">
                <a:avLst/>
              </a:prstGeom>
              <a:solidFill>
                <a:srgbClr val="ff99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420720" y="1771560"/>
                <a:ext cx="2016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ввод исходных данных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3132000" y="4941720"/>
              <a:ext cx="2448000" cy="720720"/>
              <a:chOff x="3132000" y="4941720"/>
              <a:chExt cx="2448000" cy="720720"/>
            </a:xfrm>
          </p:grpSpPr>
          <p:sp>
            <p:nvSpPr>
              <p:cNvPr id="189" name=""/>
              <p:cNvSpPr/>
              <p:nvPr/>
            </p:nvSpPr>
            <p:spPr>
              <a:xfrm>
                <a:off x="3132000" y="4941720"/>
                <a:ext cx="2448000" cy="720720"/>
              </a:xfrm>
              <a:prstGeom prst="flowChartInputOutput">
                <a:avLst/>
              </a:prstGeom>
              <a:solidFill>
                <a:srgbClr val="ff99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276360" y="4941720"/>
                <a:ext cx="2016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вывод результатов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3348000" y="6021360"/>
              <a:ext cx="1871640" cy="459720"/>
              <a:chOff x="3348000" y="6021360"/>
              <a:chExt cx="1871640" cy="459720"/>
            </a:xfrm>
          </p:grpSpPr>
          <p:sp>
            <p:nvSpPr>
              <p:cNvPr id="192" name=""/>
              <p:cNvSpPr/>
              <p:nvPr/>
            </p:nvSpPr>
            <p:spPr>
              <a:xfrm>
                <a:off x="3348000" y="6021360"/>
                <a:ext cx="1871640" cy="432000"/>
              </a:xfrm>
              <a:prstGeom prst="flowChartTerminator">
                <a:avLst/>
              </a:prstGeom>
              <a:solidFill>
                <a:srgbClr val="ff99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635280" y="6021360"/>
                <a:ext cx="136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конец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356000" y="5661000"/>
              <a:ext cx="1800" cy="360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 Black"/>
              </a:rPr>
              <a:t>Неполная команда ветвления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052720" y="907920"/>
            <a:ext cx="4031640" cy="5523840"/>
            <a:chOff x="2052720" y="907920"/>
            <a:chExt cx="4031640" cy="5523840"/>
          </a:xfrm>
        </p:grpSpPr>
        <p:grpSp>
          <p:nvGrpSpPr>
            <p:cNvPr id="197" name=""/>
            <p:cNvGrpSpPr/>
            <p:nvPr/>
          </p:nvGrpSpPr>
          <p:grpSpPr>
            <a:xfrm>
              <a:off x="2052720" y="2373120"/>
              <a:ext cx="4031640" cy="2518920"/>
              <a:chOff x="2052720" y="2373120"/>
              <a:chExt cx="4031640" cy="251892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2052720" y="2373120"/>
                <a:ext cx="3817440" cy="2518920"/>
                <a:chOff x="2052720" y="2373120"/>
                <a:chExt cx="3817440" cy="251892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2990520" y="3236400"/>
                  <a:ext cx="0" cy="50292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990520" y="4532040"/>
                  <a:ext cx="287964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350880" y="2804760"/>
                  <a:ext cx="2160360" cy="863280"/>
                </a:xfrm>
                <a:prstGeom prst="flowChartDecision">
                  <a:avLst/>
                </a:prstGeom>
                <a:solidFill>
                  <a:srgbClr val="ff9900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2052720" y="3741480"/>
                  <a:ext cx="1873080" cy="431280"/>
                </a:xfrm>
                <a:prstGeom prst="rect">
                  <a:avLst/>
                </a:prstGeom>
                <a:solidFill>
                  <a:srgbClr val="ff9900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оператор 1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639960" y="2984040"/>
                  <a:ext cx="1510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условие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430520" y="2373120"/>
                  <a:ext cx="0" cy="43164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H="1">
                  <a:off x="2990520" y="3236400"/>
                  <a:ext cx="36000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H="1">
                  <a:off x="5510160" y="3236400"/>
                  <a:ext cx="36000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990520" y="4173120"/>
                  <a:ext cx="0" cy="35856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868720" y="3238200"/>
                  <a:ext cx="1440" cy="12934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4430520" y="4532040"/>
                  <a:ext cx="0" cy="3600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0" name=""/>
              <p:cNvSpPr/>
              <p:nvPr/>
            </p:nvSpPr>
            <p:spPr>
              <a:xfrm>
                <a:off x="5364000" y="2877840"/>
                <a:ext cx="72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Нет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916000" y="2841120"/>
                <a:ext cx="647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Да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4428720" y="1292040"/>
              <a:ext cx="1440" cy="360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3492360" y="907920"/>
              <a:ext cx="1871280" cy="459720"/>
              <a:chOff x="3492360" y="907920"/>
              <a:chExt cx="1871280" cy="459720"/>
            </a:xfrm>
          </p:grpSpPr>
          <p:sp>
            <p:nvSpPr>
              <p:cNvPr id="214" name=""/>
              <p:cNvSpPr/>
              <p:nvPr/>
            </p:nvSpPr>
            <p:spPr>
              <a:xfrm>
                <a:off x="3492360" y="907920"/>
                <a:ext cx="1871280" cy="432000"/>
              </a:xfrm>
              <a:prstGeom prst="flowChartTerminator">
                <a:avLst/>
              </a:prstGeom>
              <a:solidFill>
                <a:srgbClr val="ff99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779640" y="907920"/>
                <a:ext cx="136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начало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3204720" y="1652400"/>
              <a:ext cx="2447640" cy="720720"/>
              <a:chOff x="3204720" y="1652400"/>
              <a:chExt cx="2447640" cy="720720"/>
            </a:xfrm>
          </p:grpSpPr>
          <p:sp>
            <p:nvSpPr>
              <p:cNvPr id="217" name=""/>
              <p:cNvSpPr/>
              <p:nvPr/>
            </p:nvSpPr>
            <p:spPr>
              <a:xfrm>
                <a:off x="3204720" y="1652400"/>
                <a:ext cx="2447640" cy="720720"/>
              </a:xfrm>
              <a:prstGeom prst="flowChartInputOutput">
                <a:avLst/>
              </a:prstGeom>
              <a:solidFill>
                <a:srgbClr val="ff99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493080" y="1652400"/>
                <a:ext cx="2016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ввод исходных данных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3204720" y="4892400"/>
              <a:ext cx="2447640" cy="720720"/>
              <a:chOff x="3204720" y="4892400"/>
              <a:chExt cx="2447640" cy="720720"/>
            </a:xfrm>
          </p:grpSpPr>
          <p:sp>
            <p:nvSpPr>
              <p:cNvPr id="220" name=""/>
              <p:cNvSpPr/>
              <p:nvPr/>
            </p:nvSpPr>
            <p:spPr>
              <a:xfrm>
                <a:off x="3204720" y="4892400"/>
                <a:ext cx="2447640" cy="720720"/>
              </a:xfrm>
              <a:prstGeom prst="flowChartInputOutput">
                <a:avLst/>
              </a:prstGeom>
              <a:solidFill>
                <a:srgbClr val="ff99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348720" y="4892400"/>
                <a:ext cx="2015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вывод результатов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3420720" y="5972040"/>
              <a:ext cx="1871280" cy="459720"/>
              <a:chOff x="3420720" y="5972040"/>
              <a:chExt cx="1871280" cy="459720"/>
            </a:xfrm>
          </p:grpSpPr>
          <p:sp>
            <p:nvSpPr>
              <p:cNvPr id="223" name=""/>
              <p:cNvSpPr/>
              <p:nvPr/>
            </p:nvSpPr>
            <p:spPr>
              <a:xfrm>
                <a:off x="3420720" y="5972040"/>
                <a:ext cx="1871280" cy="432000"/>
              </a:xfrm>
              <a:prstGeom prst="flowChartTerminator">
                <a:avLst/>
              </a:prstGeom>
              <a:solidFill>
                <a:srgbClr val="ff99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708000" y="5972040"/>
                <a:ext cx="136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конец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4428720" y="5611680"/>
              <a:ext cx="1440" cy="360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57200" y="44280"/>
            <a:ext cx="8229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Многовариантная команда вет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79280" y="549360"/>
            <a:ext cx="8210520" cy="6292080"/>
            <a:chOff x="179280" y="549360"/>
            <a:chExt cx="8210520" cy="6292080"/>
          </a:xfrm>
        </p:grpSpPr>
        <p:sp>
          <p:nvSpPr>
            <p:cNvPr id="228" name=""/>
            <p:cNvSpPr/>
            <p:nvPr/>
          </p:nvSpPr>
          <p:spPr>
            <a:xfrm>
              <a:off x="3851280" y="22050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Не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42920" y="216864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Д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179280" y="549360"/>
              <a:ext cx="8210520" cy="6292080"/>
              <a:chOff x="179280" y="549360"/>
              <a:chExt cx="8210520" cy="629208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1544760" y="549360"/>
                <a:ext cx="2447640" cy="1584360"/>
                <a:chOff x="1544760" y="549360"/>
                <a:chExt cx="2447640" cy="158436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771640" y="982440"/>
                  <a:ext cx="0" cy="2160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33" name=""/>
                <p:cNvGrpSpPr/>
                <p:nvPr/>
              </p:nvGrpSpPr>
              <p:grpSpPr>
                <a:xfrm>
                  <a:off x="1832040" y="549360"/>
                  <a:ext cx="1871640" cy="459720"/>
                  <a:chOff x="1832040" y="549360"/>
                  <a:chExt cx="1871640" cy="45972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>
                    <a:off x="1832040" y="549360"/>
                    <a:ext cx="1871640" cy="432000"/>
                  </a:xfrm>
                  <a:prstGeom prst="flowChartTerminator">
                    <a:avLst/>
                  </a:prstGeom>
                  <a:solidFill>
                    <a:srgbClr val="ff99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2119320" y="549360"/>
                    <a:ext cx="1368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Arial"/>
                      </a:rPr>
                      <a:t>начало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"/>
                <p:cNvGrpSpPr/>
                <p:nvPr/>
              </p:nvGrpSpPr>
              <p:grpSpPr>
                <a:xfrm>
                  <a:off x="1544760" y="1197000"/>
                  <a:ext cx="2447640" cy="720720"/>
                  <a:chOff x="1544760" y="1197000"/>
                  <a:chExt cx="2447640" cy="72072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>
                    <a:off x="1544760" y="1197000"/>
                    <a:ext cx="2447640" cy="720720"/>
                  </a:xfrm>
                  <a:prstGeom prst="flowChartInputOutput">
                    <a:avLst/>
                  </a:prstGeom>
                  <a:solidFill>
                    <a:srgbClr val="ff99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1833120" y="1197000"/>
                    <a:ext cx="2016000" cy="70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ffff"/>
                        </a:solidFill>
                        <a:latin typeface="Arial"/>
                      </a:rPr>
                      <a:t>ввод исходных данных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"/>
                <p:cNvSpPr/>
                <p:nvPr/>
              </p:nvSpPr>
              <p:spPr>
                <a:xfrm>
                  <a:off x="2771640" y="1917720"/>
                  <a:ext cx="0" cy="2160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179280" y="2133720"/>
                <a:ext cx="8210520" cy="3168360"/>
                <a:chOff x="179280" y="2133720"/>
                <a:chExt cx="8210520" cy="316836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1114560" y="2565000"/>
                  <a:ext cx="0" cy="28872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356000" y="4868640"/>
                  <a:ext cx="309564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179280" y="2854080"/>
                  <a:ext cx="1873440" cy="431280"/>
                </a:xfrm>
                <a:prstGeom prst="rect">
                  <a:avLst/>
                </a:prstGeom>
                <a:solidFill>
                  <a:srgbClr val="ff9900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оператор 1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44" name=""/>
                <p:cNvGrpSpPr/>
                <p:nvPr/>
              </p:nvGrpSpPr>
              <p:grpSpPr>
                <a:xfrm>
                  <a:off x="1474920" y="2133720"/>
                  <a:ext cx="2518920" cy="863280"/>
                  <a:chOff x="1474920" y="2133720"/>
                  <a:chExt cx="2518920" cy="86328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>
                    <a:off x="1474920" y="2133720"/>
                    <a:ext cx="2518920" cy="863280"/>
                  </a:xfrm>
                  <a:prstGeom prst="flowChartDecision">
                    <a:avLst/>
                  </a:prstGeom>
                  <a:solidFill>
                    <a:srgbClr val="ff99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1856880" y="2313000"/>
                    <a:ext cx="1832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Arial"/>
                      </a:rPr>
                      <a:t>условие 1 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3419640" y="4222440"/>
                  <a:ext cx="1873080" cy="431280"/>
                </a:xfrm>
                <a:prstGeom prst="rect">
                  <a:avLst/>
                </a:prstGeom>
                <a:solidFill>
                  <a:srgbClr val="ff9900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оператор 3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H="1">
                  <a:off x="1114200" y="2565000"/>
                  <a:ext cx="36036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H="1">
                  <a:off x="3995280" y="2565000"/>
                  <a:ext cx="36036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4354560" y="2565000"/>
                  <a:ext cx="1440" cy="28872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356000" y="4654080"/>
                  <a:ext cx="0" cy="2142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867280" y="4870080"/>
                  <a:ext cx="0" cy="21564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53" name=""/>
                <p:cNvGrpSpPr/>
                <p:nvPr/>
              </p:nvGrpSpPr>
              <p:grpSpPr>
                <a:xfrm>
                  <a:off x="3132000" y="2854080"/>
                  <a:ext cx="2374920" cy="863280"/>
                  <a:chOff x="3132000" y="2854080"/>
                  <a:chExt cx="2374920" cy="86328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>
                    <a:off x="3132000" y="2854080"/>
                    <a:ext cx="2374920" cy="863280"/>
                  </a:xfrm>
                  <a:prstGeom prst="flowChartDecision">
                    <a:avLst/>
                  </a:prstGeom>
                  <a:solidFill>
                    <a:srgbClr val="ff99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3492360" y="3033360"/>
                    <a:ext cx="1727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Arial"/>
                      </a:rPr>
                      <a:t>условие 2 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"/>
                <p:cNvSpPr/>
                <p:nvPr/>
              </p:nvSpPr>
              <p:spPr>
                <a:xfrm>
                  <a:off x="2771640" y="3285720"/>
                  <a:ext cx="0" cy="28872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H="1">
                  <a:off x="2771280" y="3285720"/>
                  <a:ext cx="36036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835280" y="3574800"/>
                  <a:ext cx="1873080" cy="431280"/>
                </a:xfrm>
                <a:prstGeom prst="rect">
                  <a:avLst/>
                </a:prstGeom>
                <a:solidFill>
                  <a:srgbClr val="ff9900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оператор 2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flipH="1">
                  <a:off x="5506560" y="3285720"/>
                  <a:ext cx="36036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865840" y="3285720"/>
                  <a:ext cx="1440" cy="21564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1" name=""/>
                <p:cNvGrpSpPr/>
                <p:nvPr/>
              </p:nvGrpSpPr>
              <p:grpSpPr>
                <a:xfrm>
                  <a:off x="4716360" y="3501720"/>
                  <a:ext cx="2374920" cy="863280"/>
                  <a:chOff x="4716360" y="3501720"/>
                  <a:chExt cx="2374920" cy="863280"/>
                </a:xfrm>
              </p:grpSpPr>
              <p:sp>
                <p:nvSpPr>
                  <p:cNvPr id="262" name=""/>
                  <p:cNvSpPr/>
                  <p:nvPr/>
                </p:nvSpPr>
                <p:spPr>
                  <a:xfrm>
                    <a:off x="4716360" y="3501720"/>
                    <a:ext cx="2374920" cy="863280"/>
                  </a:xfrm>
                  <a:prstGeom prst="flowChartDecision">
                    <a:avLst/>
                  </a:prstGeom>
                  <a:solidFill>
                    <a:srgbClr val="ff99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5076720" y="3681000"/>
                    <a:ext cx="1727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Arial"/>
                      </a:rPr>
                      <a:t>условие 3 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4" name=""/>
                <p:cNvSpPr/>
                <p:nvPr/>
              </p:nvSpPr>
              <p:spPr>
                <a:xfrm>
                  <a:off x="4356000" y="3933360"/>
                  <a:ext cx="0" cy="28872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>
                  <a:off x="4355640" y="3933360"/>
                  <a:ext cx="36036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516720" y="4221000"/>
                  <a:ext cx="1873080" cy="431280"/>
                </a:xfrm>
                <a:prstGeom prst="rect">
                  <a:avLst/>
                </a:prstGeom>
                <a:solidFill>
                  <a:srgbClr val="ff9900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оператор 4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flipH="1">
                  <a:off x="7092720" y="3933360"/>
                  <a:ext cx="36036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7451640" y="3933360"/>
                  <a:ext cx="0" cy="2872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451640" y="4654080"/>
                  <a:ext cx="0" cy="2142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2771640" y="5086080"/>
                  <a:ext cx="309564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771640" y="4006440"/>
                  <a:ext cx="0" cy="10792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284720" y="5086080"/>
                  <a:ext cx="0" cy="21564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1116000" y="3285720"/>
                  <a:ext cx="0" cy="20160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1116000" y="5302080"/>
                  <a:ext cx="316692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1476360" y="5300640"/>
                <a:ext cx="2448000" cy="1540800"/>
                <a:chOff x="1476360" y="5300640"/>
                <a:chExt cx="2448000" cy="154080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1476360" y="5516640"/>
                  <a:ext cx="2448000" cy="720720"/>
                  <a:chOff x="1476360" y="5516640"/>
                  <a:chExt cx="2448000" cy="72072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1476360" y="5516640"/>
                    <a:ext cx="2448000" cy="720720"/>
                  </a:xfrm>
                  <a:prstGeom prst="flowChartInputOutput">
                    <a:avLst/>
                  </a:prstGeom>
                  <a:solidFill>
                    <a:srgbClr val="ff99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1620720" y="5516640"/>
                    <a:ext cx="2016000" cy="70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ffff"/>
                        </a:solidFill>
                        <a:latin typeface="Arial"/>
                      </a:rPr>
                      <a:t>вывод результатов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1619280" y="6381720"/>
                  <a:ext cx="2015640" cy="459720"/>
                  <a:chOff x="1619280" y="6381720"/>
                  <a:chExt cx="2015640" cy="45972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>
                    <a:off x="1619280" y="6381720"/>
                    <a:ext cx="2015640" cy="432000"/>
                  </a:xfrm>
                  <a:prstGeom prst="flowChartTerminator">
                    <a:avLst/>
                  </a:prstGeom>
                  <a:solidFill>
                    <a:srgbClr val="ff99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1928880" y="6381720"/>
                    <a:ext cx="1473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Arial"/>
                      </a:rPr>
                      <a:t>конец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2" name=""/>
                <p:cNvSpPr/>
                <p:nvPr/>
              </p:nvSpPr>
              <p:spPr>
                <a:xfrm>
                  <a:off x="2700360" y="5300640"/>
                  <a:ext cx="0" cy="2160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2700360" y="6237360"/>
                  <a:ext cx="0" cy="14436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4" name=""/>
            <p:cNvSpPr/>
            <p:nvPr/>
          </p:nvSpPr>
          <p:spPr>
            <a:xfrm>
              <a:off x="2700360" y="292428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Д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435640" y="29242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Не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948360" y="35733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Не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356000" y="357336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Д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1187280" y="692280"/>
            <a:ext cx="6337440" cy="46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Приме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178920" y="259920"/>
            <a:ext cx="403236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оставить блок-схему алгоритма вычисления абсолютной величины числ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250920" y="4365720"/>
            <a:ext cx="4391640" cy="977760"/>
            <a:chOff x="250920" y="4365720"/>
            <a:chExt cx="4391640" cy="977760"/>
          </a:xfrm>
        </p:grpSpPr>
        <p:sp>
          <p:nvSpPr>
            <p:cNvPr id="291" name=""/>
            <p:cNvSpPr/>
            <p:nvPr/>
          </p:nvSpPr>
          <p:spPr>
            <a:xfrm>
              <a:off x="250920" y="4678200"/>
              <a:ext cx="180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y = |x| =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886760" y="4365720"/>
              <a:ext cx="249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x   </a:t>
              </a: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при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 x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≥ 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886760" y="4822920"/>
              <a:ext cx="275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-x   </a:t>
              </a: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при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 x &lt;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801800" y="4462560"/>
              <a:ext cx="84960" cy="792000"/>
            </a:xfrm>
            <a:custGeom>
              <a:avLst/>
              <a:gdLst>
                <a:gd name="textAreaLeft" fmla="*/ 54360 w 84960"/>
                <a:gd name="textAreaRight" fmla="*/ 85320 w 84960"/>
                <a:gd name="textAreaTop" fmla="*/ 20520 h 792000"/>
                <a:gd name="textAreaBottom" fmla="*/ 77148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4065480" y="692280"/>
            <a:ext cx="4754520" cy="5068080"/>
            <a:chOff x="4065480" y="692280"/>
            <a:chExt cx="4754520" cy="5068080"/>
          </a:xfrm>
        </p:grpSpPr>
        <p:sp>
          <p:nvSpPr>
            <p:cNvPr id="296" name=""/>
            <p:cNvSpPr/>
            <p:nvPr/>
          </p:nvSpPr>
          <p:spPr>
            <a:xfrm>
              <a:off x="6443640" y="4941720"/>
              <a:ext cx="1440" cy="3603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42200" y="1077840"/>
              <a:ext cx="1440" cy="3603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50200" y="24210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Не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930920" y="242100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Д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5505480" y="692280"/>
              <a:ext cx="1871640" cy="459720"/>
              <a:chOff x="5505480" y="692280"/>
              <a:chExt cx="1871640" cy="459720"/>
            </a:xfrm>
          </p:grpSpPr>
          <p:sp>
            <p:nvSpPr>
              <p:cNvPr id="301" name=""/>
              <p:cNvSpPr/>
              <p:nvPr/>
            </p:nvSpPr>
            <p:spPr>
              <a:xfrm>
                <a:off x="5505480" y="692280"/>
                <a:ext cx="1871640" cy="432000"/>
              </a:xfrm>
              <a:prstGeom prst="flowChartTerminator">
                <a:avLst/>
              </a:prstGeom>
              <a:solidFill>
                <a:srgbClr val="ffffcc"/>
              </a:solidFill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792760" y="692280"/>
                <a:ext cx="136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663300"/>
                    </a:solidFill>
                    <a:latin typeface="Arial"/>
                  </a:rPr>
                  <a:t>начало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5218200" y="1436760"/>
              <a:ext cx="2448000" cy="552240"/>
              <a:chOff x="5218200" y="1436760"/>
              <a:chExt cx="2448000" cy="552240"/>
            </a:xfrm>
          </p:grpSpPr>
          <p:sp>
            <p:nvSpPr>
              <p:cNvPr id="304" name=""/>
              <p:cNvSpPr/>
              <p:nvPr/>
            </p:nvSpPr>
            <p:spPr>
              <a:xfrm>
                <a:off x="5218200" y="1436760"/>
                <a:ext cx="2448000" cy="552240"/>
              </a:xfrm>
              <a:prstGeom prst="flowChartInputOutput">
                <a:avLst/>
              </a:prstGeom>
              <a:solidFill>
                <a:srgbClr val="ffffcc"/>
              </a:solidFill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506920" y="1436760"/>
                <a:ext cx="2016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663300"/>
                    </a:solidFill>
                    <a:latin typeface="Arial"/>
                  </a:rPr>
                  <a:t>ввод</a:t>
                </a:r>
                <a:r>
                  <a:rPr b="1" lang="en-US" sz="2400" spc="-1" strike="noStrike">
                    <a:solidFill>
                      <a:srgbClr val="663300"/>
                    </a:solidFill>
                    <a:latin typeface="Arial"/>
                  </a:rPr>
                  <a:t>:</a:t>
                </a:r>
                <a:r>
                  <a:rPr b="1" lang="ru-RU" sz="2400" spc="-1" strike="noStrike">
                    <a:solidFill>
                      <a:srgbClr val="663300"/>
                    </a:solidFill>
                    <a:latin typeface="Arial"/>
                  </a:rPr>
                  <a:t> </a:t>
                </a:r>
                <a:r>
                  <a:rPr b="1" lang="en-US" sz="2400" spc="-1" strike="noStrike">
                    <a:solidFill>
                      <a:srgbClr val="663300"/>
                    </a:solidFill>
                    <a:latin typeface="Arial"/>
                  </a:rPr>
                  <a:t>x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4065480" y="1989000"/>
              <a:ext cx="4754520" cy="3000240"/>
              <a:chOff x="4065480" y="1989000"/>
              <a:chExt cx="4754520" cy="3000240"/>
            </a:xfrm>
          </p:grpSpPr>
          <p:sp>
            <p:nvSpPr>
              <p:cNvPr id="307" name=""/>
              <p:cNvSpPr/>
              <p:nvPr/>
            </p:nvSpPr>
            <p:spPr>
              <a:xfrm>
                <a:off x="5003640" y="2781000"/>
                <a:ext cx="0" cy="50328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003640" y="4076640"/>
                <a:ext cx="28800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64000" y="2349360"/>
                <a:ext cx="2160720" cy="863640"/>
              </a:xfrm>
              <a:prstGeom prst="flowChartDecision">
                <a:avLst/>
              </a:prstGeom>
              <a:solidFill>
                <a:srgbClr val="ffffcc"/>
              </a:solidFill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065480" y="3286080"/>
                <a:ext cx="1873440" cy="431640"/>
              </a:xfrm>
              <a:prstGeom prst="rect">
                <a:avLst/>
              </a:prstGeom>
              <a:solidFill>
                <a:srgbClr val="ffffcc"/>
              </a:solidFill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663300"/>
                    </a:solidFill>
                    <a:latin typeface="Arial"/>
                  </a:rPr>
                  <a:t>y</a:t>
                </a:r>
                <a:r>
                  <a:rPr b="1" lang="ru-RU" sz="2400" spc="-1" strike="noStrike">
                    <a:solidFill>
                      <a:srgbClr val="663300"/>
                    </a:solidFill>
                    <a:latin typeface="Arial"/>
                  </a:rPr>
                  <a:t>:</a:t>
                </a:r>
                <a:r>
                  <a:rPr b="1" lang="en-US" sz="2400" spc="-1" strike="noStrike">
                    <a:solidFill>
                      <a:srgbClr val="663300"/>
                    </a:solidFill>
                    <a:latin typeface="Arial"/>
                  </a:rPr>
                  <a:t>= - x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653080" y="2528640"/>
                <a:ext cx="1511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663300"/>
                    </a:solidFill>
                    <a:latin typeface="Arial"/>
                  </a:rPr>
                  <a:t>x &lt; 0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946920" y="3284280"/>
                <a:ext cx="1873080" cy="432000"/>
              </a:xfrm>
              <a:prstGeom prst="rect">
                <a:avLst/>
              </a:prstGeom>
              <a:solidFill>
                <a:srgbClr val="ffffcc"/>
              </a:solidFill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663300"/>
                    </a:solidFill>
                    <a:latin typeface="Arial"/>
                  </a:rPr>
                  <a:t>y</a:t>
                </a:r>
                <a:r>
                  <a:rPr b="1" lang="ru-RU" sz="2400" spc="-1" strike="noStrike">
                    <a:solidFill>
                      <a:srgbClr val="663300"/>
                    </a:solidFill>
                    <a:latin typeface="Arial"/>
                  </a:rPr>
                  <a:t>:</a:t>
                </a:r>
                <a:r>
                  <a:rPr b="1" lang="en-US" sz="2400" spc="-1" strike="noStrike">
                    <a:solidFill>
                      <a:srgbClr val="663300"/>
                    </a:solidFill>
                    <a:latin typeface="Arial"/>
                  </a:rPr>
                  <a:t>= x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442200" y="1989000"/>
                <a:ext cx="1440" cy="36036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5003280" y="2781000"/>
                <a:ext cx="360360" cy="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7522920" y="2781000"/>
                <a:ext cx="360360" cy="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883640" y="2781000"/>
                <a:ext cx="0" cy="50328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003640" y="3717720"/>
                <a:ext cx="0" cy="35892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883640" y="3717720"/>
                <a:ext cx="0" cy="35892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442200" y="4078080"/>
                <a:ext cx="0" cy="36036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0" name=""/>
              <p:cNvGrpSpPr/>
              <p:nvPr/>
            </p:nvGrpSpPr>
            <p:grpSpPr>
              <a:xfrm>
                <a:off x="5218200" y="4438440"/>
                <a:ext cx="2448000" cy="550800"/>
                <a:chOff x="5218200" y="4438440"/>
                <a:chExt cx="2448000" cy="55080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5218200" y="4438440"/>
                  <a:ext cx="2448000" cy="550800"/>
                </a:xfrm>
                <a:prstGeom prst="flowChartInputOutput">
                  <a:avLst/>
                </a:prstGeom>
                <a:solidFill>
                  <a:srgbClr val="ffffcc"/>
                </a:solidFill>
                <a:ln w="1908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5362560" y="4438440"/>
                  <a:ext cx="2016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663300"/>
                      </a:solidFill>
                      <a:latin typeface="Arial"/>
                    </a:rPr>
                    <a:t>вывод</a:t>
                  </a:r>
                  <a:r>
                    <a:rPr b="1" lang="en-US" sz="2000" spc="-1" strike="noStrike">
                      <a:solidFill>
                        <a:srgbClr val="663300"/>
                      </a:solidFill>
                      <a:latin typeface="Arial"/>
                    </a:rPr>
                    <a:t>: y</a:t>
                  </a:r>
                  <a:r>
                    <a:rPr b="0" lang="en-US" sz="2000" spc="-1" strike="noStrike">
                      <a:solidFill>
                        <a:srgbClr val="663300"/>
                      </a:solidFill>
                      <a:latin typeface="Arial"/>
                    </a:rPr>
                    <a:t> </a:t>
                  </a:r>
                  <a:r>
                    <a:rPr b="0" lang="ru-RU" sz="20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3" name=""/>
            <p:cNvGrpSpPr/>
            <p:nvPr/>
          </p:nvGrpSpPr>
          <p:grpSpPr>
            <a:xfrm>
              <a:off x="5508720" y="5300640"/>
              <a:ext cx="1871640" cy="459720"/>
              <a:chOff x="5508720" y="5300640"/>
              <a:chExt cx="1871640" cy="459720"/>
            </a:xfrm>
          </p:grpSpPr>
          <p:sp>
            <p:nvSpPr>
              <p:cNvPr id="324" name=""/>
              <p:cNvSpPr/>
              <p:nvPr/>
            </p:nvSpPr>
            <p:spPr>
              <a:xfrm>
                <a:off x="5508720" y="5300640"/>
                <a:ext cx="1871640" cy="432000"/>
              </a:xfrm>
              <a:prstGeom prst="flowChartTerminator">
                <a:avLst/>
              </a:prstGeom>
              <a:solidFill>
                <a:srgbClr val="ffffcc"/>
              </a:solidFill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796000" y="5300640"/>
                <a:ext cx="136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663300"/>
                    </a:solidFill>
                    <a:latin typeface="Arial"/>
                  </a:rPr>
                  <a:t>конец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539280" y="620280"/>
            <a:ext cx="82803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Составить блок-схему алгоритма вычисления значения функци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x + 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x &lt; 7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y =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x - 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7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≤ x ≤ 15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5x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x &gt; 15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"/>
          <p:cNvSpPr/>
          <p:nvPr/>
        </p:nvSpPr>
        <p:spPr>
          <a:xfrm>
            <a:off x="2411280" y="2349360"/>
            <a:ext cx="216000" cy="2448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9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0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2:40:14Z</dcterms:created>
  <dc:creator>Lena</dc:creator>
  <dc:description/>
  <dc:language>en-US</dc:language>
  <cp:lastModifiedBy>Lena</cp:lastModifiedBy>
  <dcterms:modified xsi:type="dcterms:W3CDTF">2009-03-30T12:55:02Z</dcterms:modified>
  <cp:revision>3</cp:revision>
  <dc:subject/>
  <dc:title>Разветвляющиеся  алгоритмы</dc:title>
</cp:coreProperties>
</file>