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443-5444-468F-A96D-15B5F15F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B5C-9C4E-469D-AEFA-EF844715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CF7-41A9-473E-9E8E-A45299B1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BDD-0FD0-4E3A-A9AA-D0542DCE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DFC-EB6F-4888-8E99-53D222D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4F8-9A3F-4FD1-928A-DC060818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515-47F1-40E1-A1C5-CF7B6CB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9DC-84FA-47C9-9956-9E44712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0B1-F212-4A1A-8D62-8AF85EE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0B3-89BA-4350-A027-028A829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040-8476-416E-A922-6D280C7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7CF-055D-4049-A009-0964968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3BA8-DCAE-4F9F-AFA4-B5AFD47FB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fcenter.ru/fc-articles/Technical/20010407/abit-st6-raid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fcenter.ru/fc-articles/Technical/20010407/palomino-mobile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ройство компьюте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архитектура ЭВ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омство с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ональный компьюте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гда говорят «персональный компьютер».  Уточнение «персональный» здесь не случайно – это значит свой, личный, доступный большинству людей, ведь существует большое количество других видов компьютеров, которые персональными никак не назвать – рабочие станции для предприятий, серверы для связи множества компьютеров в сеть и др. в дальнейшем, говоря «компьютер» мы будем иметь в виду именно персональный компью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овременном рынке вычислительной техники разнообразие модификаций и вариантов компьютеров огромно, но любой, даже самый необычный комплект неизменно включает одни и те же виды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овая конфигурация П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азовая конфигурация П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минимальный комплект аппаратный средств, достаточный для начала работы с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88000" y="3887640"/>
            <a:ext cx="370512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12000" y="2449440"/>
            <a:ext cx="266688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ит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устройство для визуального воспроизведения символьной и графической информации. Служит в качестве устройства вывода. Они отдаленно напоминают бытовые телевиз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3059280" cy="30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вишное устройство, предназначенное для управления работой компьютера и ввода в него информации. Информация вводиться в виде алфавитно-цифровых символьных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3560" y="2997360"/>
            <a:ext cx="343044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ш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устройство «графического» управлени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еремещении мыши по коврику на экране перемещается указатель мыши, при помощи которого можно указывать на объекты и/или выбирать их. Используя клавиши мыши (их может быть две или три) можно задать тот или другой тип операции с объек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20680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ериферийны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дключаемые к компьютеру извне. Обычно эти устройства предназначены для ввода и вывода информа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403848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жой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овое п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ческий план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8000" y="2698920"/>
            <a:ext cx="353376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опострои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лужит для вывода информации на бумажный носитель (бумаг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ествуют три типа прин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р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зе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65680" y="3154320"/>
            <a:ext cx="308304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лужат для автоматическог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вода текстов и график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мпью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неры бывают дву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шетные.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ой сканер для компьютера похож на сканер, используемый в супермаркетах для считывания штрих-кода. Такой сканер перемещается по листу с информацией построчно вручную, и информация заносится в компьютер для дальнейшего редактирования. Планшетный сканер выглядит и работает  примерно также, как и ксерокс - приподнимается крышка, текст или рисунок помещается на рабочее поле, и информация считывается. Планшетные сканеры в наше время обычно все цвет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33920" y="2214720"/>
            <a:ext cx="3502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дем и DV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модемная плата служит для связи удалённых компьютеров по телефонной сети. Модем бывает внутренний (установлен внутри системного блока) и внешний (располагается рядом с системным блоком и соединяется с ним при помощи каб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B-к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утниковая антен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лужат для так называемого «асинхронного» подключения компьютера к сети Интернет. При наличии DVB-карты и спутниковой антенны для соединения с Интернетом используется два канала связи: для передачи данных от пользователя используется модем, а для приема – спутниковый канал, скорость потока данных в котором в несколько раз превышает модем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кого «списали» 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своему назначению компьютер — это универсальное техническое средство для работы с информ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принципам своего устройства компьютер — это модель человека, работающего с информ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б-кам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476244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рганизации на бескрайних Интернета видеоконференций (или просто болтовни) пригоди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б-к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 помощью этих устройств (и, естественно, быстрых локальных сетей), можно в любой момент устроить совещание со своими сотрудниками, не отрывая оных от насиженных рабочих мест. А это, как показывает практика, дает весьма ощутимую практическую поль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2147760"/>
            <a:ext cx="3708360" cy="29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нутреннее устройство ЭВ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ие устройства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нутренними считаются устройства, располагающиеся в системном блоке. Доступ к некоторым из них имеется на лицевой панели, что удобно для быстрой смены информационных носителей. Разъемы некоторых устройств выведены на заднюю стенку – они служат для подключения периферийного оборудования. К некоторым устройствам системного блока доступ не предусмотрен – для обычной работы он не требует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686640" y="3213000"/>
          <a:ext cx="2457360" cy="28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6640" y="3213000"/>
                    <a:ext cx="24573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теринская плата (системна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51116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еринская пл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ая большая плата ПК. На ней располагаются магистрали, связывающие процессор с оперативной памятью, - так называемы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 шинам материнской платы подключаются также все прочие внутренние устройства компьютера. Управляет работой материнской платы микропроцессорный набор микросхем – так называемы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пс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1906560" cy="216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4724280"/>
            <a:ext cx="252576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цессо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62769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устройство, обеспечивающее преобразование информации и управление другими устройствам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икропроцесс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сновная микросхема ПК, реализующая функции центрального процесс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897280" cy="234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465300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Память ПК: Внутренняя + Внешняя пам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447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лужит для хранения информации, непосредственно участвующей  в вычислительных проце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а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спечивает хранение и выдачу информации. В ней хранятся программы, обеспечивающие запуск компьютера и поддержку его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ератив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ит для приема (записи), хранения и выдачи (чтения)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316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еш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устройств для долговременного хранения 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ий магнитный диск (винче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вод для гибких магнитных дисков (диск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вод для оптических диск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Rom, DV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(стримеры, магнитооптические устройств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тивна памя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еративная пам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ОЗУ), предназначена для хранения информации, изготавливается в виде модулей памяти. Оперативную память можно представить как обширный массив ячеек, в которых хранятся данные и команды в то время, когда компьютер включен.Процессор может обратится к любой ячейки памяти. Важнейшей характеристикой модулей памяти является быстродей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780000" y="5295960"/>
            <a:ext cx="504000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лительного хранения данных и программ широко применяютс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жесткие ди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инчесте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Выключение питания компьютера не приводит к очистке внешней памяти. Жесткий диск – это не один диск, а пакет (набор) дисков с магнитным покрытием, вращающихся на общей оси. Основным параметром является емкос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змеряемая в гигабай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516720" y="4672080"/>
          <a:ext cx="2338200" cy="16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4672080"/>
                    <a:ext cx="233820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адап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6131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Видеоадапте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внутренне устройство, устанавливается в один из разъемов материнской платы, и служит для обработки информации, поступающей от процессора или из ОЗУ на монитор, а также для выработки управляющих сигналов. Современные видеоадаптеры имеют собственный вычислительный процессор (видеопроцессор), который снижает нагрузку на основной процессор при построении сложных изобра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54628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596360" y="4869000"/>
            <a:ext cx="125712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уковой адап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представить современный компьютер молчаливым, без возможности услышать сигналы, музыку, речь. Так как наша реч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 музыка) достаточна, сложна и это приводит к большой загрузке процессора во время её вывода, то появилась необходимость в разгрузке звукового ввода и вывода. Для этого и служи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вуковая к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месте со звуковой картой обычно используются специальные звуковые колонки или реже науш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516720" y="4869000"/>
          <a:ext cx="244800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4869000"/>
                    <a:ext cx="24480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084720" y="836640"/>
          <a:ext cx="2721240" cy="324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836640"/>
                    <a:ext cx="27212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пьютер включает в себя устройства, выполняющие функции мыслящего челове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 в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 запоминания (памя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о обработки (процессор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 вы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84284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етевая кар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или карта связи по локальной сети) служит для связи компьютеров в пределах одного предприятия, отдела или помещения находящихся на расстоянии не более 150 метров друг от д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аличии специальных дополнительных устройств можно организовать связь компьютеров и на большие расстоя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м параметром сетевой карты является скорость передачи информации и измеряется она в мегабайтах в секунду. Типовая норма от 10  до 100 мегабайт в секун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ковод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ранспортировки данных между удаленным компьютерами используются гибкие диски (дискеты) и компакт-дис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записи и чтения данных, размещенных на дискетах, служи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ко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ля чтения компакт дисков служат дисково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кость одной дискеты – 1.44 Мбайт, компакт-диска  –  650-700 Мбай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муникационных пор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связи с другими устройствами (принтером, сканером, клавиатурой, мышью …) компьютер оснащается портами.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ор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не просто разъем для подключения внешнего оборудования, а сложное устройство, имеющее свои микросхе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ы пор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последовательный пор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T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параллельный пор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последовательный с высокой производительностью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S/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универсальный для подключения мыши и клавиатур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а устройства компью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71640" y="2133720"/>
            <a:ext cx="7129440" cy="2520720"/>
            <a:chOff x="971640" y="2133720"/>
            <a:chExt cx="7129440" cy="2520720"/>
          </a:xfrm>
        </p:grpSpPr>
        <p:sp>
          <p:nvSpPr>
            <p:cNvPr id="50" name=""/>
            <p:cNvSpPr/>
            <p:nvPr/>
          </p:nvSpPr>
          <p:spPr>
            <a:xfrm>
              <a:off x="3059280" y="2206440"/>
              <a:ext cx="2376360" cy="143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НУТРЕННЯ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АМЯ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971640" y="2133720"/>
              <a:ext cx="7129440" cy="2520720"/>
              <a:chOff x="971640" y="2133720"/>
              <a:chExt cx="7129440" cy="2520720"/>
            </a:xfrm>
          </p:grpSpPr>
          <p:sp>
            <p:nvSpPr>
              <p:cNvPr id="52" name=""/>
              <p:cNvSpPr/>
              <p:nvPr/>
            </p:nvSpPr>
            <p:spPr>
              <a:xfrm>
                <a:off x="971640" y="2133720"/>
                <a:ext cx="180000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В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71640" y="2997360"/>
                <a:ext cx="180000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ВЫ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71640" y="2565360"/>
                <a:ext cx="2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771280" y="3286080"/>
                <a:ext cx="2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3059280" y="2205000"/>
                <a:ext cx="5041800" cy="2449440"/>
                <a:chOff x="3059280" y="2205000"/>
                <a:chExt cx="5041800" cy="24494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724360" y="2205000"/>
                  <a:ext cx="2376720" cy="1440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ВНЕШНЯ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ПАМЯ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435640" y="2710080"/>
                  <a:ext cx="288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5435640" y="3068640"/>
                  <a:ext cx="288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3059280" y="3645000"/>
                  <a:ext cx="2376360" cy="1009440"/>
                  <a:chOff x="3059280" y="3645000"/>
                  <a:chExt cx="2376360" cy="100944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3059280" y="3933720"/>
                    <a:ext cx="2376360" cy="7207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ЦЕССОР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780000" y="3645000"/>
                    <a:ext cx="0" cy="28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V="1">
                    <a:off x="4643280" y="3645000"/>
                    <a:ext cx="0" cy="28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4" name=""/>
          <p:cNvSpPr/>
          <p:nvPr/>
        </p:nvSpPr>
        <p:spPr>
          <a:xfrm>
            <a:off x="900000" y="4076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редства связи компьютера с внешн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797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редства хранения оперативной информации и ее об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860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редства долговременного хране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ы фон Нейм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хема устройств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а впервы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а предложена в 1946 году американским ученым Джоном фон Нейманом. Дж. фон Нейман сформулировал основные принципы работы ЭВМ, которые во многом сохранились и в современных компьюте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451640" y="549360"/>
            <a:ext cx="1498680" cy="215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304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пр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рам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указание на последовательность действий (команд), которую должен выполнить компьютер, чтобы решить поставленную задачу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я, обрабатываемая на компьютере, называ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а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время выполнения программы она находится во внутренне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ы фон Нейм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 программного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грамма состоит из набора команд, которые выполняются процессором автоматически друг за другом в определенном поряд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 адрес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новная память состоит из пронумерованных ячеек, процессору времени доступна любая ячей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 однородности 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граммы и данные хранятся в одной и той же памяти, компьютер не различает что храниться в ячейке: число, текст или команда. Над командами можно выполнять теже действия,  что и с данными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паратное и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ппаратное обеспеч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система взаимосвязанных технических устройств, выполняющих ввод, хранение, обработку и вывод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раммное обеспеч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вокупность программ, хранящихся на компьюте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Архитектура ЭВ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30:17Z</dcterms:created>
  <dc:creator>Alex</dc:creator>
  <dc:description/>
  <dc:language>en-US</dc:language>
  <cp:lastModifiedBy>Alex</cp:lastModifiedBy>
  <dcterms:modified xsi:type="dcterms:W3CDTF">2009-04-27T15:30:23Z</dcterms:modified>
  <cp:revision>1</cp:revision>
  <dc:subject/>
  <dc:title>Устройство компьютера и архитектура ЭВМ</dc:title>
</cp:coreProperties>
</file>