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png" ContentType="image/png"/>
  <Override PartName="/ppt/media/image4.png" ContentType="image/png"/>
  <Override PartName="/ppt/media/image5.wmf" ContentType="image/x-wmf"/>
  <Override PartName="/ppt/media/image7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74F926-3646-464D-A2E8-472B0609E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C27514-8D8F-49BB-86DF-0B4DCCF7D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7E5AB6-EC00-471C-B7D5-133DB7927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34BF0A-579A-4B53-8354-3878F3DDF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86DD4-545F-4543-8EE4-37932B371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DAFE4-C675-4904-B935-A98B580B0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4F88F-FA13-438B-8747-32D78C49A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E8F00-4AA0-4113-86A7-78EE2B365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82CAA-AAE2-4E10-8E5E-9CBD2C05D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8403C-EAA2-4C9F-A4E8-9AE4BF4C4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A8D7F-A0FD-484A-BAD2-F94D68A51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F7A256-3D21-4DBF-BB25-371FF21A9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F744B-822E-4C95-AD1A-3E21FBB23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98AFD-E628-4CC5-A7E8-78E25263E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81D42-ADBC-4FC0-8A01-16391317E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81C3C-E51F-48CE-B7FC-69A2B74A8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64099-5488-468C-8B59-F0B57F7FC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B53471-7455-416B-891E-B7186CB00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38042E-8203-4635-8860-830139566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96E074-CDF6-4D34-9E87-5FB4EAA24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82636E-1781-4B4F-AFAE-258A513DE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22AD50-3F70-41ED-8EFD-AF32D9DCD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EE9A07-1F5A-45CB-AD09-700898842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F8D2CE-5ABE-4969-92DC-F27D49BF1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0ABE5-82DB-45DC-8724-54C30417CF5C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C98AF-CF99-40C6-B338-323DB4F74CE5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fcenter.ru/fc-articles/Technical/20010407/palomino-mobile.jpg" TargetMode="Externa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600"/>
            </a:b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Программная обработка данных на компьютере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Знакомство с компьютером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6877080" y="4941720"/>
            <a:ext cx="1824120" cy="1121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358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Сравнительные характеристи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457200" y="1828800"/>
          <a:ext cx="8229600" cy="469584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Тип носител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Емкость носител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корость обмена данными (Мбайт/с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пасные воздейств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</a:tr>
              <a:tr h="1067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Гибкие магнитные дис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f2f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44 М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f2f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f2f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агнитные поля, нагревание, физическое воздейств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f2f6"/>
                    </a:solidFill>
                  </a:tcPr>
                </a:tc>
              </a:tr>
              <a:tr h="1067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Жесткие магнитные дис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f2f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отни Гбай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f2f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коло 1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f2f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дары, изменение пространственной ориентации в процессе рабо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f2f6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D-R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f2f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50-800 Мбай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f2f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о 7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f2f6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Царапины, загрязн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f2f6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VD-R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f2f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о 17 Гбай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f2f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о 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f2f6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стройства на основе flash-памя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f2f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о 1024 Мбай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f2f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SB 1.0 - 1,5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SB 1.1 - 12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SB 2.0 - 4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f2f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еренапряжение пита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f2f6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роцессор 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50920" y="1700280"/>
            <a:ext cx="627696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это устройство, обеспечивающее преобразование информации и управление другими устройствами компьюте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Системная плат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основная микросхема ПК, реализующая функции центрального процессор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6084720" y="2276640"/>
            <a:ext cx="2897280" cy="234468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300720" y="4653000"/>
            <a:ext cx="2381400" cy="178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Истор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4358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1959 году появилась первая интегральная схема (ИС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омпоненты формируются непосредственно в кристалле крем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ремний в обычных условиях не проводит электрический ток, но при незначительных примесях бора и фосфора изменяются кристаллические структуры и в кристалле могут  распространяться  электрические импульс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БИ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большая интегральная схем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БИС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сверхбольшая интегральная схем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Характеристики некоторых микропроцессор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468360" y="1773360"/>
          <a:ext cx="8229600" cy="4779720"/>
        </p:xfrm>
        <a:graphic>
          <a:graphicData uri="http://schemas.openxmlformats.org/drawingml/2006/table">
            <a:tbl>
              <a:tblPr/>
              <a:tblGrid>
                <a:gridCol w="2314440"/>
                <a:gridCol w="1800360"/>
                <a:gridCol w="1800360"/>
                <a:gridCol w="2314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икропроцессор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д выпус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исло элемент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начение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l-400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7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вый микропроцессо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l-80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7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вый универсальный микропроцессо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torola-68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7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 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вый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-битный микропроцессо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wlett Packard superchi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8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0 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вый  32-битныймикропроцессор сложной конструкц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Магистрально-модульное устройство компьюте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179280" y="2060640"/>
            <a:ext cx="8569440" cy="3384360"/>
            <a:chOff x="179280" y="2060640"/>
            <a:chExt cx="8569440" cy="3384360"/>
          </a:xfrm>
        </p:grpSpPr>
        <p:sp>
          <p:nvSpPr>
            <p:cNvPr id="160" name=""/>
            <p:cNvSpPr/>
            <p:nvPr/>
          </p:nvSpPr>
          <p:spPr>
            <a:xfrm>
              <a:off x="539640" y="3357720"/>
              <a:ext cx="8064720" cy="84132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8360" y="3348000"/>
              <a:ext cx="216000" cy="865080"/>
            </a:xfrm>
            <a:prstGeom prst="rect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532720" y="3341520"/>
              <a:ext cx="216000" cy="865440"/>
            </a:xfrm>
            <a:prstGeom prst="rect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516720" y="3500280"/>
              <a:ext cx="1800360" cy="57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Магистрал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84360" y="3645000"/>
              <a:ext cx="3240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84360" y="3933720"/>
              <a:ext cx="3240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26920" y="3357720"/>
              <a:ext cx="17290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Шина данных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6920" y="3645000"/>
              <a:ext cx="17290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Шина адрес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042920" y="3932280"/>
              <a:ext cx="172872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Шина управлен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900000" y="2060640"/>
              <a:ext cx="2016360" cy="8636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Процессор</a:t>
              </a:r>
              <a:br>
                <a:rPr sz="18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Обработка данных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148360" y="2131920"/>
              <a:ext cx="2952720" cy="79236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Оперативная память</a:t>
              </a:r>
              <a:br>
                <a:rPr sz="18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Хранение данных и программ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79280" y="4581360"/>
              <a:ext cx="2016360" cy="8636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Устройства ввода</a:t>
              </a:r>
              <a:br>
                <a:rPr sz="18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Ввод данных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40000" y="4581360"/>
              <a:ext cx="2160720" cy="8636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Устройства вывода</a:t>
              </a:r>
              <a:br>
                <a:rPr sz="18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Вывод данных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643280" y="4581360"/>
              <a:ext cx="2233800" cy="8636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Долговременная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память</a:t>
              </a:r>
              <a:br>
                <a:rPr sz="18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Хранение данных и программ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020000" y="4581360"/>
              <a:ext cx="1728720" cy="8636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Сетевые 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устройства</a:t>
              </a:r>
              <a:br>
                <a:rPr sz="1800"/>
              </a:b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619280" y="2924280"/>
              <a:ext cx="288720" cy="433440"/>
            </a:xfrm>
            <a:prstGeom prst="upDownArrow">
              <a:avLst>
                <a:gd name="adj1" fmla="val 50000"/>
                <a:gd name="adj2" fmla="val 29886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516720" y="2924280"/>
              <a:ext cx="288720" cy="433440"/>
            </a:xfrm>
            <a:prstGeom prst="upDownArrow">
              <a:avLst>
                <a:gd name="adj1" fmla="val 50000"/>
                <a:gd name="adj2" fmla="val 29886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332000" y="4221000"/>
              <a:ext cx="287280" cy="360360"/>
            </a:xfrm>
            <a:prstGeom prst="upDownArrow">
              <a:avLst>
                <a:gd name="adj1" fmla="val 50000"/>
                <a:gd name="adj2" fmla="val 24971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276720" y="4221000"/>
              <a:ext cx="287280" cy="360360"/>
            </a:xfrm>
            <a:prstGeom prst="upDownArrow">
              <a:avLst>
                <a:gd name="adj1" fmla="val 50000"/>
                <a:gd name="adj2" fmla="val 24971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80000" y="4221000"/>
              <a:ext cx="287280" cy="360360"/>
            </a:xfrm>
            <a:prstGeom prst="upDownArrow">
              <a:avLst>
                <a:gd name="adj1" fmla="val 50000"/>
                <a:gd name="adj2" fmla="val 24971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667640" y="4221000"/>
              <a:ext cx="287280" cy="360360"/>
            </a:xfrm>
            <a:prstGeom prst="upDownArrow">
              <a:avLst>
                <a:gd name="adj1" fmla="val 50000"/>
                <a:gd name="adj2" fmla="val 24971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Магистрал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5544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Магистрал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системная шина) включает в себ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Шину данных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Шину адрес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Шину управления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прощенно системную шину можно представить как группу кабелей и электрических (токопроводящих) линий на системной плат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опрос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542160" indent="-54216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Что называется программой и данными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2160" indent="-54216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еречислите основные устройства базовой конфигурац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2160" indent="-54216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еречислите основные устройства, входящие в состав компьютера. Какое назначение у каждого из них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2160" indent="-54216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 чем различие между внутренней и внешней памятью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21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956720" y="692280"/>
            <a:ext cx="5634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409632"/>
                </a:solidFill>
                <a:latin typeface="Arial"/>
              </a:rPr>
              <a:t>?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409632"/>
              </a:solidFill>
              <a:latin typeface="Arial"/>
              <a:ea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Учебник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§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2.1,    2.2.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Вопросы: стр. 3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Базовая конфигурация ПК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Базовая конфигурация ПК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инимальный комплект аппаратный средств, достаточный для начала работы с компьютер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истемный блок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онитор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лавиатур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ыш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4788000" y="3887640"/>
            <a:ext cx="3705120" cy="2021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хема устройства компьюте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971640" y="2133720"/>
            <a:ext cx="7129440" cy="2520720"/>
            <a:chOff x="971640" y="2133720"/>
            <a:chExt cx="7129440" cy="2520720"/>
          </a:xfrm>
        </p:grpSpPr>
        <p:sp>
          <p:nvSpPr>
            <p:cNvPr id="114" name=""/>
            <p:cNvSpPr/>
            <p:nvPr/>
          </p:nvSpPr>
          <p:spPr>
            <a:xfrm>
              <a:off x="3059280" y="2206440"/>
              <a:ext cx="2376360" cy="14396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ВНУТРЕННЯ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ПАМЯТ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5" name=""/>
            <p:cNvGrpSpPr/>
            <p:nvPr/>
          </p:nvGrpSpPr>
          <p:grpSpPr>
            <a:xfrm>
              <a:off x="971640" y="2133720"/>
              <a:ext cx="7129440" cy="2520720"/>
              <a:chOff x="971640" y="2133720"/>
              <a:chExt cx="7129440" cy="2520720"/>
            </a:xfrm>
          </p:grpSpPr>
          <p:sp>
            <p:nvSpPr>
              <p:cNvPr id="116" name=""/>
              <p:cNvSpPr/>
              <p:nvPr/>
            </p:nvSpPr>
            <p:spPr>
              <a:xfrm>
                <a:off x="971640" y="2133720"/>
                <a:ext cx="1800000" cy="720720"/>
              </a:xfrm>
              <a:prstGeom prst="rect">
                <a:avLst/>
              </a:prstGeom>
              <a:solidFill>
                <a:srgbClr val="99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УСТРОЙСТВ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ВВОД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971640" y="2997360"/>
                <a:ext cx="1800000" cy="720720"/>
              </a:xfrm>
              <a:prstGeom prst="rect">
                <a:avLst/>
              </a:prstGeom>
              <a:solidFill>
                <a:srgbClr val="99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УСТРОЙСТВ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ВЫВОД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771640" y="2565360"/>
                <a:ext cx="2876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2771280" y="3286080"/>
                <a:ext cx="2876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3059280" y="2205000"/>
                <a:ext cx="5041800" cy="2449440"/>
                <a:chOff x="3059280" y="2205000"/>
                <a:chExt cx="5041800" cy="2449440"/>
              </a:xfrm>
            </p:grpSpPr>
            <p:sp>
              <p:nvSpPr>
                <p:cNvPr id="121" name=""/>
                <p:cNvSpPr/>
                <p:nvPr/>
              </p:nvSpPr>
              <p:spPr>
                <a:xfrm>
                  <a:off x="5724360" y="2205000"/>
                  <a:ext cx="2376720" cy="1440000"/>
                </a:xfrm>
                <a:prstGeom prst="rect">
                  <a:avLst/>
                </a:prstGeom>
                <a:solidFill>
                  <a:srgbClr val="9999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ВНЕШНЯЯ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ПАМЯТЬ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435640" y="2710080"/>
                  <a:ext cx="28872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 flipH="1">
                  <a:off x="5435640" y="3068640"/>
                  <a:ext cx="28872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4" name=""/>
                <p:cNvGrpSpPr/>
                <p:nvPr/>
              </p:nvGrpSpPr>
              <p:grpSpPr>
                <a:xfrm>
                  <a:off x="3059280" y="3645000"/>
                  <a:ext cx="2376360" cy="1009440"/>
                  <a:chOff x="3059280" y="3645000"/>
                  <a:chExt cx="2376360" cy="1009440"/>
                </a:xfrm>
              </p:grpSpPr>
              <p:sp>
                <p:nvSpPr>
                  <p:cNvPr id="125" name=""/>
                  <p:cNvSpPr/>
                  <p:nvPr/>
                </p:nvSpPr>
                <p:spPr>
                  <a:xfrm>
                    <a:off x="3059280" y="3933720"/>
                    <a:ext cx="2376360" cy="720720"/>
                  </a:xfrm>
                  <a:prstGeom prst="rect">
                    <a:avLst/>
                  </a:prstGeom>
                  <a:solidFill>
                    <a:srgbClr val="99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ПРОЦЕССОР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"/>
                  <p:cNvSpPr/>
                  <p:nvPr/>
                </p:nvSpPr>
                <p:spPr>
                  <a:xfrm>
                    <a:off x="3780000" y="3645000"/>
                    <a:ext cx="0" cy="28872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"/>
                  <p:cNvSpPr/>
                  <p:nvPr/>
                </p:nvSpPr>
                <p:spPr>
                  <a:xfrm flipV="1">
                    <a:off x="4643280" y="3645000"/>
                    <a:ext cx="0" cy="28872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128" name=""/>
          <p:cNvSpPr/>
          <p:nvPr/>
        </p:nvSpPr>
        <p:spPr>
          <a:xfrm>
            <a:off x="900000" y="4076640"/>
            <a:ext cx="187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Средства связи компьютера с внешним мир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203640" y="4797360"/>
            <a:ext cx="223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Средства хранения оперативной информации и ее обработ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156360" y="3860640"/>
            <a:ext cx="216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Средства долговременного хранения информ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50560" y="457200"/>
            <a:ext cx="84358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Принципы фон Нейма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59280" y="1980720"/>
            <a:ext cx="56275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хема устройства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омпьютера впервые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ыла предложена в 1946 году американским ученым Джоном фон Нейманом. Дж. фон Нейман сформулировал основные принципы работы ЭВМ, которые во многом сохранились и в современных компьютера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7451640" y="549360"/>
            <a:ext cx="1498680" cy="21589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395280" y="1844640"/>
            <a:ext cx="3044880" cy="453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Данны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Числовая, текстовая, графическая  и звуковая информация представляется в двоичной знаковой системе для обработки компьютер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Данные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– это информация, которая обрабатывается компьютером в двоичной компьютерном код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Что такое программа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Программа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– это последовательность действий (команд), которую выполняет компьютер в процессе обработки информаци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о время выполнения программы она находится во внутренней памяти (оперативной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24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Компьютер включает в себя устройства, выполняющие функции мыслящего человек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95280" y="2707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стройства ввод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стройства запоминания (память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стройство обработки (процессор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стройства выво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7093080" y="4797360"/>
            <a:ext cx="1842840" cy="181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Периферийными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зывают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устройств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подключаемые к компьютеру извне. Обычно эти устройства предназначены для ввода и вывода информации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5280" y="2923920"/>
            <a:ext cx="4038480" cy="32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7d"/>
                </a:solidFill>
                <a:uFillTx/>
                <a:latin typeface="Arial"/>
              </a:rPr>
              <a:t>Устройства вв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лавиату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ыш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жойст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кан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ветовое пер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рафический планш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788000" y="2923920"/>
            <a:ext cx="3533760" cy="260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7d"/>
                </a:solidFill>
                <a:uFillTx/>
                <a:latin typeface="Arial"/>
              </a:rPr>
              <a:t>Устройства выв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онит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нт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рафопостроител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50560" y="457200"/>
            <a:ext cx="889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Arial"/>
              </a:rPr>
              <a:t>Память ПК: Внутренняя + Внешняя памят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50560" y="1844640"/>
            <a:ext cx="424476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Внутрення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Служит для хранения информации, непосредственно участвующей  в вычислительных процесс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Постоянная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беспечивает хранение и выдачу информации. В ней хранятся программы, обеспечивающие запуск компьютера и поддержку его рабо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Оперативная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лужит для приема (записи), хранения и выдачи (чтения) информ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43280" y="1773000"/>
            <a:ext cx="431640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Внешня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бор устройств для долговременного хранения  информ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007d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есткий магнитный диск (винчестер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007d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исковод для гибких магнитных дисков (дискет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007d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исковод для оптических дисков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D-Rom, DVD-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иск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007d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ругие (стримеры, магнитооптические устройства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ash-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рты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1T11:28:32Z</dcterms:created>
  <dc:creator>Alex</dc:creator>
  <dc:description/>
  <dc:language>en-US</dc:language>
  <cp:lastModifiedBy>Alex</cp:lastModifiedBy>
  <dcterms:modified xsi:type="dcterms:W3CDTF">2009-04-27T15:14:03Z</dcterms:modified>
  <cp:revision>3</cp:revision>
  <dc:subject/>
  <dc:title>Домашнее задание</dc:title>
</cp:coreProperties>
</file>