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5DC-C751-4C39-9538-6B4E419B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2B8-A783-4437-8BD8-3DBD900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E12-BC08-4B79-BF94-DAD876A4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FC1-1398-4005-BDE3-19EDA1B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18DA-96AD-41C3-8981-0E20A7D5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030-DC0C-4659-A1F9-EC6BD1B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C72-BDD9-40F0-AA3E-36F66E7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85F0-88D8-4BCF-9FF1-732AE087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724-EF9A-4E1F-8551-31BADF0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B36C-8671-469B-8DF3-374C48E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8407-8DD6-4A70-B623-ED607C3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261-9DCD-42C1-8DCC-807248AD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3CAA-1D3C-483D-BF40-810263E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7F1-EC49-40C7-8300-30A5AE8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E505-FFB1-4860-9750-2B14E20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0EB-B8B8-4D9C-8C5F-72F888A4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3C9D-301D-472A-A360-32A3BAF7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6A7-B5B3-4848-88EE-B7D59210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948-1B76-4CF7-B93B-E33CD95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16C-755E-4CF3-9BD5-DF5EE79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92C-3DBB-46F8-8FA1-831CAFB9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C41-6AFD-40E7-BAAA-FD0CBC8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918-5DA6-4FD5-9EBB-7E1EA79D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EAC-CDE0-4B20-A85B-7C4B947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8EA-28EC-4E60-BCBD-73221F3AAB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57E-B28A-4DF4-A50D-D68005CA87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81080" y="1268280"/>
            <a:ext cx="66232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дирование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21300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бник «Информатика 8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прос 3 стр.74-77, 104-1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бник «Информатика 9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прос 4 стр.10-21, 42-4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57340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втор: Кузьмина Ю.С., учитель информатики МОУ СОШ №13 Великого Новгоро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ответствие систем счис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2781360"/>
          <a:ext cx="8569080" cy="1339920"/>
        </p:xfrm>
        <a:graphic>
          <a:graphicData uri="http://schemas.openxmlformats.org/drawingml/2006/table">
            <a:tbl>
              <a:tblPr/>
              <a:tblGrid>
                <a:gridCol w="1368360"/>
                <a:gridCol w="900000"/>
                <a:gridCol w="900360"/>
                <a:gridCol w="900000"/>
                <a:gridCol w="900000"/>
                <a:gridCol w="900000"/>
                <a:gridCol w="900360"/>
                <a:gridCol w="900000"/>
                <a:gridCol w="90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сят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во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4724280"/>
          <a:ext cx="8569080" cy="1339920"/>
        </p:xfrm>
        <a:graphic>
          <a:graphicData uri="http://schemas.openxmlformats.org/drawingml/2006/table">
            <a:tbl>
              <a:tblPr/>
              <a:tblGrid>
                <a:gridCol w="1368360"/>
                <a:gridCol w="799920"/>
                <a:gridCol w="800280"/>
                <a:gridCol w="799920"/>
                <a:gridCol w="800280"/>
                <a:gridCol w="799920"/>
                <a:gridCol w="800280"/>
                <a:gridCol w="799920"/>
                <a:gridCol w="800280"/>
                <a:gridCol w="799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сят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во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звернутая форма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-тичных чисе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768996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ссмотрим примеры представления чисел в 10-тичной системе счисления в развернут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03280" y="4869000"/>
                <a:ext cx="7309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8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03280" y="3789360"/>
                <a:ext cx="672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8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еревод из двоичной системы счисления в десятичную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042920" y="2637000"/>
                <a:ext cx="750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900000" y="5169960"/>
            <a:ext cx="929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0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6 + 4 + 2 +1 = 2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3860640"/>
                <a:ext cx="7842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0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еревод из 10-тичной системы счисления в 2-ичную целых чисе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2491920"/>
            <a:ext cx="76932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10011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26920" y="3500280"/>
          <a:ext cx="7561080" cy="2592360"/>
        </p:xfrm>
        <a:graphic>
          <a:graphicData uri="http://schemas.openxmlformats.org/drawingml/2006/table">
            <a:tbl>
              <a:tblPr/>
              <a:tblGrid>
                <a:gridCol w="2521440"/>
                <a:gridCol w="2518200"/>
                <a:gridCol w="252144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-тичн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ите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аток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V="1">
            <a:off x="6732720" y="3933720"/>
            <a:ext cx="0" cy="1727280"/>
          </a:xfrm>
          <a:prstGeom prst="line">
            <a:avLst/>
          </a:prstGeom>
          <a:ln w="255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евод целых чисел в двоичную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у счисления 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10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= 100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10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=1000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43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10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= 111001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6480" y="3984480"/>
          <a:ext cx="4525920" cy="6494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4560"/>
                <a:gridCol w="754200"/>
                <a:gridCol w="754200"/>
                <a:gridCol w="754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03560" y="5226120"/>
          <a:ext cx="5322960" cy="650880"/>
        </p:xfrm>
        <a:graphic>
          <a:graphicData uri="http://schemas.openxmlformats.org/drawingml/2006/table">
            <a:tbl>
              <a:tblPr/>
              <a:tblGrid>
                <a:gridCol w="665280"/>
                <a:gridCol w="665280"/>
                <a:gridCol w="665280"/>
                <a:gridCol w="665640"/>
                <a:gridCol w="665280"/>
                <a:gridCol w="665280"/>
                <a:gridCol w="665280"/>
                <a:gridCol w="66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2276640"/>
          <a:ext cx="3809880" cy="7905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3348000" y="3284640"/>
            <a:ext cx="2952720" cy="0"/>
          </a:xfrm>
          <a:prstGeom prst="line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ние в тетра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Переведите в десятичную систему счисл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) 101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) 10111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Переведите в двоичную систему счисл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) 168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) 9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) 25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Переведите в десятичную систему счисл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) 111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) 10011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Переведите в двоичную систему счисл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) 150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) 7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) 35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468720" y="1052280"/>
            <a:ext cx="8304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одирование текстовой информации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воичное кодирование текстовой информ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чиная с 60-х годов, компьютеры все больше стали использовать для обработки текстовой информации и в настоящее время большая часть ПК в мире занято обработкой именно текстовой информ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адиционно для кодирования одного символа используется количество информации = 1 байту (1 байт = 8 битов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воичное кодирование текстовой информ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кодирования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дного символ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требуется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дин бай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нформ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читывая, что каждый бит принимает значение 1 или 0, получаем, что с помощью 1 байта можно закодировать 256 различных симво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=25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дир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едставление информации с помощью какого-либо языка называют кодировани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набор символов для представления информ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Кодирова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процесс представления информации в виде к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Длина код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количество знаков в к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воичное кодирование текстовой информ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дирование заключается в том, что каждому символу ставиться в соответствие уникальный двоичный код от 00000000 до 11111111 (или десятичный код от 0 до 255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ажно, что присвоение символу конкретного кода – это вопрос соглашения, которое фиксируется кодовой таблиц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аблица кодиров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блица, в которой всем символам компьютерного алфавита поставлены в соответствие порядковые номера (коды), называется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таблицей кодировк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разных типов ЭВМ используются различные кодировки. С распространением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 PC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ждународным стандартом стала таблица кодировки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C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erican Standart Code for Information Interchang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мериканский стандартный код для информационного обме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аблица кодировки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C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ндартной в этой таблице является только первая половина, т.е. символы с номерами от 0 (00000000) до 127 (0111111). Сюда входят буква латинского алфавита, цифры, знаки препинания, скобки и некоторые другие симво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тальные 128 кодов используются в разных вариантах. В русских кодировках размещаются символы русского алфави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астоящее время существует 5 разных кодовых таблиц для русских букв (КОИ8, СР1251, СР866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, ISO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астоящее время получил широкое распространение новый международный стандарт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code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который отводит на каждый символ два байта. С его помощью можно закодировать 65536 (2</a:t>
            </a:r>
            <a:r>
              <a:rPr b="0" lang="ru-RU" sz="2000" spc="-1" strike="noStrike" baseline="30000">
                <a:solidFill>
                  <a:srgbClr val="003366"/>
                </a:solidFill>
                <a:latin typeface="Arial"/>
              </a:rPr>
              <a:t>16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= 65536 ) различных символ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6418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ца стандартной част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CI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598320"/>
            <a:ext cx="8064360" cy="62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9640" y="549000"/>
            <a:ext cx="2266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Таблица расширенного кода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SCII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17360"/>
            <a:ext cx="6877080" cy="674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ратите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30472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ифры кодируются по стандарту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CI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двух случаях – при вводе-выводе и когда они встречаются в тексте. Если цифры участвуют в вычислениях, то осуществляется их преобразование в другой двоичных к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зьмем число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использовании в тексте каждая цифра будет представлена своим кодом в соответствии с таблицей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CI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В двоичной системе это –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00110101 00110111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использовании в вычислениях код этого числа будет получен по правилам перевода в двоичную систему и получим –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00111001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620640"/>
            <a:ext cx="1152720" cy="954000"/>
          </a:xfrm>
          <a:prstGeom prst="flowChartExtract">
            <a:avLst/>
          </a:prstGeom>
          <a:solidFill>
            <a:srgbClr val="33cc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6699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973080" y="90792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одирование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рафики и звука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дирование графической информ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вать и хранить графические объекты в компьютере можно двумя способами – как растровое или как векторное изображение. Для каждого типа изображений используется свой способ кодиро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76360" y="4581360"/>
            <a:ext cx="6118200" cy="1656000"/>
            <a:chOff x="1476360" y="4581360"/>
            <a:chExt cx="6118200" cy="1656000"/>
          </a:xfrm>
        </p:grpSpPr>
        <p:sp>
          <p:nvSpPr>
            <p:cNvPr id="175" name=""/>
            <p:cNvSpPr/>
            <p:nvPr/>
          </p:nvSpPr>
          <p:spPr>
            <a:xfrm>
              <a:off x="3492360" y="4581360"/>
              <a:ext cx="2519640" cy="64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ИЗОБРАЖЕНИЯ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76360" y="5661000"/>
              <a:ext cx="1727280" cy="576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РАСТРОВЫ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67280" y="5661000"/>
              <a:ext cx="1727280" cy="576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ВЕКТОРНЫ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771640" y="5302080"/>
              <a:ext cx="936720" cy="287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51640" y="5302080"/>
              <a:ext cx="936360" cy="287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дирование растровых изображе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469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ровое изображение представляет собой совокупность точек (пикселей) разных цвет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черно-белого изображения информационный объем одной точки равен одному биту (либо черная, либо белая – либо 1, либо 0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четырех цветного – 2 бит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8 цветов необходимо – 3 бит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16 цветов – 4 бит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256 цветов – 8 бит (1 бай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ветное изображение на экране монитора формируется за счет смешивания трех базовых цветов: красного, зеленого, синего. Т.н. модель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GB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ля получения богатой палитры базовым цветам могут быть заданы различные интенсив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 294 967 296 цветов (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rue Color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) – 32 бита (4 байта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508720" y="2637000"/>
          <a:ext cx="3429000" cy="33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637000"/>
                    <a:ext cx="3429000" cy="33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дирование векторных изображе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екторное изображение представляет собой совокупность графических примитивов (точка, отрезок, эллипс…). Каждый примитив описывается математическими формулами. Кодирование зависти от прикладной сре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35280" y="4653000"/>
            <a:ext cx="3889440" cy="1798560"/>
            <a:chOff x="3635280" y="4653000"/>
            <a:chExt cx="3889440" cy="1798560"/>
          </a:xfrm>
        </p:grpSpPr>
        <p:sp>
          <p:nvSpPr>
            <p:cNvPr id="187" name=""/>
            <p:cNvSpPr/>
            <p:nvPr/>
          </p:nvSpPr>
          <p:spPr>
            <a:xfrm>
              <a:off x="5580000" y="4653000"/>
              <a:ext cx="1944720" cy="1224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84720" y="4941720"/>
              <a:ext cx="216000" cy="142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2720" y="4941720"/>
              <a:ext cx="215640" cy="142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5084640"/>
              <a:ext cx="1151280" cy="623880"/>
            </a:xfrm>
            <a:custGeom>
              <a:avLst/>
              <a:gdLst/>
              <a:ahLst/>
              <a:rect l="l" t="t" r="r" b="b"/>
              <a:pathLst>
                <a:path w="725" h="393">
                  <a:moveTo>
                    <a:pt x="0" y="182"/>
                  </a:moveTo>
                  <a:cubicBezTo>
                    <a:pt x="98" y="287"/>
                    <a:pt x="196" y="393"/>
                    <a:pt x="317" y="363"/>
                  </a:cubicBezTo>
                  <a:cubicBezTo>
                    <a:pt x="438" y="333"/>
                    <a:pt x="664" y="53"/>
                    <a:pt x="725" y="0"/>
                  </a:cubicBezTo>
                </a:path>
              </a:pathLst>
            </a:custGeom>
            <a:noFill/>
            <a:ln w="5724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0000" y="5084640"/>
              <a:ext cx="151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эллипс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5280" y="5589720"/>
              <a:ext cx="15130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прямоугольник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67280" y="6093000"/>
              <a:ext cx="1512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кривая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932360" y="5084280"/>
              <a:ext cx="719280" cy="7308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148360" y="5157360"/>
              <a:ext cx="863640" cy="57636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148360" y="5084640"/>
              <a:ext cx="1511280" cy="64944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076720" y="5516640"/>
              <a:ext cx="1150920" cy="72072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воичная систе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наменитый немецкий ученый Г.В. Лейбниц предложил еще в XVII веке уникальную и простую систему счисления. «Вычисление с помощью двоек…, сведение чисел к простейшим началам (0 и 1)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егодня такой способ представления информации, с помощью языка содержащего два символа 0 и 1, широко используется  в технических устройств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воичное кодирование зву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вук – волна с непрерывно изменяющейся амплитудой и частотой. Чем больше амплитуда, тем он громче для человека, чем больше частота, тем выше то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процессе кодирования звукового сигнала производится его временная дискретизация – непрерывная волна разбивается на отдельные маленькие временные участ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чество двоичного кодирования звука определяется глубиной кодирования и частотой дискретиз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0" y="2349360"/>
          <a:ext cx="41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49360"/>
                    <a:ext cx="41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612720" y="90792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одирование чисел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дирование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записи информации о количестве объектов используются числа. Числа записываются с использование особых знаковых систем, которые называют системами счис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Система счислен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совокупность приемов и правил записи чисел с помощью определенного набора симво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зиционные и непозиционные системы счис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системы счислен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елятся на две большие групп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7280" y="2997360"/>
            <a:ext cx="6769080" cy="1150920"/>
            <a:chOff x="1187280" y="2997360"/>
            <a:chExt cx="6769080" cy="1150920"/>
          </a:xfrm>
        </p:grpSpPr>
        <p:sp>
          <p:nvSpPr>
            <p:cNvPr id="109" name=""/>
            <p:cNvSpPr/>
            <p:nvPr/>
          </p:nvSpPr>
          <p:spPr>
            <a:xfrm>
              <a:off x="1187280" y="3429000"/>
              <a:ext cx="295092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ПОЗИЦИОННЫЕ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87640" y="3429000"/>
              <a:ext cx="3168720" cy="719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НЕПОЗИЦИОННЫЕ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534760" y="2997360"/>
              <a:ext cx="647640" cy="35856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22760" y="2997360"/>
              <a:ext cx="432000" cy="35856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11280" y="4325760"/>
            <a:ext cx="360036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0,7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7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437000"/>
            <a:ext cx="36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имская непозиционная система счис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й распространенной из непозиционных систем счисления является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имска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качестве цифр используются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(1), V(5), X(10), L(50), C(100), D(500), M(1000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личина числа определяется как сумма или разность цифр в числе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Impact"/>
              </a:rPr>
              <a:t>MCMXCVIII = 1000+(1000-100)+(100-10)+5+1+1+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 1998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зиционные системы счис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естидесятер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т.е. в ней использовалось шестьдесят цифр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венадцатер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истема счис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сят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во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сьмер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естнадцатерич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истемы счис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ание системы счис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204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основанием системы счислени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3860640"/>
          <a:ext cx="8569080" cy="259272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75272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1:46:46Z</dcterms:created>
  <dc:creator>Alex</dc:creator>
  <dc:description/>
  <dc:language>en-US</dc:language>
  <cp:lastModifiedBy>Alex</cp:lastModifiedBy>
  <dcterms:modified xsi:type="dcterms:W3CDTF">2009-04-27T15:36:57Z</dcterms:modified>
  <cp:revision>12</cp:revision>
  <dc:subject/>
  <dc:title>Кодирование чисел</dc:title>
</cp:coreProperties>
</file>