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3EA8-F5B9-4C0D-9541-F4C0454B7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DF83-9F7F-42BF-A11F-1D57ED018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A424-36EB-4403-A661-9BFD0CB5B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EDAA-B61D-48FD-99F2-C5889E3BA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E44C-731E-4E51-9875-9E1D72FC2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3897-9F31-4DA6-BE90-7D24CE535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D39B-C5FF-486D-9369-95F75FAC6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11BF-A4FF-40EC-935A-49143DCED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A7CB-4867-4FB1-AADE-0C3205D9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7E61-32A4-4399-B59F-E8780FA2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0FAA-FFEA-4CBA-B4D3-4329C625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9E47-BE4B-4AE3-BC23-9DA608E0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656B12E-B211-4ABA-916F-56D2FF66F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Visual Bas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менные и операт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64000" y="5661000"/>
            <a:ext cx="352908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тор: Кузьмина Ю.С., учитель информатики МОУ СОШ №13 Великого Новгор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амостоятель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44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терпретат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 означает элемент управления – La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 означает свойство – Caption и ForeCol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244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мпилят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 означает элемент управления –TextB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 означает свойство –Name, BackCo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атематические операто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перац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тематическое действ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ож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чит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мно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елая часть от д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таток от д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^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зведение в степ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ияние (конкатенация) ст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атематические фун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ункц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йств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(n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звращает абсолютное значение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n(n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звращает арктангенс n в радиана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(n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звращает косинус угла n в радиан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(n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звращает константу е в степени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n(n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енерирует случайное число между 0 и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nd(n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звращает -1 , если n&lt;0; 0, если n=0; +1если n&gt;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(n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звращает синус угла n в радиан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qr(n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вадратный корень из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(n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образует числовое значение в стро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(n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звращает тангенс угла n в радиан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(n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образует строку в числов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еремен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елое со знаком (2 бай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инное целое (4 бай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щественное (4 бай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щественное с двойной точностью (8 бай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роткое целое без знака (1 бай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роковый (255 по умолчанию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огический (1 бай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ез типа (не определяется тип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ператор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1. Описание переменно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Имя_переменной&gt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Имя_типа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m i As Integer 'объявляется переменная i целого ти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Глобальные переменны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описываются несколькими процедур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Локальные переменны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перекрывают глоба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2. Оператор присваив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имя_переменной&gt; = &lt;выражение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а=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3. Ввод и вывод данны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&lt;выражение&gt;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Print a, b,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переменная&gt;=InputBox (“коментарий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а=Input (“Введите значение а: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перато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4. Условный опера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условие&gt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группа операт. 1&gt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группа операт. 2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5. Оператор цик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А) «дл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перем. цикла&gt; =&lt;нач. значение&gt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конеч. значение&gt;_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[Ste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имя&gt;] &lt;группа операт.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ex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переменная цикла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) «по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условие&gt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группа операторов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хождение количество вхождений в масси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8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vate Sub Command1_Click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m a(100) As Dou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m s As Dou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m n, k As Inte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 = Val(Text2.Tex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i = 1 To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(i) = InputBox(«введите элемент массива"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1.Text = Text1.Text + Str(a(i)) + " 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= s + a(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xt 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i = 1 To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a(i) &gt; s / n Then k = k +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xt 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3.Caption = Str(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 Su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1280" y="1916280"/>
            <a:ext cx="3673440" cy="30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340000" y="3284640"/>
            <a:ext cx="79200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актическая работа «Пчел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1844640"/>
            <a:ext cx="3166920" cy="29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11280" y="3860640"/>
            <a:ext cx="505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32000" y="3860640"/>
            <a:ext cx="576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2276640"/>
            <a:ext cx="1008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б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08000" y="3357720"/>
            <a:ext cx="43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\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79640" y="4365720"/>
            <a:ext cx="36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26920" y="2133720"/>
            <a:ext cx="136872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ису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</cp:lastModifiedBy>
  <dcterms:modified xsi:type="dcterms:W3CDTF">2009-04-27T15:37:37Z</dcterms:modified>
  <cp:revision>2</cp:revision>
  <dc:subject/>
  <dc:title>Visual Basic</dc:title>
</cp:coreProperties>
</file>