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A12-29EA-4378-B7A3-1C2663B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8E9-91A9-48F9-8011-93F08EF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F0E-422B-4B7C-A90E-E5B16308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6C9-49AF-4680-9B0D-CB3ABB55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A695-6CC4-4F1B-B32B-FBB659B7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80A5-C749-42FE-92B7-3FD5256C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EF84-52AF-4F41-B7A9-A085B480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97C-8B22-487A-BACA-71DF1ED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9175-D3C7-45A0-95FD-6422228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3AAD-7E90-4BFE-9B81-B307F15E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C91B-574C-4C34-9129-386575D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AB5-B654-4455-AB0B-397A3000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D2DC-6FDC-403F-BB38-4B60B8C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48F4-0F9C-40E0-8848-EA398B8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1380-8EF6-4AC7-8D7F-340A6FD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A08B-7DB4-4398-81F4-D35CF930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DF86-CA16-4580-811E-CF814D6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07E-187A-4CD2-A3B6-AB6B024E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F7-2033-42C3-9EDB-4AD175A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A8D-D12D-49FE-929A-CE5CD54E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308-B081-45AB-8CC2-A869578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3A8-35C4-480E-B235-138FAD0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3D4C-EF6C-4C3F-8819-6ABB82C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FE9-C525-4F5E-AC7D-8267E01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F9E6-54F7-4344-BBBA-CEBBBBE17A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0C18-5908-4EAB-8A56-A0208E2B357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c2b"/>
                </a:solidFill>
                <a:latin typeface="Times New Roman"/>
              </a:rPr>
              <a:t>Окружающий мир как иерархическая система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522936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Автор: Кузьмина Ю.С.,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учитель информатики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ОУ СОШ №13 Великого Новгород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8900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ОБРАЗНО-ЗНАКОВЫЕ МОДЕЛ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868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Мысленная модел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мысленный образ моделируемого объекта в памяти человек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раз любимого человека в памяти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раз комнаты в памяти человека, живущего в ней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Документальная модел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то описание или изображение моделируемого объекта на бумаге, картоне или другом плоском носител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фотография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артина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арта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писание главного героя в художественном произведен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Компьютерная модел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это описание или изображение моделируемого объекта в памяти компьютер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мпьютерные игры;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компьютерный исполнитель «Чертежник», «Робот».</a:t>
            </a:r>
            <a:r>
              <a:rPr b="0" lang="ru-RU" sz="19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19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8864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ВИДЫ МОДЕЛЕЙ В ЗАВИСИМОСТИ ОТ ВРЕМЕН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3809880"/>
            <a:ext cx="3581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динамические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заводные игрушки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статические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глобус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мягкие игрушки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учебник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05320" y="4114800"/>
          <a:ext cx="205740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4114800"/>
                    <a:ext cx="20574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962520" y="5486400"/>
            <a:ext cx="936360" cy="96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0880" y="167652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Если модель учитывает изменение свойств моделируемого объекта от времени, то модель называется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динамической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в противном случае </a:t>
            </a: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статической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05520" y="1828800"/>
          <a:ext cx="3803400" cy="20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828800"/>
                    <a:ext cx="3803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8864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</a:rPr>
              <a:t>ВИДЫ МОДЕЛЕЙ В ЗАВИСИМОСТИ ОТ ВНЕШНИХ РАЗМЕРОВ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Times New Roman"/>
              </a:rPr>
              <a:t>Модель называется </a:t>
            </a:r>
            <a:r>
              <a:rPr b="1" lang="en-US" sz="2300" spc="-1" strike="noStrike" u="sng">
                <a:solidFill>
                  <a:srgbClr val="333333"/>
                </a:solidFill>
                <a:uFillTx/>
                <a:latin typeface="Times New Roman"/>
              </a:rPr>
              <a:t>масштабной</a:t>
            </a:r>
            <a:r>
              <a:rPr b="0" lang="en-US" sz="23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333333"/>
                </a:solidFill>
                <a:latin typeface="Times New Roman"/>
              </a:rPr>
              <a:t> если она получена путем увеличения или уменьшения внешних размеров моделируемого объекта и </a:t>
            </a:r>
            <a:r>
              <a:rPr b="1" lang="en-US" sz="2300" spc="-1" strike="noStrike" u="sng">
                <a:solidFill>
                  <a:srgbClr val="333333"/>
                </a:solidFill>
                <a:uFillTx/>
                <a:latin typeface="Times New Roman"/>
              </a:rPr>
              <a:t>немасштабной</a:t>
            </a:r>
            <a:r>
              <a:rPr b="0" lang="en-US" sz="2300" spc="-1" strike="noStrike">
                <a:solidFill>
                  <a:srgbClr val="333333"/>
                </a:solidFill>
                <a:latin typeface="Times New Roman"/>
              </a:rPr>
              <a:t>, если внешние размеры модели не отражают внешних размеров моделируемого объекта.</a:t>
            </a: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333333"/>
                </a:solidFill>
                <a:latin typeface="Times New Roman"/>
              </a:rPr>
              <a:t>Примеры:</a:t>
            </a: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Масштабные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глобус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акет скелет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чертеж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карт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Немасштабные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кукла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детский рисунок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352680" y="3449520"/>
          <a:ext cx="4876920" cy="26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449520"/>
                    <a:ext cx="48769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ВИДЫ МОДЕЛЕЙ ПО ОТРАСЛЯМ ЗНАНИЙ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Если модель относится к какой-либо отрасли  знаний, то её называют соответственно. Если модель не относится ни к какой отрасли знаний, то ее называют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простейше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простейшие (игрушки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атематическая (уравнение нахождения скорости поезда, времени, пути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географическая (глобус, карта, план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химическая (модель атома кислорода, углерода, формула химической реакции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657760" y="1828800"/>
          <a:ext cx="3322800" cy="419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7760" y="1828800"/>
                    <a:ext cx="3322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Учебник стр. 117-12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Запишите в тетрадь не менее 3 примеров моделирования в различных областях деятельности и укажите их особенност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Запишите отличительные особенности 2-х классов моделей: материальных и информационных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Учебник стр. 271-272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Приближенное решение уравнения графическим методо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8381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Модел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Моделиров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Адекватность модел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ризнаки, по которым модели разделятся на вид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иды моделей по форме представлени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иды моделей в зависимости от времен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иды моделей в зависимости от внешних размер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3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иды моделей по отраслям знани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Микро-, Макро-, Мегамир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23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Микроми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Элементарные частиц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Молекул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Times New Roman"/>
              </a:rPr>
              <a:t>Атомы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989000"/>
            <a:ext cx="331128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Макромир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Неживые (камень, льдина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Живые (дерево, человек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Искусственные (машины, станки, ПК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88000" y="1989000"/>
            <a:ext cx="237492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Мегами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лнечная систем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Галактик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селенная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c2b"/>
                </a:solidFill>
                <a:latin typeface="Times New Roman"/>
              </a:rPr>
              <a:t>Иерархическая систе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87700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14972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3284640"/>
            <a:ext cx="1584360" cy="576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34936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48428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429264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242100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3357720"/>
            <a:ext cx="1584360" cy="576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42100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357720"/>
            <a:ext cx="1584360" cy="57600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226920" y="299772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7381080" y="2995920"/>
            <a:ext cx="1584360" cy="576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332000" y="558972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58920" y="472428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58920" y="3860280"/>
            <a:ext cx="0" cy="28764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58920" y="292428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58920" y="206064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3645000"/>
            <a:ext cx="2876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437000"/>
            <a:ext cx="2876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4720" y="3213000"/>
            <a:ext cx="28728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3141720"/>
            <a:ext cx="28728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3573360"/>
            <a:ext cx="28728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19640" y="299736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99736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48000" y="3933720"/>
            <a:ext cx="0" cy="28728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2637000"/>
            <a:ext cx="0" cy="1008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9140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333333"/>
                </a:solidFill>
                <a:latin typeface="Times New Roman"/>
              </a:rPr>
              <a:t>МОДЕЛИ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333333"/>
                </a:solidFill>
                <a:latin typeface="Times New Roman"/>
              </a:rPr>
              <a:t>МОДЕЛИРОВАНИЕ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4818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3090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33"/>
                </a:solidFill>
                <a:uFillTx/>
                <a:latin typeface="Times New Roman"/>
              </a:rPr>
              <a:t>Модель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это объект, который рассматривается вместо другого объекта с какой-то целью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 МОДЕЛЕЙ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имитация (повторение) реального объекта в уменьшенном масштабе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глобус (модель земного шара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плюшевый мишка (модель живого медведя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кукла (модель живого человека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игрушечные машинки (модели реальных автомобилей)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реальные объекты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ладонь человека (модель самолета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животные в медицинских исследованиях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радиотехническая схема (модель сердца человека)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Symbol" charset="2"/>
              <a:buChar char="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бассейн (модель космоса)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9752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4c2b"/>
                </a:solidFill>
                <a:uFillTx/>
                <a:latin typeface="Arial"/>
              </a:rPr>
              <a:t>НЕОБХОДИМОСТЬ</a:t>
            </a:r>
            <a:r>
              <a:rPr b="1" lang="en-US" sz="3400" spc="-1" strike="noStrike" u="sng">
                <a:solidFill>
                  <a:srgbClr val="004c2b"/>
                </a:solidFill>
                <a:uFillTx/>
                <a:latin typeface="Arial"/>
              </a:rPr>
              <a:t> </a:t>
            </a:r>
            <a:br>
              <a:rPr sz="3400"/>
            </a:br>
            <a:r>
              <a:rPr b="1" lang="en-US" sz="3800" spc="-1" strike="noStrike" u="sng">
                <a:solidFill>
                  <a:srgbClr val="004c2b"/>
                </a:solidFill>
                <a:uFillTx/>
                <a:latin typeface="Arial"/>
              </a:rPr>
              <a:t>СОЗДАНИЯ</a:t>
            </a:r>
            <a:r>
              <a:rPr b="1" lang="en-US" sz="3400" spc="-1" strike="noStrike" u="sng">
                <a:solidFill>
                  <a:srgbClr val="004c2b"/>
                </a:solidFill>
                <a:uFillTx/>
                <a:latin typeface="Arial"/>
              </a:rPr>
              <a:t> </a:t>
            </a:r>
            <a:r>
              <a:rPr b="1" lang="en-US" sz="3800" spc="-1" strike="noStrike" u="sng">
                <a:solidFill>
                  <a:srgbClr val="004c2b"/>
                </a:solidFill>
                <a:uFillTx/>
                <a:latin typeface="Arial"/>
              </a:rPr>
              <a:t>МОДЕЛЕЙ</a:t>
            </a:r>
            <a:endParaRPr b="0" lang="en-US" sz="3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610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сохранения жизни и здоровья человек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Уменьшение затрат  материальных средст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понимания сущности изучаемого объек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того, чтобы научиться управлять объекто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Прогнозирование последстви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отдых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решения прикладных задач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c2b"/>
                </a:solidFill>
                <a:uFillTx/>
                <a:latin typeface="Arial"/>
              </a:rPr>
              <a:t>МОДЕЛИРОВАНИЕ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33"/>
                </a:solidFill>
                <a:uFillTx/>
                <a:latin typeface="Times New Roman"/>
              </a:rPr>
              <a:t>Моделирование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– это метод познания, состоящий в создании и исследовании моделей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3610080"/>
            <a:ext cx="2274840" cy="2274840"/>
          </a:xfrm>
          <a:prstGeom prst="rect">
            <a:avLst/>
          </a:prstGeom>
          <a:ln w="0">
            <a:noFill/>
          </a:ln>
        </p:spPr>
      </p:pic>
      <p:sp>
        <p:nvSpPr>
          <p:cNvPr id="125" name="phone3"/>
          <p:cNvSpPr/>
          <p:nvPr/>
        </p:nvSpPr>
        <p:spPr>
          <a:xfrm>
            <a:off x="7093080" y="5157720"/>
            <a:ext cx="1380960" cy="12366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32720" y="2997360"/>
            <a:ext cx="1800000" cy="175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03640" y="3573360"/>
            <a:ext cx="269856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</a:rPr>
              <a:t>АДЕКВАТНОСТЬ МОДЕЛЕЙ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5238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33"/>
                </a:solidFill>
                <a:uFillTx/>
                <a:latin typeface="Times New Roman"/>
              </a:rPr>
              <a:t>Адекватность</a:t>
            </a: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 - степень совпадения свойств модели и моделируемого объекта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14600" y="2666880"/>
          <a:ext cx="4572000" cy="21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666880"/>
                    <a:ext cx="4572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19320" y="5029200"/>
            <a:ext cx="6933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Times New Roman"/>
              </a:rPr>
              <a:t>Модель также может быть НЕ АДЕКВАТНОЙ. Это значит, что модель не соответствует тому объекту, который она заменяе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Arial"/>
              </a:rPr>
              <a:t>ВИДЫ МОДЕЛЕЙ В ЗАВИСИМОСТИ ОТ ФОРМЫ ПРЕДСТАВЛЕНИЯ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4419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одель называется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едметной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если эта модель является объемным предмет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глобус; скелет человека;  детские игрушк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Модель называется </a:t>
            </a:r>
            <a:r>
              <a:rPr b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образно-знаковой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если эта модель является описанием моделируемого объекта в виде образов и знаков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Примеры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фотография; учебник географии; картина; компьютерная игра; описание человека в художественном произведении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15960" y="1378080"/>
          <a:ext cx="8215200" cy="28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960" y="1378080"/>
                    <a:ext cx="82152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11:31:52Z</dcterms:created>
  <dc:creator>Куценкова Людмила Альфредовна</dc:creator>
  <dc:description/>
  <dc:language>en-US</dc:language>
  <cp:lastModifiedBy>Alex</cp:lastModifiedBy>
  <cp:lastPrinted>2000-04-15T05:15:54Z</cp:lastPrinted>
  <dcterms:modified xsi:type="dcterms:W3CDTF">2009-04-27T15:38:47Z</dcterms:modified>
  <cp:revision>35</cp:revision>
  <dc:subject/>
  <dc:title>ЛЕКЦИЯ №1.</dc:title>
</cp:coreProperties>
</file>