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7.gif" ContentType="image/gif"/>
  <Override PartName="/ppt/media/image12.png" ContentType="image/png"/>
  <Override PartName="/ppt/media/image10.png" ContentType="image/png"/>
  <Override PartName="/ppt/media/image5.png" ContentType="image/png"/>
  <Override PartName="/ppt/media/image23.gif" ContentType="image/gi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6.gif" ContentType="image/gif"/>
  <Override PartName="/ppt/media/image1.wmf" ContentType="image/x-wmf"/>
  <Override PartName="/ppt/media/image20.gif" ContentType="image/gif"/>
  <Override PartName="/ppt/media/image18.gif" ContentType="image/gif"/>
  <Override PartName="/ppt/media/image3.wmf" ContentType="image/x-wmf"/>
  <Override PartName="/ppt/media/image15.wmf" ContentType="image/x-wmf"/>
  <Override PartName="/ppt/media/image14.png" ContentType="image/png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8B7F-1AF6-4A3D-85D6-FCAD1E394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7131-E835-41A2-96B1-246F1D5E8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D9CC-C460-40B6-A4EA-35976E894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D126-7456-4833-BD68-D5931DAA3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CA8B-2788-4B03-9643-838C86995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8072-1C6C-4929-862F-3F4FF3C9C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FA1D-D23D-48F1-AFD9-9AC98AEB6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78D1-F964-48F8-98A6-428FEB9F1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4803-A161-409C-9A90-E7188D61D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A275-E8B3-4433-B6FC-64720540C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1432-3F22-4033-94D9-722A80DE0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A861-10AD-4E98-9250-E9D0E110B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EB9D4-3E44-4C40-A268-9370341852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5.wm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18.xml"/><Relationship Id="rId4" Type="http://schemas.openxmlformats.org/officeDocument/2006/relationships/slide" Target="slide19.xml"/><Relationship Id="rId5" Type="http://schemas.openxmlformats.org/officeDocument/2006/relationships/slide" Target="slide21.xml"/><Relationship Id="rId6" Type="http://schemas.openxmlformats.org/officeDocument/2006/relationships/slide" Target="slide22.xml"/><Relationship Id="rId7" Type="http://schemas.openxmlformats.org/officeDocument/2006/relationships/slide" Target="slide24.xml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.xml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" Target="slide2.xml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3.xml"/><Relationship Id="rId12" Type="http://schemas.openxmlformats.org/officeDocument/2006/relationships/slide" Target="slide14.xml"/><Relationship Id="rId13" Type="http://schemas.openxmlformats.org/officeDocument/2006/relationships/slide" Target="slide15.xml"/><Relationship Id="rId14" Type="http://schemas.openxmlformats.org/officeDocument/2006/relationships/slide" Target="slide16.xml"/><Relationship Id="rId15" Type="http://schemas.openxmlformats.org/officeDocument/2006/relationships/slide" Target="slide17.xml"/><Relationship Id="rId16" Type="http://schemas.openxmlformats.org/officeDocument/2006/relationships/slide" Target="slide2.xml"/><Relationship Id="rId17" Type="http://schemas.openxmlformats.org/officeDocument/2006/relationships/image" Target="../media/image5.png"/><Relationship Id="rId1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15640" y="620640"/>
            <a:ext cx="73407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99"/>
                </a:solidFill>
                <a:latin typeface="Arial"/>
              </a:rPr>
              <a:t>Урок русского языка во 2 класс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2852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Arial"/>
              </a:rPr>
              <a:t>«Предложение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" action="ppaction://hlinkshowjump?jump=nextslide"/>
          </p:cNvPr>
          <p:cNvSpPr/>
          <p:nvPr/>
        </p:nvSpPr>
        <p:spPr>
          <a:xfrm>
            <a:off x="8244000" y="6308640"/>
            <a:ext cx="610920" cy="250920"/>
          </a:xfrm>
          <a:custGeom>
            <a:avLst/>
            <a:gdLst>
              <a:gd name="textAreaLeft" fmla="*/ 16200 w 610920"/>
              <a:gd name="textAreaRight" fmla="*/ 594720 w 610920"/>
              <a:gd name="textAreaTop" fmla="*/ 16200 h 250920"/>
              <a:gd name="textAreaBottom" fmla="*/ 234720 h 250920"/>
            </a:gdLst>
            <a:ahLst/>
            <a:rect l="textAreaLeft" t="textAreaTop" r="textAreaRight" b="textAreaBottom"/>
            <a:pathLst>
              <a:path w="52546" h="21600">
                <a:moveTo>
                  <a:pt x="0" y="0"/>
                </a:moveTo>
                <a:lnTo>
                  <a:pt x="52546" y="0"/>
                </a:lnTo>
                <a:lnTo>
                  <a:pt x="52546" y="21600"/>
                </a:lnTo>
                <a:lnTo>
                  <a:pt x="0" y="21600"/>
                </a:lnTo>
                <a:close/>
              </a:path>
              <a:path fill="lightenLess" w="52546" h="21600">
                <a:moveTo>
                  <a:pt x="0" y="0"/>
                </a:moveTo>
                <a:lnTo>
                  <a:pt x="52546" y="0"/>
                </a:lnTo>
                <a:lnTo>
                  <a:pt x="51146" y="1400"/>
                </a:lnTo>
                <a:lnTo>
                  <a:pt x="1400" y="1400"/>
                </a:lnTo>
                <a:close/>
              </a:path>
              <a:path fill="darken" w="52546" h="21600">
                <a:moveTo>
                  <a:pt x="52546" y="0"/>
                </a:moveTo>
                <a:lnTo>
                  <a:pt x="52546" y="21600"/>
                </a:lnTo>
                <a:lnTo>
                  <a:pt x="51146" y="20200"/>
                </a:lnTo>
                <a:lnTo>
                  <a:pt x="51146" y="1400"/>
                </a:lnTo>
                <a:close/>
              </a:path>
              <a:path fill="darkenLess" w="52546" h="21600">
                <a:moveTo>
                  <a:pt x="525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146" y="20200"/>
                </a:lnTo>
                <a:close/>
              </a:path>
              <a:path fill="lighten" w="525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546" h="21600">
                <a:moveTo>
                  <a:pt x="19266" y="3794"/>
                </a:moveTo>
                <a:lnTo>
                  <a:pt x="33279" y="10800"/>
                </a:lnTo>
                <a:lnTo>
                  <a:pt x="19266" y="17806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276720" y="4149720"/>
            <a:ext cx="2735280" cy="2013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50920" y="1700280"/>
            <a:ext cx="2268360" cy="2239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020000" y="1413000"/>
            <a:ext cx="107136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7921800" cy="43498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769040" y="5300640"/>
            <a:ext cx="67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зображение домашних животных у племени майя. 6 в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>
            <a:hlinkClick r:id="rId2" action="ppaction://hlinksldjump"/>
          </p:cNvPr>
          <p:cNvSpPr/>
          <p:nvPr/>
        </p:nvSpPr>
        <p:spPr>
          <a:xfrm>
            <a:off x="7164360" y="6381720"/>
            <a:ext cx="719280" cy="258840"/>
          </a:xfrm>
          <a:custGeom>
            <a:avLst/>
            <a:gdLst>
              <a:gd name="textAreaLeft" fmla="*/ 16560 w 719280"/>
              <a:gd name="textAreaRight" fmla="*/ 702720 w 719280"/>
              <a:gd name="textAreaTop" fmla="*/ 16560 h 258840"/>
              <a:gd name="textAreaBottom" fmla="*/ 242280 h 258840"/>
            </a:gdLst>
            <a:ahLst/>
            <a:rect l="textAreaLeft" t="textAreaTop" r="textAreaRight" b="textAreaBottom"/>
            <a:pathLst>
              <a:path w="59970" h="21600">
                <a:moveTo>
                  <a:pt x="0" y="0"/>
                </a:moveTo>
                <a:lnTo>
                  <a:pt x="59970" y="0"/>
                </a:lnTo>
                <a:lnTo>
                  <a:pt x="59970" y="21600"/>
                </a:lnTo>
                <a:lnTo>
                  <a:pt x="0" y="21600"/>
                </a:lnTo>
                <a:close/>
              </a:path>
              <a:path fill="lightenLess" w="59970" h="21600">
                <a:moveTo>
                  <a:pt x="0" y="0"/>
                </a:moveTo>
                <a:lnTo>
                  <a:pt x="59970" y="0"/>
                </a:lnTo>
                <a:lnTo>
                  <a:pt x="58570" y="1400"/>
                </a:lnTo>
                <a:lnTo>
                  <a:pt x="1400" y="1400"/>
                </a:lnTo>
                <a:close/>
              </a:path>
              <a:path fill="darken" w="59970" h="21600">
                <a:moveTo>
                  <a:pt x="59970" y="0"/>
                </a:moveTo>
                <a:lnTo>
                  <a:pt x="59970" y="21600"/>
                </a:lnTo>
                <a:lnTo>
                  <a:pt x="58570" y="20200"/>
                </a:lnTo>
                <a:lnTo>
                  <a:pt x="58570" y="1400"/>
                </a:lnTo>
                <a:close/>
              </a:path>
              <a:path fill="darkenLess" w="59970" h="21600">
                <a:moveTo>
                  <a:pt x="599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70" y="20200"/>
                </a:lnTo>
                <a:close/>
              </a:path>
              <a:path fill="lighten" w="599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970" h="21600">
                <a:moveTo>
                  <a:pt x="22979" y="7493"/>
                </a:moveTo>
                <a:lnTo>
                  <a:pt x="26486" y="7493"/>
                </a:lnTo>
                <a:lnTo>
                  <a:pt x="26486" y="12828"/>
                </a:lnTo>
                <a:cubicBezTo>
                  <a:pt x="26486" y="13751"/>
                  <a:pt x="27287" y="14482"/>
                  <a:pt x="28323" y="14482"/>
                </a:cubicBezTo>
                <a:lnTo>
                  <a:pt x="29985" y="14482"/>
                </a:lnTo>
                <a:cubicBezTo>
                  <a:pt x="31021" y="14482"/>
                  <a:pt x="31821" y="13751"/>
                  <a:pt x="31821" y="12828"/>
                </a:cubicBezTo>
                <a:lnTo>
                  <a:pt x="31821" y="7493"/>
                </a:lnTo>
                <a:lnTo>
                  <a:pt x="29985" y="7493"/>
                </a:lnTo>
                <a:lnTo>
                  <a:pt x="33493" y="3985"/>
                </a:lnTo>
                <a:lnTo>
                  <a:pt x="37166" y="7493"/>
                </a:lnTo>
                <a:lnTo>
                  <a:pt x="35329" y="7493"/>
                </a:lnTo>
                <a:lnTo>
                  <a:pt x="35329" y="12828"/>
                </a:lnTo>
                <a:cubicBezTo>
                  <a:pt x="35329" y="15596"/>
                  <a:pt x="32753" y="18155"/>
                  <a:pt x="29985" y="18155"/>
                </a:cubicBezTo>
                <a:lnTo>
                  <a:pt x="28323" y="18155"/>
                </a:lnTo>
                <a:cubicBezTo>
                  <a:pt x="25555" y="18155"/>
                  <a:pt x="22979" y="15596"/>
                  <a:pt x="22979" y="12828"/>
                </a:cubicBez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>
            <a:hlinkClick r:id="" action="ppaction://hlinkshowjump?jump=nextslide"/>
          </p:cNvPr>
          <p:cNvSpPr/>
          <p:nvPr/>
        </p:nvSpPr>
        <p:spPr>
          <a:xfrm>
            <a:off x="7885080" y="6381720"/>
            <a:ext cx="790560" cy="260280"/>
          </a:xfrm>
          <a:custGeom>
            <a:avLst/>
            <a:gdLst>
              <a:gd name="textAreaLeft" fmla="*/ 16560 w 790560"/>
              <a:gd name="textAreaRight" fmla="*/ 774000 w 79056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65546" h="21600">
                <a:moveTo>
                  <a:pt x="0" y="0"/>
                </a:moveTo>
                <a:lnTo>
                  <a:pt x="65546" y="0"/>
                </a:lnTo>
                <a:lnTo>
                  <a:pt x="65546" y="21600"/>
                </a:lnTo>
                <a:lnTo>
                  <a:pt x="0" y="21600"/>
                </a:lnTo>
                <a:close/>
              </a:path>
              <a:path fill="lightenLess" w="65546" h="21600">
                <a:moveTo>
                  <a:pt x="0" y="0"/>
                </a:moveTo>
                <a:lnTo>
                  <a:pt x="65546" y="0"/>
                </a:lnTo>
                <a:lnTo>
                  <a:pt x="64146" y="1400"/>
                </a:lnTo>
                <a:lnTo>
                  <a:pt x="1400" y="1400"/>
                </a:lnTo>
                <a:close/>
              </a:path>
              <a:path fill="darken" w="65546" h="21600">
                <a:moveTo>
                  <a:pt x="65546" y="0"/>
                </a:moveTo>
                <a:lnTo>
                  <a:pt x="65546" y="21600"/>
                </a:lnTo>
                <a:lnTo>
                  <a:pt x="64146" y="20200"/>
                </a:lnTo>
                <a:lnTo>
                  <a:pt x="64146" y="1400"/>
                </a:lnTo>
                <a:close/>
              </a:path>
              <a:path fill="darkenLess" w="65546" h="21600">
                <a:moveTo>
                  <a:pt x="655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146" y="20200"/>
                </a:lnTo>
                <a:close/>
              </a:path>
              <a:path fill="lighten" w="655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546" h="21600">
                <a:moveTo>
                  <a:pt x="25766" y="3794"/>
                </a:moveTo>
                <a:lnTo>
                  <a:pt x="39779" y="10800"/>
                </a:lnTo>
                <a:lnTo>
                  <a:pt x="25766" y="17806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276720" y="620640"/>
            <a:ext cx="5614920" cy="4761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3600" y="2060640"/>
            <a:ext cx="320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оспись усыпальниц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вгуров. Эпизод бо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ладиаторов. Ок.540-530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о н.э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>
            <a:hlinkClick r:id="rId2" action="ppaction://hlinksldjump"/>
          </p:cNvPr>
          <p:cNvSpPr/>
          <p:nvPr/>
        </p:nvSpPr>
        <p:spPr>
          <a:xfrm>
            <a:off x="7308720" y="6165720"/>
            <a:ext cx="755640" cy="422280"/>
          </a:xfrm>
          <a:custGeom>
            <a:avLst/>
            <a:gdLst>
              <a:gd name="textAreaLeft" fmla="*/ 27360 w 755640"/>
              <a:gd name="textAreaRight" fmla="*/ 728280 w 75564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38637" h="21600">
                <a:moveTo>
                  <a:pt x="0" y="0"/>
                </a:moveTo>
                <a:lnTo>
                  <a:pt x="38637" y="0"/>
                </a:lnTo>
                <a:lnTo>
                  <a:pt x="38637" y="21600"/>
                </a:lnTo>
                <a:lnTo>
                  <a:pt x="0" y="21600"/>
                </a:lnTo>
                <a:close/>
              </a:path>
              <a:path fill="lightenLess" w="38637" h="21600">
                <a:moveTo>
                  <a:pt x="0" y="0"/>
                </a:moveTo>
                <a:lnTo>
                  <a:pt x="38637" y="0"/>
                </a:lnTo>
                <a:lnTo>
                  <a:pt x="37237" y="1400"/>
                </a:lnTo>
                <a:lnTo>
                  <a:pt x="1400" y="1400"/>
                </a:lnTo>
                <a:close/>
              </a:path>
              <a:path fill="darken" w="38637" h="21600">
                <a:moveTo>
                  <a:pt x="38637" y="0"/>
                </a:moveTo>
                <a:lnTo>
                  <a:pt x="38637" y="21600"/>
                </a:lnTo>
                <a:lnTo>
                  <a:pt x="37237" y="20200"/>
                </a:lnTo>
                <a:lnTo>
                  <a:pt x="37237" y="1400"/>
                </a:lnTo>
                <a:close/>
              </a:path>
              <a:path fill="darkenLess" w="38637" h="21600">
                <a:moveTo>
                  <a:pt x="386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37" y="20200"/>
                </a:lnTo>
                <a:close/>
              </a:path>
              <a:path fill="lighten" w="386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37" h="21600">
                <a:moveTo>
                  <a:pt x="12312" y="7493"/>
                </a:moveTo>
                <a:lnTo>
                  <a:pt x="15820" y="7493"/>
                </a:lnTo>
                <a:lnTo>
                  <a:pt x="15820" y="12828"/>
                </a:lnTo>
                <a:cubicBezTo>
                  <a:pt x="15820" y="13751"/>
                  <a:pt x="16620" y="14482"/>
                  <a:pt x="17656" y="14482"/>
                </a:cubicBezTo>
                <a:lnTo>
                  <a:pt x="19319" y="14482"/>
                </a:lnTo>
                <a:cubicBezTo>
                  <a:pt x="20354" y="14482"/>
                  <a:pt x="21155" y="13751"/>
                  <a:pt x="21155" y="12828"/>
                </a:cubicBezTo>
                <a:lnTo>
                  <a:pt x="21155" y="7493"/>
                </a:lnTo>
                <a:lnTo>
                  <a:pt x="19319" y="7493"/>
                </a:lnTo>
                <a:lnTo>
                  <a:pt x="22826" y="3985"/>
                </a:lnTo>
                <a:lnTo>
                  <a:pt x="26499" y="7493"/>
                </a:lnTo>
                <a:lnTo>
                  <a:pt x="24663" y="7493"/>
                </a:lnTo>
                <a:lnTo>
                  <a:pt x="24663" y="12828"/>
                </a:lnTo>
                <a:cubicBezTo>
                  <a:pt x="24663" y="15596"/>
                  <a:pt x="22086" y="18155"/>
                  <a:pt x="19319" y="18155"/>
                </a:cubicBezTo>
                <a:lnTo>
                  <a:pt x="17656" y="18155"/>
                </a:lnTo>
                <a:cubicBezTo>
                  <a:pt x="14888" y="18155"/>
                  <a:pt x="12312" y="15596"/>
                  <a:pt x="12312" y="12828"/>
                </a:cubicBezTo>
                <a:close/>
              </a:path>
            </a:pathLst>
          </a:cu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>
            <a:hlinkClick r:id="" action="ppaction://hlinkshowjump?jump=nextslide"/>
          </p:cNvPr>
          <p:cNvSpPr/>
          <p:nvPr/>
        </p:nvSpPr>
        <p:spPr>
          <a:xfrm>
            <a:off x="8101080" y="6165720"/>
            <a:ext cx="718920" cy="403200"/>
          </a:xfrm>
          <a:custGeom>
            <a:avLst/>
            <a:gdLst>
              <a:gd name="textAreaLeft" fmla="*/ 25920 w 718920"/>
              <a:gd name="textAreaRight" fmla="*/ 693000 w 71892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38498" h="21600">
                <a:moveTo>
                  <a:pt x="0" y="0"/>
                </a:moveTo>
                <a:lnTo>
                  <a:pt x="38498" y="0"/>
                </a:lnTo>
                <a:lnTo>
                  <a:pt x="38498" y="21600"/>
                </a:lnTo>
                <a:lnTo>
                  <a:pt x="0" y="21600"/>
                </a:lnTo>
                <a:close/>
              </a:path>
              <a:path fill="lightenLess" w="38498" h="21600">
                <a:moveTo>
                  <a:pt x="0" y="0"/>
                </a:moveTo>
                <a:lnTo>
                  <a:pt x="38498" y="0"/>
                </a:lnTo>
                <a:lnTo>
                  <a:pt x="37098" y="1400"/>
                </a:lnTo>
                <a:lnTo>
                  <a:pt x="1400" y="1400"/>
                </a:lnTo>
                <a:close/>
              </a:path>
              <a:path fill="darken" w="38498" h="21600">
                <a:moveTo>
                  <a:pt x="38498" y="0"/>
                </a:moveTo>
                <a:lnTo>
                  <a:pt x="38498" y="21600"/>
                </a:lnTo>
                <a:lnTo>
                  <a:pt x="37098" y="20200"/>
                </a:lnTo>
                <a:lnTo>
                  <a:pt x="37098" y="1400"/>
                </a:lnTo>
                <a:close/>
              </a:path>
              <a:path fill="darkenLess" w="38498" h="21600">
                <a:moveTo>
                  <a:pt x="38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98" y="20200"/>
                </a:lnTo>
                <a:close/>
              </a:path>
              <a:path fill="lighten" w="38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98" h="21600">
                <a:moveTo>
                  <a:pt x="12243" y="3794"/>
                </a:moveTo>
                <a:lnTo>
                  <a:pt x="26256" y="10800"/>
                </a:lnTo>
                <a:lnTo>
                  <a:pt x="12243" y="17806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187280" y="260280"/>
            <a:ext cx="6985080" cy="51847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768320" y="5710320"/>
            <a:ext cx="646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месте с бродячим жонглёром и фокусник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рабатывали на хлеб и дрессированные собаки. 15 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rId2" action="ppaction://hlinksldjump"/>
          </p:cNvPr>
          <p:cNvSpPr/>
          <p:nvPr/>
        </p:nvSpPr>
        <p:spPr>
          <a:xfrm>
            <a:off x="6948360" y="6381720"/>
            <a:ext cx="792360" cy="260280"/>
          </a:xfrm>
          <a:custGeom>
            <a:avLst/>
            <a:gdLst>
              <a:gd name="textAreaLeft" fmla="*/ 16560 w 792360"/>
              <a:gd name="textAreaRight" fmla="*/ 775800 w 79236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65695" h="21600">
                <a:moveTo>
                  <a:pt x="0" y="0"/>
                </a:moveTo>
                <a:lnTo>
                  <a:pt x="65695" y="0"/>
                </a:lnTo>
                <a:lnTo>
                  <a:pt x="65695" y="21600"/>
                </a:lnTo>
                <a:lnTo>
                  <a:pt x="0" y="21600"/>
                </a:lnTo>
                <a:close/>
              </a:path>
              <a:path fill="lightenLess" w="65695" h="21600">
                <a:moveTo>
                  <a:pt x="0" y="0"/>
                </a:moveTo>
                <a:lnTo>
                  <a:pt x="65695" y="0"/>
                </a:lnTo>
                <a:lnTo>
                  <a:pt x="64295" y="1400"/>
                </a:lnTo>
                <a:lnTo>
                  <a:pt x="1400" y="1400"/>
                </a:lnTo>
                <a:close/>
              </a:path>
              <a:path fill="darken" w="65695" h="21600">
                <a:moveTo>
                  <a:pt x="65695" y="0"/>
                </a:moveTo>
                <a:lnTo>
                  <a:pt x="65695" y="21600"/>
                </a:lnTo>
                <a:lnTo>
                  <a:pt x="64295" y="20200"/>
                </a:lnTo>
                <a:lnTo>
                  <a:pt x="64295" y="1400"/>
                </a:lnTo>
                <a:close/>
              </a:path>
              <a:path fill="darkenLess" w="65695" h="21600">
                <a:moveTo>
                  <a:pt x="65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295" y="20200"/>
                </a:lnTo>
                <a:close/>
              </a:path>
              <a:path fill="lighten" w="65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695" h="21600">
                <a:moveTo>
                  <a:pt x="25841" y="7493"/>
                </a:moveTo>
                <a:lnTo>
                  <a:pt x="29349" y="7493"/>
                </a:lnTo>
                <a:lnTo>
                  <a:pt x="29349" y="12828"/>
                </a:lnTo>
                <a:cubicBezTo>
                  <a:pt x="29349" y="13751"/>
                  <a:pt x="30149" y="14482"/>
                  <a:pt x="31185" y="14482"/>
                </a:cubicBezTo>
                <a:lnTo>
                  <a:pt x="32848" y="14482"/>
                </a:lnTo>
                <a:cubicBezTo>
                  <a:pt x="33883" y="14482"/>
                  <a:pt x="34684" y="13751"/>
                  <a:pt x="34684" y="12828"/>
                </a:cubicBezTo>
                <a:lnTo>
                  <a:pt x="34684" y="7493"/>
                </a:lnTo>
                <a:lnTo>
                  <a:pt x="32848" y="7493"/>
                </a:lnTo>
                <a:lnTo>
                  <a:pt x="36355" y="3985"/>
                </a:lnTo>
                <a:lnTo>
                  <a:pt x="40028" y="7493"/>
                </a:lnTo>
                <a:lnTo>
                  <a:pt x="38192" y="7493"/>
                </a:lnTo>
                <a:lnTo>
                  <a:pt x="38192" y="12828"/>
                </a:lnTo>
                <a:cubicBezTo>
                  <a:pt x="38192" y="15596"/>
                  <a:pt x="35615" y="18155"/>
                  <a:pt x="32848" y="18155"/>
                </a:cubicBezTo>
                <a:lnTo>
                  <a:pt x="31185" y="18155"/>
                </a:lnTo>
                <a:cubicBezTo>
                  <a:pt x="28417" y="18155"/>
                  <a:pt x="25841" y="15596"/>
                  <a:pt x="25841" y="12828"/>
                </a:cubicBez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>
            <a:hlinkClick r:id="" action="ppaction://hlinkshowjump?jump=nextslide"/>
          </p:cNvPr>
          <p:cNvSpPr/>
          <p:nvPr/>
        </p:nvSpPr>
        <p:spPr>
          <a:xfrm>
            <a:off x="7812000" y="6381720"/>
            <a:ext cx="792360" cy="287280"/>
          </a:xfrm>
          <a:custGeom>
            <a:avLst/>
            <a:gdLst>
              <a:gd name="textAreaLeft" fmla="*/ 18360 w 792360"/>
              <a:gd name="textAreaRight" fmla="*/ 774000 w 792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9528" h="21600">
                <a:moveTo>
                  <a:pt x="0" y="0"/>
                </a:moveTo>
                <a:lnTo>
                  <a:pt x="59528" y="0"/>
                </a:lnTo>
                <a:lnTo>
                  <a:pt x="59528" y="21600"/>
                </a:lnTo>
                <a:lnTo>
                  <a:pt x="0" y="21600"/>
                </a:lnTo>
                <a:close/>
              </a:path>
              <a:path fill="lightenLess" w="59528" h="21600">
                <a:moveTo>
                  <a:pt x="0" y="0"/>
                </a:moveTo>
                <a:lnTo>
                  <a:pt x="59528" y="0"/>
                </a:lnTo>
                <a:lnTo>
                  <a:pt x="58128" y="1400"/>
                </a:lnTo>
                <a:lnTo>
                  <a:pt x="1400" y="1400"/>
                </a:lnTo>
                <a:close/>
              </a:path>
              <a:path fill="darken" w="59528" h="21600">
                <a:moveTo>
                  <a:pt x="59528" y="0"/>
                </a:moveTo>
                <a:lnTo>
                  <a:pt x="59528" y="21600"/>
                </a:lnTo>
                <a:lnTo>
                  <a:pt x="58128" y="20200"/>
                </a:lnTo>
                <a:lnTo>
                  <a:pt x="58128" y="1400"/>
                </a:lnTo>
                <a:close/>
              </a:path>
              <a:path fill="darkenLess" w="59528" h="21600">
                <a:moveTo>
                  <a:pt x="595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128" y="20200"/>
                </a:lnTo>
                <a:close/>
              </a:path>
              <a:path fill="lighten" w="595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528" h="21600">
                <a:moveTo>
                  <a:pt x="22758" y="3794"/>
                </a:moveTo>
                <a:lnTo>
                  <a:pt x="36771" y="10800"/>
                </a:lnTo>
                <a:lnTo>
                  <a:pt x="22758" y="17806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067280" y="333360"/>
            <a:ext cx="4746600" cy="5688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50920" y="1916280"/>
            <a:ext cx="3848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о времена Екатерины Втор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России с лёгкой ру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мператрицы собачки стали модны у русских дам. Мопсик княгини Голицыной не менее родовит, чем его хозяй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>
            <a:hlinkClick r:id="rId2" action="ppaction://hlinksldjump"/>
          </p:cNvPr>
          <p:cNvSpPr/>
          <p:nvPr/>
        </p:nvSpPr>
        <p:spPr>
          <a:xfrm>
            <a:off x="6732720" y="6308640"/>
            <a:ext cx="718920" cy="289080"/>
          </a:xfrm>
          <a:custGeom>
            <a:avLst/>
            <a:gdLst>
              <a:gd name="textAreaLeft" fmla="*/ 18720 w 718920"/>
              <a:gd name="textAreaRight" fmla="*/ 700200 w 71892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53678" h="21600">
                <a:moveTo>
                  <a:pt x="0" y="0"/>
                </a:moveTo>
                <a:lnTo>
                  <a:pt x="53678" y="0"/>
                </a:lnTo>
                <a:lnTo>
                  <a:pt x="53678" y="21600"/>
                </a:lnTo>
                <a:lnTo>
                  <a:pt x="0" y="21600"/>
                </a:lnTo>
                <a:close/>
              </a:path>
              <a:path fill="lightenLess" w="53678" h="21600">
                <a:moveTo>
                  <a:pt x="0" y="0"/>
                </a:moveTo>
                <a:lnTo>
                  <a:pt x="53678" y="0"/>
                </a:lnTo>
                <a:lnTo>
                  <a:pt x="52278" y="1400"/>
                </a:lnTo>
                <a:lnTo>
                  <a:pt x="1400" y="1400"/>
                </a:lnTo>
                <a:close/>
              </a:path>
              <a:path fill="darken" w="53678" h="21600">
                <a:moveTo>
                  <a:pt x="53678" y="0"/>
                </a:moveTo>
                <a:lnTo>
                  <a:pt x="53678" y="21600"/>
                </a:lnTo>
                <a:lnTo>
                  <a:pt x="52278" y="20200"/>
                </a:lnTo>
                <a:lnTo>
                  <a:pt x="52278" y="1400"/>
                </a:lnTo>
                <a:close/>
              </a:path>
              <a:path fill="darkenLess" w="53678" h="21600">
                <a:moveTo>
                  <a:pt x="536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278" y="20200"/>
                </a:lnTo>
                <a:close/>
              </a:path>
              <a:path fill="lighten" w="536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678" h="21600">
                <a:moveTo>
                  <a:pt x="19832" y="7493"/>
                </a:moveTo>
                <a:lnTo>
                  <a:pt x="23340" y="7493"/>
                </a:lnTo>
                <a:lnTo>
                  <a:pt x="23340" y="12828"/>
                </a:lnTo>
                <a:cubicBezTo>
                  <a:pt x="23340" y="13751"/>
                  <a:pt x="24141" y="14482"/>
                  <a:pt x="25176" y="14482"/>
                </a:cubicBezTo>
                <a:lnTo>
                  <a:pt x="26839" y="14482"/>
                </a:lnTo>
                <a:cubicBezTo>
                  <a:pt x="27875" y="14482"/>
                  <a:pt x="28675" y="13751"/>
                  <a:pt x="28675" y="12828"/>
                </a:cubicBezTo>
                <a:lnTo>
                  <a:pt x="28675" y="7493"/>
                </a:lnTo>
                <a:lnTo>
                  <a:pt x="26839" y="7493"/>
                </a:lnTo>
                <a:lnTo>
                  <a:pt x="30346" y="3985"/>
                </a:lnTo>
                <a:lnTo>
                  <a:pt x="34019" y="7493"/>
                </a:lnTo>
                <a:lnTo>
                  <a:pt x="32183" y="7493"/>
                </a:lnTo>
                <a:lnTo>
                  <a:pt x="32183" y="12828"/>
                </a:lnTo>
                <a:cubicBezTo>
                  <a:pt x="32183" y="15596"/>
                  <a:pt x="29607" y="18155"/>
                  <a:pt x="26839" y="18155"/>
                </a:cubicBezTo>
                <a:lnTo>
                  <a:pt x="25176" y="18155"/>
                </a:lnTo>
                <a:cubicBezTo>
                  <a:pt x="22409" y="18155"/>
                  <a:pt x="19832" y="15596"/>
                  <a:pt x="19832" y="12828"/>
                </a:cubicBez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>
            <a:hlinkClick r:id="" action="ppaction://hlinkshowjump?jump=nextslide"/>
          </p:cNvPr>
          <p:cNvSpPr/>
          <p:nvPr/>
        </p:nvSpPr>
        <p:spPr>
          <a:xfrm>
            <a:off x="759636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31186" y="10800"/>
                </a:lnTo>
                <a:lnTo>
                  <a:pt x="17173" y="17806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364000" y="549360"/>
            <a:ext cx="3305160" cy="58323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904320" y="2276640"/>
            <a:ext cx="399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бака  в Европе уже не долж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бязательно нести какую-нибу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лужбу, она просто друг дет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84г. Герм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>
            <a:hlinkClick r:id="rId2" action="ppaction://hlinksldjump"/>
          </p:cNvPr>
          <p:cNvSpPr/>
          <p:nvPr/>
        </p:nvSpPr>
        <p:spPr>
          <a:xfrm>
            <a:off x="6588000" y="6597720"/>
            <a:ext cx="828720" cy="260280"/>
          </a:xfrm>
          <a:custGeom>
            <a:avLst/>
            <a:gdLst>
              <a:gd name="textAreaLeft" fmla="*/ 16560 w 828720"/>
              <a:gd name="textAreaRight" fmla="*/ 812160 w 82872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68708" h="21600">
                <a:moveTo>
                  <a:pt x="0" y="0"/>
                </a:moveTo>
                <a:lnTo>
                  <a:pt x="68708" y="0"/>
                </a:lnTo>
                <a:lnTo>
                  <a:pt x="68708" y="21600"/>
                </a:lnTo>
                <a:lnTo>
                  <a:pt x="0" y="21600"/>
                </a:lnTo>
                <a:close/>
              </a:path>
              <a:path fill="lightenLess" w="68708" h="21600">
                <a:moveTo>
                  <a:pt x="0" y="0"/>
                </a:moveTo>
                <a:lnTo>
                  <a:pt x="68708" y="0"/>
                </a:lnTo>
                <a:lnTo>
                  <a:pt x="67308" y="1400"/>
                </a:lnTo>
                <a:lnTo>
                  <a:pt x="1400" y="1400"/>
                </a:lnTo>
                <a:close/>
              </a:path>
              <a:path fill="darken" w="68708" h="21600">
                <a:moveTo>
                  <a:pt x="68708" y="0"/>
                </a:moveTo>
                <a:lnTo>
                  <a:pt x="68708" y="21600"/>
                </a:lnTo>
                <a:lnTo>
                  <a:pt x="67308" y="20200"/>
                </a:lnTo>
                <a:lnTo>
                  <a:pt x="67308" y="1400"/>
                </a:lnTo>
                <a:close/>
              </a:path>
              <a:path fill="darkenLess" w="68708" h="21600">
                <a:moveTo>
                  <a:pt x="68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308" y="20200"/>
                </a:lnTo>
                <a:close/>
              </a:path>
              <a:path fill="lighten" w="68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8708" h="21600">
                <a:moveTo>
                  <a:pt x="27348" y="7493"/>
                </a:moveTo>
                <a:lnTo>
                  <a:pt x="30855" y="7493"/>
                </a:lnTo>
                <a:lnTo>
                  <a:pt x="30855" y="12828"/>
                </a:lnTo>
                <a:cubicBezTo>
                  <a:pt x="30855" y="13751"/>
                  <a:pt x="31656" y="14482"/>
                  <a:pt x="32692" y="14482"/>
                </a:cubicBezTo>
                <a:lnTo>
                  <a:pt x="34354" y="14482"/>
                </a:lnTo>
                <a:cubicBezTo>
                  <a:pt x="35390" y="14482"/>
                  <a:pt x="36191" y="13751"/>
                  <a:pt x="36191" y="12828"/>
                </a:cubicBezTo>
                <a:lnTo>
                  <a:pt x="36191" y="7493"/>
                </a:lnTo>
                <a:lnTo>
                  <a:pt x="34354" y="7493"/>
                </a:lnTo>
                <a:lnTo>
                  <a:pt x="37862" y="3985"/>
                </a:lnTo>
                <a:lnTo>
                  <a:pt x="41535" y="7493"/>
                </a:lnTo>
                <a:lnTo>
                  <a:pt x="39698" y="7493"/>
                </a:lnTo>
                <a:lnTo>
                  <a:pt x="39698" y="12828"/>
                </a:lnTo>
                <a:cubicBezTo>
                  <a:pt x="39698" y="15596"/>
                  <a:pt x="37122" y="18155"/>
                  <a:pt x="34354" y="18155"/>
                </a:cubicBezTo>
                <a:lnTo>
                  <a:pt x="32692" y="18155"/>
                </a:lnTo>
                <a:cubicBezTo>
                  <a:pt x="29924" y="18155"/>
                  <a:pt x="27348" y="15596"/>
                  <a:pt x="27348" y="12828"/>
                </a:cubicBez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" action="ppaction://hlinkshowjump?jump=nextslide"/>
          </p:cNvPr>
          <p:cNvSpPr/>
          <p:nvPr/>
        </p:nvSpPr>
        <p:spPr>
          <a:xfrm>
            <a:off x="7596360" y="6597720"/>
            <a:ext cx="792000" cy="260280"/>
          </a:xfrm>
          <a:custGeom>
            <a:avLst/>
            <a:gdLst>
              <a:gd name="textAreaLeft" fmla="*/ 16560 w 792000"/>
              <a:gd name="textAreaRight" fmla="*/ 775440 w 79200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65665" h="21600">
                <a:moveTo>
                  <a:pt x="0" y="0"/>
                </a:moveTo>
                <a:lnTo>
                  <a:pt x="65665" y="0"/>
                </a:lnTo>
                <a:lnTo>
                  <a:pt x="65665" y="21600"/>
                </a:lnTo>
                <a:lnTo>
                  <a:pt x="0" y="21600"/>
                </a:lnTo>
                <a:close/>
              </a:path>
              <a:path fill="lightenLess" w="65665" h="21600">
                <a:moveTo>
                  <a:pt x="0" y="0"/>
                </a:moveTo>
                <a:lnTo>
                  <a:pt x="65665" y="0"/>
                </a:lnTo>
                <a:lnTo>
                  <a:pt x="64265" y="1400"/>
                </a:lnTo>
                <a:lnTo>
                  <a:pt x="1400" y="1400"/>
                </a:lnTo>
                <a:close/>
              </a:path>
              <a:path fill="darken" w="65665" h="21600">
                <a:moveTo>
                  <a:pt x="65665" y="0"/>
                </a:moveTo>
                <a:lnTo>
                  <a:pt x="65665" y="21600"/>
                </a:lnTo>
                <a:lnTo>
                  <a:pt x="64265" y="20200"/>
                </a:lnTo>
                <a:lnTo>
                  <a:pt x="64265" y="1400"/>
                </a:lnTo>
                <a:close/>
              </a:path>
              <a:path fill="darkenLess" w="65665" h="21600">
                <a:moveTo>
                  <a:pt x="65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265" y="20200"/>
                </a:lnTo>
                <a:close/>
              </a:path>
              <a:path fill="lighten" w="65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665" h="21600">
                <a:moveTo>
                  <a:pt x="25826" y="3794"/>
                </a:moveTo>
                <a:lnTo>
                  <a:pt x="39839" y="10800"/>
                </a:lnTo>
                <a:lnTo>
                  <a:pt x="25826" y="17806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187280" y="260280"/>
            <a:ext cx="6985080" cy="51087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915560" y="5565600"/>
            <a:ext cx="65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иниатюрные собачки в итальянской живописи 17в. 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пременная деталь уютных домашних сцен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rId2" action="ppaction://hlinksldjump"/>
          </p:cNvPr>
          <p:cNvSpPr/>
          <p:nvPr/>
        </p:nvSpPr>
        <p:spPr>
          <a:xfrm>
            <a:off x="7308720" y="6381720"/>
            <a:ext cx="755640" cy="260280"/>
          </a:xfrm>
          <a:custGeom>
            <a:avLst/>
            <a:gdLst>
              <a:gd name="textAreaLeft" fmla="*/ 16560 w 755640"/>
              <a:gd name="textAreaRight" fmla="*/ 739080 w 75564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62652" h="21600">
                <a:moveTo>
                  <a:pt x="0" y="0"/>
                </a:moveTo>
                <a:lnTo>
                  <a:pt x="62652" y="0"/>
                </a:lnTo>
                <a:lnTo>
                  <a:pt x="62652" y="21600"/>
                </a:lnTo>
                <a:lnTo>
                  <a:pt x="0" y="21600"/>
                </a:lnTo>
                <a:close/>
              </a:path>
              <a:path fill="lightenLess" w="62652" h="21600">
                <a:moveTo>
                  <a:pt x="0" y="0"/>
                </a:moveTo>
                <a:lnTo>
                  <a:pt x="62652" y="0"/>
                </a:lnTo>
                <a:lnTo>
                  <a:pt x="61252" y="1400"/>
                </a:lnTo>
                <a:lnTo>
                  <a:pt x="1400" y="1400"/>
                </a:lnTo>
                <a:close/>
              </a:path>
              <a:path fill="darken" w="62652" h="21600">
                <a:moveTo>
                  <a:pt x="62652" y="0"/>
                </a:moveTo>
                <a:lnTo>
                  <a:pt x="62652" y="21600"/>
                </a:lnTo>
                <a:lnTo>
                  <a:pt x="61252" y="20200"/>
                </a:lnTo>
                <a:lnTo>
                  <a:pt x="61252" y="1400"/>
                </a:lnTo>
                <a:close/>
              </a:path>
              <a:path fill="darkenLess" w="62652" h="21600">
                <a:moveTo>
                  <a:pt x="626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252" y="20200"/>
                </a:lnTo>
                <a:close/>
              </a:path>
              <a:path fill="lighten" w="626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2652" h="21600">
                <a:moveTo>
                  <a:pt x="24319" y="7493"/>
                </a:moveTo>
                <a:lnTo>
                  <a:pt x="27827" y="7493"/>
                </a:lnTo>
                <a:lnTo>
                  <a:pt x="27827" y="12828"/>
                </a:lnTo>
                <a:cubicBezTo>
                  <a:pt x="27827" y="13751"/>
                  <a:pt x="28628" y="14482"/>
                  <a:pt x="29664" y="14482"/>
                </a:cubicBezTo>
                <a:lnTo>
                  <a:pt x="31326" y="14482"/>
                </a:lnTo>
                <a:cubicBezTo>
                  <a:pt x="32362" y="14482"/>
                  <a:pt x="33162" y="13751"/>
                  <a:pt x="33162" y="12828"/>
                </a:cubicBezTo>
                <a:lnTo>
                  <a:pt x="33162" y="7493"/>
                </a:lnTo>
                <a:lnTo>
                  <a:pt x="31326" y="7493"/>
                </a:lnTo>
                <a:lnTo>
                  <a:pt x="34834" y="3985"/>
                </a:lnTo>
                <a:lnTo>
                  <a:pt x="38507" y="7493"/>
                </a:lnTo>
                <a:lnTo>
                  <a:pt x="36670" y="7493"/>
                </a:lnTo>
                <a:lnTo>
                  <a:pt x="36670" y="12828"/>
                </a:lnTo>
                <a:cubicBezTo>
                  <a:pt x="36670" y="15596"/>
                  <a:pt x="34094" y="18155"/>
                  <a:pt x="31326" y="18155"/>
                </a:cubicBezTo>
                <a:lnTo>
                  <a:pt x="29664" y="18155"/>
                </a:lnTo>
                <a:cubicBezTo>
                  <a:pt x="26896" y="18155"/>
                  <a:pt x="24319" y="15596"/>
                  <a:pt x="24319" y="12828"/>
                </a:cubicBez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>
            <a:hlinkClick r:id="" action="ppaction://hlinkshowjump?jump=previousslide"/>
          </p:cNvPr>
          <p:cNvSpPr/>
          <p:nvPr/>
        </p:nvSpPr>
        <p:spPr>
          <a:xfrm>
            <a:off x="8101080" y="6381720"/>
            <a:ext cx="792000" cy="260280"/>
          </a:xfrm>
          <a:custGeom>
            <a:avLst/>
            <a:gdLst>
              <a:gd name="textAreaLeft" fmla="*/ 16560 w 792000"/>
              <a:gd name="textAreaRight" fmla="*/ 775440 w 79200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65665" h="21600">
                <a:moveTo>
                  <a:pt x="0" y="0"/>
                </a:moveTo>
                <a:lnTo>
                  <a:pt x="65665" y="0"/>
                </a:lnTo>
                <a:lnTo>
                  <a:pt x="65665" y="21600"/>
                </a:lnTo>
                <a:lnTo>
                  <a:pt x="0" y="21600"/>
                </a:lnTo>
                <a:close/>
              </a:path>
              <a:path fill="lightenLess" w="65665" h="21600">
                <a:moveTo>
                  <a:pt x="0" y="0"/>
                </a:moveTo>
                <a:lnTo>
                  <a:pt x="65665" y="0"/>
                </a:lnTo>
                <a:lnTo>
                  <a:pt x="64265" y="1400"/>
                </a:lnTo>
                <a:lnTo>
                  <a:pt x="1400" y="1400"/>
                </a:lnTo>
                <a:close/>
              </a:path>
              <a:path fill="darken" w="65665" h="21600">
                <a:moveTo>
                  <a:pt x="65665" y="0"/>
                </a:moveTo>
                <a:lnTo>
                  <a:pt x="65665" y="21600"/>
                </a:lnTo>
                <a:lnTo>
                  <a:pt x="64265" y="20200"/>
                </a:lnTo>
                <a:lnTo>
                  <a:pt x="64265" y="1400"/>
                </a:lnTo>
                <a:close/>
              </a:path>
              <a:path fill="darkenLess" w="65665" h="21600">
                <a:moveTo>
                  <a:pt x="65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265" y="20200"/>
                </a:lnTo>
                <a:close/>
              </a:path>
              <a:path fill="lighten" w="65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665" h="21600">
                <a:moveTo>
                  <a:pt x="25826" y="10800"/>
                </a:moveTo>
                <a:lnTo>
                  <a:pt x="39839" y="3794"/>
                </a:lnTo>
                <a:lnTo>
                  <a:pt x="39839" y="17806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83808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Поведение соб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юбая порода собак имеет свои психические характеристики, о котор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олжен знать человек, взявший на себя ответственность за содержание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оспитание собаки. Следует учесть и наличие у каждой отдельно взят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баки индивидуальных особенностей характера. Метод опреде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характера сводится к проверке реакции на опасность, других реакци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 также контакта с другими животными и людьми. На основании эт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верок собак подразделяют на уравновешенных, флегматичных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обронравных, злобных, агрессивных, трусливых и с неустойчивой психи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 оценке характера собаки лай играет немалую роль. Лаем соба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ыражает реакцию на внешние раздражители. Большие собаки лаю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охотно, в то время как маленькие любят это занятие. У больших ла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значает, что хозяину угрожает опасность, а сама собака не может е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странить. Собаки маленькие лаем выражают все свои эмоции,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 только предупреждают хозяина об опас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>
            <a:hlinkClick r:id="rId1" action="ppaction://hlinksldjump"/>
          </p:cNvPr>
          <p:cNvSpPr/>
          <p:nvPr/>
        </p:nvSpPr>
        <p:spPr>
          <a:xfrm>
            <a:off x="7956720" y="6308640"/>
            <a:ext cx="682560" cy="250920"/>
          </a:xfrm>
          <a:custGeom>
            <a:avLst/>
            <a:gdLst>
              <a:gd name="textAreaLeft" fmla="*/ 16200 w 682560"/>
              <a:gd name="textAreaRight" fmla="*/ 666360 w 682560"/>
              <a:gd name="textAreaTop" fmla="*/ 16200 h 250920"/>
              <a:gd name="textAreaBottom" fmla="*/ 234720 h 250920"/>
            </a:gdLst>
            <a:ahLst/>
            <a:rect l="textAreaLeft" t="textAreaTop" r="textAreaRight" b="textAreaBottom"/>
            <a:pathLst>
              <a:path w="58704" h="21600">
                <a:moveTo>
                  <a:pt x="0" y="0"/>
                </a:moveTo>
                <a:lnTo>
                  <a:pt x="58704" y="0"/>
                </a:lnTo>
                <a:lnTo>
                  <a:pt x="58704" y="21600"/>
                </a:lnTo>
                <a:lnTo>
                  <a:pt x="0" y="21600"/>
                </a:lnTo>
                <a:close/>
              </a:path>
              <a:path fill="lightenLess" w="58704" h="21600">
                <a:moveTo>
                  <a:pt x="0" y="0"/>
                </a:moveTo>
                <a:lnTo>
                  <a:pt x="58704" y="0"/>
                </a:lnTo>
                <a:lnTo>
                  <a:pt x="57304" y="1400"/>
                </a:lnTo>
                <a:lnTo>
                  <a:pt x="1400" y="1400"/>
                </a:lnTo>
                <a:close/>
              </a:path>
              <a:path fill="darken" w="58704" h="21600">
                <a:moveTo>
                  <a:pt x="58704" y="0"/>
                </a:moveTo>
                <a:lnTo>
                  <a:pt x="58704" y="21600"/>
                </a:lnTo>
                <a:lnTo>
                  <a:pt x="57304" y="20200"/>
                </a:lnTo>
                <a:lnTo>
                  <a:pt x="57304" y="1400"/>
                </a:lnTo>
                <a:close/>
              </a:path>
              <a:path fill="darkenLess" w="58704" h="21600">
                <a:moveTo>
                  <a:pt x="58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304" y="20200"/>
                </a:lnTo>
                <a:close/>
              </a:path>
              <a:path fill="lighten" w="58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8704" h="21600">
                <a:moveTo>
                  <a:pt x="22345" y="7493"/>
                </a:moveTo>
                <a:lnTo>
                  <a:pt x="25853" y="7493"/>
                </a:lnTo>
                <a:lnTo>
                  <a:pt x="25853" y="12828"/>
                </a:lnTo>
                <a:cubicBezTo>
                  <a:pt x="25853" y="13751"/>
                  <a:pt x="26654" y="14482"/>
                  <a:pt x="27689" y="14482"/>
                </a:cubicBezTo>
                <a:lnTo>
                  <a:pt x="29352" y="14482"/>
                </a:lnTo>
                <a:cubicBezTo>
                  <a:pt x="30388" y="14482"/>
                  <a:pt x="31188" y="13751"/>
                  <a:pt x="31188" y="12828"/>
                </a:cubicBezTo>
                <a:lnTo>
                  <a:pt x="31188" y="7493"/>
                </a:lnTo>
                <a:lnTo>
                  <a:pt x="29352" y="7493"/>
                </a:lnTo>
                <a:lnTo>
                  <a:pt x="32859" y="3985"/>
                </a:lnTo>
                <a:lnTo>
                  <a:pt x="36532" y="7493"/>
                </a:lnTo>
                <a:lnTo>
                  <a:pt x="34696" y="7493"/>
                </a:lnTo>
                <a:lnTo>
                  <a:pt x="34696" y="12828"/>
                </a:lnTo>
                <a:cubicBezTo>
                  <a:pt x="34696" y="15596"/>
                  <a:pt x="32120" y="18155"/>
                  <a:pt x="29352" y="18155"/>
                </a:cubicBezTo>
                <a:lnTo>
                  <a:pt x="27689" y="18155"/>
                </a:lnTo>
                <a:cubicBezTo>
                  <a:pt x="24922" y="18155"/>
                  <a:pt x="22345" y="15596"/>
                  <a:pt x="22345" y="12828"/>
                </a:cubicBez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7451640" y="212760"/>
            <a:ext cx="1389240" cy="8269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4067280" y="5621400"/>
            <a:ext cx="108252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040200" y="42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28920" y="692280"/>
            <a:ext cx="838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ПОСЛОВИЦЫ, ПОГОВОР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26920" y="14842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17640" y="1484280"/>
            <a:ext cx="37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к собака на се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26920" y="198900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Собака лает, ветер нос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«Собаку съесть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Маленькая собачка до старости щен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Каков хозяин, таковы у него и соба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 «Собачья жизнь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. Живут, как кошка с соба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rId1" action="ppaction://hlinksldjump"/>
          </p:cNvPr>
          <p:cNvSpPr/>
          <p:nvPr/>
        </p:nvSpPr>
        <p:spPr>
          <a:xfrm>
            <a:off x="7164360" y="6165720"/>
            <a:ext cx="755640" cy="358920"/>
          </a:xfrm>
          <a:custGeom>
            <a:avLst/>
            <a:gdLst>
              <a:gd name="textAreaLeft" fmla="*/ 23040 w 755640"/>
              <a:gd name="textAreaRight" fmla="*/ 732600 w 755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45451" h="21600">
                <a:moveTo>
                  <a:pt x="0" y="0"/>
                </a:moveTo>
                <a:lnTo>
                  <a:pt x="45451" y="0"/>
                </a:lnTo>
                <a:lnTo>
                  <a:pt x="45451" y="21600"/>
                </a:lnTo>
                <a:lnTo>
                  <a:pt x="0" y="21600"/>
                </a:lnTo>
                <a:close/>
              </a:path>
              <a:path fill="lightenLess" w="45451" h="21600">
                <a:moveTo>
                  <a:pt x="0" y="0"/>
                </a:moveTo>
                <a:lnTo>
                  <a:pt x="45451" y="0"/>
                </a:lnTo>
                <a:lnTo>
                  <a:pt x="44051" y="1400"/>
                </a:lnTo>
                <a:lnTo>
                  <a:pt x="1400" y="1400"/>
                </a:lnTo>
                <a:close/>
              </a:path>
              <a:path fill="darken" w="45451" h="21600">
                <a:moveTo>
                  <a:pt x="45451" y="0"/>
                </a:moveTo>
                <a:lnTo>
                  <a:pt x="45451" y="21600"/>
                </a:lnTo>
                <a:lnTo>
                  <a:pt x="44051" y="20200"/>
                </a:lnTo>
                <a:lnTo>
                  <a:pt x="44051" y="1400"/>
                </a:lnTo>
                <a:close/>
              </a:path>
              <a:path fill="darkenLess" w="45451" h="21600">
                <a:moveTo>
                  <a:pt x="454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051" y="20200"/>
                </a:lnTo>
                <a:close/>
              </a:path>
              <a:path fill="lighten" w="454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451" h="21600">
                <a:moveTo>
                  <a:pt x="15719" y="7493"/>
                </a:moveTo>
                <a:lnTo>
                  <a:pt x="19227" y="7493"/>
                </a:lnTo>
                <a:lnTo>
                  <a:pt x="19227" y="12828"/>
                </a:lnTo>
                <a:cubicBezTo>
                  <a:pt x="19227" y="13751"/>
                  <a:pt x="20027" y="14482"/>
                  <a:pt x="21063" y="14482"/>
                </a:cubicBezTo>
                <a:lnTo>
                  <a:pt x="22725" y="14482"/>
                </a:lnTo>
                <a:cubicBezTo>
                  <a:pt x="23761" y="14482"/>
                  <a:pt x="24562" y="13751"/>
                  <a:pt x="24562" y="12828"/>
                </a:cubicBezTo>
                <a:lnTo>
                  <a:pt x="24562" y="7493"/>
                </a:lnTo>
                <a:lnTo>
                  <a:pt x="22725" y="7493"/>
                </a:lnTo>
                <a:lnTo>
                  <a:pt x="26233" y="3985"/>
                </a:lnTo>
                <a:lnTo>
                  <a:pt x="29906" y="7493"/>
                </a:lnTo>
                <a:lnTo>
                  <a:pt x="28070" y="7493"/>
                </a:lnTo>
                <a:lnTo>
                  <a:pt x="28070" y="12828"/>
                </a:lnTo>
                <a:cubicBezTo>
                  <a:pt x="28070" y="15596"/>
                  <a:pt x="25493" y="18155"/>
                  <a:pt x="22725" y="18155"/>
                </a:cubicBezTo>
                <a:lnTo>
                  <a:pt x="21063" y="18155"/>
                </a:lnTo>
                <a:cubicBezTo>
                  <a:pt x="18295" y="18155"/>
                  <a:pt x="15719" y="15596"/>
                  <a:pt x="15719" y="12828"/>
                </a:cubicBez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956720" y="6165720"/>
            <a:ext cx="753840" cy="358920"/>
          </a:xfrm>
          <a:custGeom>
            <a:avLst/>
            <a:gdLst>
              <a:gd name="textAreaLeft" fmla="*/ 23040 w 753840"/>
              <a:gd name="textAreaRight" fmla="*/ 730800 w 7538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45343" h="21600">
                <a:moveTo>
                  <a:pt x="0" y="0"/>
                </a:moveTo>
                <a:lnTo>
                  <a:pt x="45343" y="0"/>
                </a:lnTo>
                <a:lnTo>
                  <a:pt x="45343" y="21600"/>
                </a:lnTo>
                <a:lnTo>
                  <a:pt x="0" y="21600"/>
                </a:lnTo>
                <a:close/>
              </a:path>
              <a:path fill="lightenLess" w="45343" h="21600">
                <a:moveTo>
                  <a:pt x="0" y="0"/>
                </a:moveTo>
                <a:lnTo>
                  <a:pt x="45343" y="0"/>
                </a:lnTo>
                <a:lnTo>
                  <a:pt x="43943" y="1400"/>
                </a:lnTo>
                <a:lnTo>
                  <a:pt x="1400" y="1400"/>
                </a:lnTo>
                <a:close/>
              </a:path>
              <a:path fill="darken" w="45343" h="21600">
                <a:moveTo>
                  <a:pt x="45343" y="0"/>
                </a:moveTo>
                <a:lnTo>
                  <a:pt x="45343" y="21600"/>
                </a:lnTo>
                <a:lnTo>
                  <a:pt x="43943" y="20200"/>
                </a:lnTo>
                <a:lnTo>
                  <a:pt x="43943" y="1400"/>
                </a:lnTo>
                <a:close/>
              </a:path>
              <a:path fill="darkenLess" w="45343" h="21600">
                <a:moveTo>
                  <a:pt x="453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943" y="20200"/>
                </a:lnTo>
                <a:close/>
              </a:path>
              <a:path fill="lighten" w="453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343" h="21600">
                <a:moveTo>
                  <a:pt x="19172" y="10800"/>
                </a:moveTo>
                <a:lnTo>
                  <a:pt x="29678" y="3794"/>
                </a:lnTo>
                <a:lnTo>
                  <a:pt x="29678" y="17806"/>
                </a:lnTo>
                <a:close/>
              </a:path>
              <a:path fill="darken" w="45343" h="21600">
                <a:moveTo>
                  <a:pt x="15665" y="3794"/>
                </a:moveTo>
                <a:lnTo>
                  <a:pt x="17327" y="3794"/>
                </a:lnTo>
                <a:lnTo>
                  <a:pt x="17327" y="17806"/>
                </a:lnTo>
                <a:lnTo>
                  <a:pt x="15665" y="17806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6012000" y="1989000"/>
            <a:ext cx="2644560" cy="34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854160" y="836640"/>
            <a:ext cx="255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оба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511440" y="1844640"/>
            <a:ext cx="340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 Собака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511080" y="2852640"/>
            <a:ext cx="354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. Собак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>
            <a:hlinkClick r:id="rId1" action="ppaction://hlinksldjump"/>
          </p:cNvPr>
          <p:cNvSpPr/>
          <p:nvPr/>
        </p:nvSpPr>
        <p:spPr>
          <a:xfrm>
            <a:off x="6948360" y="6381720"/>
            <a:ext cx="648000" cy="216000"/>
          </a:xfrm>
          <a:custGeom>
            <a:avLst/>
            <a:gdLst>
              <a:gd name="textAreaLeft" fmla="*/ 13680 w 648000"/>
              <a:gd name="textAreaRight" fmla="*/ 634320 w 648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728" h="21600">
                <a:moveTo>
                  <a:pt x="0" y="0"/>
                </a:moveTo>
                <a:lnTo>
                  <a:pt x="64728" y="0"/>
                </a:lnTo>
                <a:lnTo>
                  <a:pt x="64728" y="21600"/>
                </a:lnTo>
                <a:lnTo>
                  <a:pt x="0" y="21600"/>
                </a:lnTo>
                <a:close/>
              </a:path>
              <a:path fill="lightenLess" w="64728" h="21600">
                <a:moveTo>
                  <a:pt x="0" y="0"/>
                </a:moveTo>
                <a:lnTo>
                  <a:pt x="64728" y="0"/>
                </a:lnTo>
                <a:lnTo>
                  <a:pt x="63328" y="1400"/>
                </a:lnTo>
                <a:lnTo>
                  <a:pt x="1400" y="1400"/>
                </a:lnTo>
                <a:close/>
              </a:path>
              <a:path fill="darken" w="64728" h="21600">
                <a:moveTo>
                  <a:pt x="64728" y="0"/>
                </a:moveTo>
                <a:lnTo>
                  <a:pt x="64728" y="21600"/>
                </a:lnTo>
                <a:lnTo>
                  <a:pt x="63328" y="20200"/>
                </a:lnTo>
                <a:lnTo>
                  <a:pt x="63328" y="1400"/>
                </a:lnTo>
                <a:close/>
              </a:path>
              <a:path fill="darkenLess" w="64728" h="21600">
                <a:moveTo>
                  <a:pt x="647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28" y="20200"/>
                </a:lnTo>
                <a:close/>
              </a:path>
              <a:path fill="lighten" w="647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28" h="21600">
                <a:moveTo>
                  <a:pt x="28865" y="10800"/>
                </a:moveTo>
                <a:lnTo>
                  <a:pt x="39371" y="3794"/>
                </a:lnTo>
                <a:lnTo>
                  <a:pt x="39371" y="17806"/>
                </a:lnTo>
                <a:close/>
              </a:path>
              <a:path fill="darken" w="64728" h="21600">
                <a:moveTo>
                  <a:pt x="25358" y="3794"/>
                </a:moveTo>
                <a:lnTo>
                  <a:pt x="27020" y="3794"/>
                </a:lnTo>
                <a:lnTo>
                  <a:pt x="27020" y="17806"/>
                </a:lnTo>
                <a:lnTo>
                  <a:pt x="25358" y="17806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>
            <a:hlinkClick r:id="" action="ppaction://hlinkshowjump?jump=nextslide"/>
          </p:cNvPr>
          <p:cNvSpPr/>
          <p:nvPr/>
        </p:nvSpPr>
        <p:spPr>
          <a:xfrm>
            <a:off x="7667640" y="6381720"/>
            <a:ext cx="720720" cy="216000"/>
          </a:xfrm>
          <a:custGeom>
            <a:avLst/>
            <a:gdLst>
              <a:gd name="textAreaLeft" fmla="*/ 13680 w 720720"/>
              <a:gd name="textAreaRight" fmla="*/ 707040 w 720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71988" h="21600">
                <a:moveTo>
                  <a:pt x="0" y="0"/>
                </a:moveTo>
                <a:lnTo>
                  <a:pt x="71988" y="0"/>
                </a:lnTo>
                <a:lnTo>
                  <a:pt x="71988" y="21600"/>
                </a:lnTo>
                <a:lnTo>
                  <a:pt x="0" y="21600"/>
                </a:lnTo>
                <a:close/>
              </a:path>
              <a:path fill="lightenLess" w="71988" h="21600">
                <a:moveTo>
                  <a:pt x="0" y="0"/>
                </a:moveTo>
                <a:lnTo>
                  <a:pt x="71988" y="0"/>
                </a:lnTo>
                <a:lnTo>
                  <a:pt x="70588" y="1400"/>
                </a:lnTo>
                <a:lnTo>
                  <a:pt x="1400" y="1400"/>
                </a:lnTo>
                <a:close/>
              </a:path>
              <a:path fill="darken" w="71988" h="21600">
                <a:moveTo>
                  <a:pt x="71988" y="0"/>
                </a:moveTo>
                <a:lnTo>
                  <a:pt x="71988" y="21600"/>
                </a:lnTo>
                <a:lnTo>
                  <a:pt x="70588" y="20200"/>
                </a:lnTo>
                <a:lnTo>
                  <a:pt x="70588" y="1400"/>
                </a:lnTo>
                <a:close/>
              </a:path>
              <a:path fill="darkenLess" w="71988" h="21600">
                <a:moveTo>
                  <a:pt x="71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88" y="20200"/>
                </a:lnTo>
                <a:close/>
              </a:path>
              <a:path fill="lighten" w="71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1988" h="21600">
                <a:moveTo>
                  <a:pt x="28988" y="3794"/>
                </a:moveTo>
                <a:lnTo>
                  <a:pt x="43000" y="10800"/>
                </a:lnTo>
                <a:lnTo>
                  <a:pt x="28988" y="17806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2771640" y="4292640"/>
            <a:ext cx="1019160" cy="9237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611280" y="476280"/>
            <a:ext cx="1019160" cy="9237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 rot="21409200">
            <a:off x="1331640" y="2276280"/>
            <a:ext cx="1019160" cy="9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851280" y="1341360"/>
            <a:ext cx="2714760" cy="1582920"/>
          </a:xfrm>
          <a:prstGeom prst="wedgeRectCallout">
            <a:avLst>
              <a:gd name="adj1" fmla="val -95615"/>
              <a:gd name="adj2" fmla="val 98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059280" y="765000"/>
            <a:ext cx="5040000" cy="609840"/>
          </a:xfrm>
          <a:prstGeom prst="wedgeRectCallout">
            <a:avLst>
              <a:gd name="adj1" fmla="val -70314"/>
              <a:gd name="adj2" fmla="val 337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СОСТАВЬ ПРЕДЛО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921240" y="3789360"/>
            <a:ext cx="224748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ба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467040" y="3933720"/>
            <a:ext cx="161064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 rot="10760400">
            <a:off x="1115640" y="1656720"/>
            <a:ext cx="164952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торо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250320" y="1527120"/>
            <a:ext cx="233460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ер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729960" y="2637000"/>
            <a:ext cx="178740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п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38360" y="5373720"/>
            <a:ext cx="359928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5050"/>
                </a:solidFill>
                <a:uFillTx/>
                <a:latin typeface="Arial"/>
                <a:hlinkClick r:id="rId1" action="ppaction://hlinksldjump"/>
              </a:rPr>
              <a:t>Проверь себ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684360" y="4797360"/>
            <a:ext cx="1699920" cy="18637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8101080" y="6021360"/>
            <a:ext cx="753840" cy="360360"/>
          </a:xfrm>
          <a:custGeom>
            <a:avLst/>
            <a:gdLst>
              <a:gd name="textAreaLeft" fmla="*/ 23040 w 753840"/>
              <a:gd name="textAreaRight" fmla="*/ 730800 w 7538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5162" h="21600">
                <a:moveTo>
                  <a:pt x="0" y="0"/>
                </a:moveTo>
                <a:lnTo>
                  <a:pt x="45162" y="0"/>
                </a:lnTo>
                <a:lnTo>
                  <a:pt x="45162" y="21600"/>
                </a:lnTo>
                <a:lnTo>
                  <a:pt x="0" y="21600"/>
                </a:lnTo>
                <a:close/>
              </a:path>
              <a:path fill="lightenLess" w="45162" h="21600">
                <a:moveTo>
                  <a:pt x="0" y="0"/>
                </a:moveTo>
                <a:lnTo>
                  <a:pt x="45162" y="0"/>
                </a:lnTo>
                <a:lnTo>
                  <a:pt x="43762" y="1400"/>
                </a:lnTo>
                <a:lnTo>
                  <a:pt x="1400" y="1400"/>
                </a:lnTo>
                <a:close/>
              </a:path>
              <a:path fill="darken" w="45162" h="21600">
                <a:moveTo>
                  <a:pt x="45162" y="0"/>
                </a:moveTo>
                <a:lnTo>
                  <a:pt x="45162" y="21600"/>
                </a:lnTo>
                <a:lnTo>
                  <a:pt x="43762" y="20200"/>
                </a:lnTo>
                <a:lnTo>
                  <a:pt x="43762" y="1400"/>
                </a:lnTo>
                <a:close/>
              </a:path>
              <a:path fill="darkenLess" w="45162" h="21600">
                <a:moveTo>
                  <a:pt x="451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2" y="20200"/>
                </a:lnTo>
                <a:close/>
              </a:path>
              <a:path fill="lighten" w="451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2" h="21600">
                <a:moveTo>
                  <a:pt x="19082" y="10800"/>
                </a:moveTo>
                <a:lnTo>
                  <a:pt x="29587" y="3794"/>
                </a:lnTo>
                <a:lnTo>
                  <a:pt x="29587" y="17806"/>
                </a:lnTo>
                <a:close/>
              </a:path>
              <a:path fill="darken" w="45162" h="21600">
                <a:moveTo>
                  <a:pt x="15574" y="3794"/>
                </a:moveTo>
                <a:lnTo>
                  <a:pt x="17237" y="3794"/>
                </a:lnTo>
                <a:lnTo>
                  <a:pt x="17237" y="17806"/>
                </a:lnTo>
                <a:lnTo>
                  <a:pt x="15574" y="17806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КАР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07000" y="1339920"/>
            <a:ext cx="286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5050"/>
                </a:solidFill>
                <a:uFillTx/>
                <a:latin typeface="Arial"/>
                <a:hlinkClick r:id="rId1" action="ppaction://hlinksldjump"/>
              </a:rPr>
              <a:t>Чистопис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5360" y="2133720"/>
            <a:ext cx="3512520" cy="45972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5050"/>
                </a:solidFill>
                <a:uFillTx/>
                <a:latin typeface="Arial"/>
                <a:hlinkClick r:id="rId2" action="ppaction://hlinksldjump"/>
              </a:rPr>
              <a:t>Словарная раб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5120" y="330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2997360"/>
            <a:ext cx="4873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Работа над новы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5050"/>
                </a:solidFill>
                <a:uFillTx/>
                <a:latin typeface="Arial"/>
                <a:hlinkClick r:id="rId3" action="ppaction://hlinksldjump"/>
              </a:rPr>
              <a:t>Из одного сл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5050"/>
                </a:solidFill>
                <a:uFillTx/>
                <a:latin typeface="Arial"/>
                <a:hlinkClick r:id="rId4" action="ppaction://hlinksldjump"/>
              </a:rPr>
              <a:t>Деформированное пред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авни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5050"/>
                </a:solidFill>
                <a:uFillTx/>
                <a:latin typeface="Arial"/>
                <a:hlinkClick r:id="rId5" action="ppaction://hlinksldjump"/>
              </a:rPr>
              <a:t>Прави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5050"/>
                </a:solidFill>
                <a:uFillTx/>
                <a:latin typeface="Arial"/>
                <a:hlinkClick r:id="rId6" action="ppaction://hlinksldjump"/>
              </a:rPr>
              <a:t>Упраж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5050"/>
                </a:solidFill>
                <a:uFillTx/>
                <a:latin typeface="Arial"/>
                <a:hlinkClick r:id="rId7" action="ppaction://hlinksldjump"/>
              </a:rPr>
              <a:t>Уров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ли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6084720" y="812880"/>
            <a:ext cx="2592720" cy="2489040"/>
          </a:xfrm>
          <a:prstGeom prst="rect">
            <a:avLst/>
          </a:prstGeom>
          <a:ln w="0">
            <a:noFill/>
          </a:ln>
        </p:spPr>
      </p:pic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7451640" y="6308640"/>
            <a:ext cx="611280" cy="324000"/>
          </a:xfrm>
          <a:custGeom>
            <a:avLst/>
            <a:gdLst>
              <a:gd name="textAreaLeft" fmla="*/ 20880 w 611280"/>
              <a:gd name="textAreaRight" fmla="*/ 590400 w 611280"/>
              <a:gd name="textAreaTop" fmla="*/ 20880 h 324000"/>
              <a:gd name="textAreaBottom" fmla="*/ 303120 h 324000"/>
            </a:gdLst>
            <a:ahLst/>
            <a:rect l="textAreaLeft" t="textAreaTop" r="textAreaRight" b="textAreaBottom"/>
            <a:pathLst>
              <a:path w="40731" h="21600">
                <a:moveTo>
                  <a:pt x="0" y="0"/>
                </a:moveTo>
                <a:lnTo>
                  <a:pt x="40731" y="0"/>
                </a:lnTo>
                <a:lnTo>
                  <a:pt x="40731" y="21600"/>
                </a:lnTo>
                <a:lnTo>
                  <a:pt x="0" y="21600"/>
                </a:lnTo>
                <a:close/>
              </a:path>
              <a:path fill="lightenLess" w="40731" h="21600">
                <a:moveTo>
                  <a:pt x="0" y="0"/>
                </a:moveTo>
                <a:lnTo>
                  <a:pt x="40731" y="0"/>
                </a:lnTo>
                <a:lnTo>
                  <a:pt x="39331" y="1400"/>
                </a:lnTo>
                <a:lnTo>
                  <a:pt x="1400" y="1400"/>
                </a:lnTo>
                <a:close/>
              </a:path>
              <a:path fill="darken" w="40731" h="21600">
                <a:moveTo>
                  <a:pt x="40731" y="0"/>
                </a:moveTo>
                <a:lnTo>
                  <a:pt x="40731" y="21600"/>
                </a:lnTo>
                <a:lnTo>
                  <a:pt x="39331" y="20200"/>
                </a:lnTo>
                <a:lnTo>
                  <a:pt x="39331" y="1400"/>
                </a:lnTo>
                <a:close/>
              </a:path>
              <a:path fill="darkenLess" w="40731" h="21600">
                <a:moveTo>
                  <a:pt x="407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331" y="20200"/>
                </a:lnTo>
                <a:close/>
              </a:path>
              <a:path fill="lighten" w="407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731" h="21600">
                <a:moveTo>
                  <a:pt x="20365" y="3837"/>
                </a:moveTo>
                <a:lnTo>
                  <a:pt x="22942" y="6448"/>
                </a:lnTo>
                <a:lnTo>
                  <a:pt x="22942" y="4707"/>
                </a:lnTo>
                <a:lnTo>
                  <a:pt x="24717" y="4707"/>
                </a:lnTo>
                <a:lnTo>
                  <a:pt x="24717" y="8224"/>
                </a:lnTo>
                <a:lnTo>
                  <a:pt x="27328" y="10800"/>
                </a:lnTo>
                <a:lnTo>
                  <a:pt x="25675" y="10800"/>
                </a:lnTo>
                <a:lnTo>
                  <a:pt x="25675" y="17989"/>
                </a:lnTo>
                <a:lnTo>
                  <a:pt x="15056" y="17989"/>
                </a:lnTo>
                <a:lnTo>
                  <a:pt x="15056" y="10800"/>
                </a:lnTo>
                <a:lnTo>
                  <a:pt x="13402" y="10800"/>
                </a:lnTo>
                <a:close/>
              </a:path>
              <a:path fill="darkenLess" w="40731" h="21600">
                <a:moveTo>
                  <a:pt x="22942" y="6448"/>
                </a:moveTo>
                <a:lnTo>
                  <a:pt x="22942" y="4707"/>
                </a:lnTo>
                <a:lnTo>
                  <a:pt x="24717" y="4707"/>
                </a:lnTo>
                <a:lnTo>
                  <a:pt x="24717" y="8224"/>
                </a:lnTo>
                <a:close/>
              </a:path>
              <a:path fill="darkenLess" w="40731" h="21600">
                <a:moveTo>
                  <a:pt x="19443" y="14299"/>
                </a:moveTo>
                <a:lnTo>
                  <a:pt x="21288" y="14299"/>
                </a:lnTo>
                <a:lnTo>
                  <a:pt x="21288" y="17989"/>
                </a:lnTo>
                <a:lnTo>
                  <a:pt x="25675" y="17989"/>
                </a:lnTo>
                <a:lnTo>
                  <a:pt x="25675" y="10800"/>
                </a:lnTo>
                <a:lnTo>
                  <a:pt x="15056" y="10800"/>
                </a:lnTo>
                <a:lnTo>
                  <a:pt x="15056" y="17989"/>
                </a:lnTo>
                <a:lnTo>
                  <a:pt x="19443" y="17989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172360" y="6308640"/>
            <a:ext cx="647640" cy="331920"/>
          </a:xfrm>
          <a:custGeom>
            <a:avLst/>
            <a:gdLst>
              <a:gd name="textAreaLeft" fmla="*/ 21240 w 647640"/>
              <a:gd name="textAreaRight" fmla="*/ 626400 w 647640"/>
              <a:gd name="textAreaTop" fmla="*/ 21240 h 331920"/>
              <a:gd name="textAreaBottom" fmla="*/ 310680 h 331920"/>
            </a:gdLst>
            <a:ahLst/>
            <a:rect l="textAreaLeft" t="textAreaTop" r="textAreaRight" b="textAreaBottom"/>
            <a:pathLst>
              <a:path w="42124" h="21600">
                <a:moveTo>
                  <a:pt x="0" y="0"/>
                </a:moveTo>
                <a:lnTo>
                  <a:pt x="42124" y="0"/>
                </a:lnTo>
                <a:lnTo>
                  <a:pt x="42124" y="21600"/>
                </a:lnTo>
                <a:lnTo>
                  <a:pt x="0" y="21600"/>
                </a:lnTo>
                <a:close/>
              </a:path>
              <a:path fill="lightenLess" w="42124" h="21600">
                <a:moveTo>
                  <a:pt x="0" y="0"/>
                </a:moveTo>
                <a:lnTo>
                  <a:pt x="42124" y="0"/>
                </a:lnTo>
                <a:lnTo>
                  <a:pt x="40724" y="1400"/>
                </a:lnTo>
                <a:lnTo>
                  <a:pt x="1400" y="1400"/>
                </a:lnTo>
                <a:close/>
              </a:path>
              <a:path fill="darken" w="42124" h="21600">
                <a:moveTo>
                  <a:pt x="42124" y="0"/>
                </a:moveTo>
                <a:lnTo>
                  <a:pt x="42124" y="21600"/>
                </a:lnTo>
                <a:lnTo>
                  <a:pt x="40724" y="20200"/>
                </a:lnTo>
                <a:lnTo>
                  <a:pt x="40724" y="1400"/>
                </a:lnTo>
                <a:close/>
              </a:path>
              <a:path fill="darkenLess" w="42124" h="21600">
                <a:moveTo>
                  <a:pt x="421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724" y="20200"/>
                </a:lnTo>
                <a:close/>
              </a:path>
              <a:path fill="lighten" w="421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124" h="21600">
                <a:moveTo>
                  <a:pt x="14055" y="7493"/>
                </a:moveTo>
                <a:lnTo>
                  <a:pt x="17563" y="7493"/>
                </a:lnTo>
                <a:lnTo>
                  <a:pt x="17563" y="12828"/>
                </a:lnTo>
                <a:cubicBezTo>
                  <a:pt x="17563" y="13751"/>
                  <a:pt x="18364" y="14482"/>
                  <a:pt x="19399" y="14482"/>
                </a:cubicBezTo>
                <a:lnTo>
                  <a:pt x="21062" y="14482"/>
                </a:lnTo>
                <a:cubicBezTo>
                  <a:pt x="22097" y="14482"/>
                  <a:pt x="22898" y="13751"/>
                  <a:pt x="22898" y="12828"/>
                </a:cubicBezTo>
                <a:lnTo>
                  <a:pt x="22898" y="7493"/>
                </a:lnTo>
                <a:lnTo>
                  <a:pt x="21062" y="7493"/>
                </a:lnTo>
                <a:lnTo>
                  <a:pt x="24569" y="3985"/>
                </a:lnTo>
                <a:lnTo>
                  <a:pt x="28242" y="7493"/>
                </a:lnTo>
                <a:lnTo>
                  <a:pt x="26406" y="7493"/>
                </a:lnTo>
                <a:lnTo>
                  <a:pt x="26406" y="12828"/>
                </a:lnTo>
                <a:cubicBezTo>
                  <a:pt x="26406" y="15596"/>
                  <a:pt x="23830" y="18155"/>
                  <a:pt x="21062" y="18155"/>
                </a:cubicBezTo>
                <a:lnTo>
                  <a:pt x="19399" y="18155"/>
                </a:lnTo>
                <a:cubicBezTo>
                  <a:pt x="16632" y="18155"/>
                  <a:pt x="14055" y="15596"/>
                  <a:pt x="14055" y="12828"/>
                </a:cubicBez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и верной собаке сторож спи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>
            <a:hlinkClick r:id="rId1" action="ppaction://hlinksldjump"/>
          </p:cNvPr>
          <p:cNvSpPr/>
          <p:nvPr/>
        </p:nvSpPr>
        <p:spPr>
          <a:xfrm>
            <a:off x="8101080" y="6308640"/>
            <a:ext cx="682560" cy="260280"/>
          </a:xfrm>
          <a:custGeom>
            <a:avLst/>
            <a:gdLst>
              <a:gd name="textAreaLeft" fmla="*/ 16560 w 682560"/>
              <a:gd name="textAreaRight" fmla="*/ 666000 w 68256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56596" h="21600">
                <a:moveTo>
                  <a:pt x="0" y="0"/>
                </a:moveTo>
                <a:lnTo>
                  <a:pt x="56596" y="0"/>
                </a:lnTo>
                <a:lnTo>
                  <a:pt x="56596" y="21600"/>
                </a:lnTo>
                <a:lnTo>
                  <a:pt x="0" y="21600"/>
                </a:lnTo>
                <a:close/>
              </a:path>
              <a:path fill="lightenLess" w="56596" h="21600">
                <a:moveTo>
                  <a:pt x="0" y="0"/>
                </a:moveTo>
                <a:lnTo>
                  <a:pt x="56596" y="0"/>
                </a:lnTo>
                <a:lnTo>
                  <a:pt x="55196" y="1400"/>
                </a:lnTo>
                <a:lnTo>
                  <a:pt x="1400" y="1400"/>
                </a:lnTo>
                <a:close/>
              </a:path>
              <a:path fill="darken" w="56596" h="21600">
                <a:moveTo>
                  <a:pt x="56596" y="0"/>
                </a:moveTo>
                <a:lnTo>
                  <a:pt x="56596" y="21600"/>
                </a:lnTo>
                <a:lnTo>
                  <a:pt x="55196" y="20200"/>
                </a:lnTo>
                <a:lnTo>
                  <a:pt x="55196" y="1400"/>
                </a:lnTo>
                <a:close/>
              </a:path>
              <a:path fill="darkenLess" w="56596" h="21600">
                <a:moveTo>
                  <a:pt x="56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196" y="20200"/>
                </a:lnTo>
                <a:close/>
              </a:path>
              <a:path fill="lighten" w="56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596" h="21600">
                <a:moveTo>
                  <a:pt x="24799" y="10800"/>
                </a:moveTo>
                <a:lnTo>
                  <a:pt x="35304" y="3794"/>
                </a:lnTo>
                <a:lnTo>
                  <a:pt x="35304" y="17806"/>
                </a:lnTo>
                <a:close/>
              </a:path>
              <a:path fill="darken" w="56596" h="21600">
                <a:moveTo>
                  <a:pt x="21291" y="3794"/>
                </a:moveTo>
                <a:lnTo>
                  <a:pt x="22954" y="3794"/>
                </a:lnTo>
                <a:lnTo>
                  <a:pt x="22954" y="17806"/>
                </a:lnTo>
                <a:lnTo>
                  <a:pt x="21291" y="17806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684360" y="318960"/>
            <a:ext cx="2374920" cy="19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2960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ПРАВИЛ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50920" y="1628640"/>
            <a:ext cx="889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Предложени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это слово или несколько слов,  которые выражают законченную мыс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лова в предложении связаны по смыслу, грамматически       и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интонац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>
            <a:hlinkClick r:id="rId1" action="ppaction://hlinksldjump"/>
          </p:cNvPr>
          <p:cNvSpPr/>
          <p:nvPr/>
        </p:nvSpPr>
        <p:spPr>
          <a:xfrm>
            <a:off x="2700360" y="3573360"/>
            <a:ext cx="3073320" cy="1008000"/>
          </a:xfrm>
          <a:prstGeom prst="wedgeRectCallout">
            <a:avLst>
              <a:gd name="adj1" fmla="val -72518"/>
              <a:gd name="adj2" fmla="val -9519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то повышение или понижение голоса при произноше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>
            <a:hlinkClick r:id="rId2" action="ppaction://hlinksldjump"/>
          </p:cNvPr>
          <p:cNvSpPr/>
          <p:nvPr/>
        </p:nvSpPr>
        <p:spPr>
          <a:xfrm>
            <a:off x="8028000" y="6237360"/>
            <a:ext cx="611280" cy="322200"/>
          </a:xfrm>
          <a:custGeom>
            <a:avLst/>
            <a:gdLst>
              <a:gd name="textAreaLeft" fmla="*/ 20880 w 611280"/>
              <a:gd name="textAreaRight" fmla="*/ 590400 w 611280"/>
              <a:gd name="textAreaTop" fmla="*/ 20880 h 322200"/>
              <a:gd name="textAreaBottom" fmla="*/ 301320 h 322200"/>
            </a:gdLst>
            <a:ahLst/>
            <a:rect l="textAreaLeft" t="textAreaTop" r="textAreaRight" b="textAreaBottom"/>
            <a:pathLst>
              <a:path w="40958" h="21600">
                <a:moveTo>
                  <a:pt x="0" y="0"/>
                </a:moveTo>
                <a:lnTo>
                  <a:pt x="40958" y="0"/>
                </a:lnTo>
                <a:lnTo>
                  <a:pt x="40958" y="21600"/>
                </a:lnTo>
                <a:lnTo>
                  <a:pt x="0" y="21600"/>
                </a:lnTo>
                <a:close/>
              </a:path>
              <a:path fill="lightenLess" w="40958" h="21600">
                <a:moveTo>
                  <a:pt x="0" y="0"/>
                </a:moveTo>
                <a:lnTo>
                  <a:pt x="40958" y="0"/>
                </a:lnTo>
                <a:lnTo>
                  <a:pt x="39558" y="1400"/>
                </a:lnTo>
                <a:lnTo>
                  <a:pt x="1400" y="1400"/>
                </a:lnTo>
                <a:close/>
              </a:path>
              <a:path fill="darken" w="40958" h="21600">
                <a:moveTo>
                  <a:pt x="40958" y="0"/>
                </a:moveTo>
                <a:lnTo>
                  <a:pt x="40958" y="21600"/>
                </a:lnTo>
                <a:lnTo>
                  <a:pt x="39558" y="20200"/>
                </a:lnTo>
                <a:lnTo>
                  <a:pt x="39558" y="1400"/>
                </a:lnTo>
                <a:close/>
              </a:path>
              <a:path fill="darkenLess" w="40958" h="21600">
                <a:moveTo>
                  <a:pt x="409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58" y="20200"/>
                </a:lnTo>
                <a:close/>
              </a:path>
              <a:path fill="lighten" w="409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958" h="21600">
                <a:moveTo>
                  <a:pt x="16980" y="10800"/>
                </a:moveTo>
                <a:lnTo>
                  <a:pt x="27485" y="3794"/>
                </a:lnTo>
                <a:lnTo>
                  <a:pt x="27485" y="17806"/>
                </a:lnTo>
                <a:close/>
              </a:path>
              <a:path fill="darken" w="40958" h="21600">
                <a:moveTo>
                  <a:pt x="13473" y="3794"/>
                </a:moveTo>
                <a:lnTo>
                  <a:pt x="15135" y="3794"/>
                </a:lnTo>
                <a:lnTo>
                  <a:pt x="15135" y="17806"/>
                </a:lnTo>
                <a:lnTo>
                  <a:pt x="13473" y="17806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Упражн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16920" y="1125360"/>
            <a:ext cx="749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Задание: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Прочитайте. Разделите текст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предложения. Запишите. Закончите текс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своим предлож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-155160" y="2708280"/>
            <a:ext cx="948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обака – это радость и забота её надо корми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ыводить на прогулку, обучать тогда 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тановится друг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239840" y="4456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23560" y="5157720"/>
            <a:ext cx="348660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5050"/>
                </a:solidFill>
                <a:uFillTx/>
                <a:latin typeface="Arial"/>
                <a:hlinkClick r:id="rId1" action="ppaction://hlinksldjump"/>
              </a:rPr>
              <a:t>Проверь с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028000" y="6165720"/>
            <a:ext cx="755640" cy="287640"/>
          </a:xfrm>
          <a:custGeom>
            <a:avLst/>
            <a:gdLst>
              <a:gd name="textAreaLeft" fmla="*/ 18360 w 755640"/>
              <a:gd name="textAreaRight" fmla="*/ 737280 w 75564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56700" h="21600">
                <a:moveTo>
                  <a:pt x="0" y="0"/>
                </a:moveTo>
                <a:lnTo>
                  <a:pt x="56700" y="0"/>
                </a:lnTo>
                <a:lnTo>
                  <a:pt x="56700" y="21600"/>
                </a:lnTo>
                <a:lnTo>
                  <a:pt x="0" y="21600"/>
                </a:lnTo>
                <a:close/>
              </a:path>
              <a:path fill="lightenLess" w="56700" h="21600">
                <a:moveTo>
                  <a:pt x="0" y="0"/>
                </a:moveTo>
                <a:lnTo>
                  <a:pt x="56700" y="0"/>
                </a:lnTo>
                <a:lnTo>
                  <a:pt x="55300" y="1400"/>
                </a:lnTo>
                <a:lnTo>
                  <a:pt x="1400" y="1400"/>
                </a:lnTo>
                <a:close/>
              </a:path>
              <a:path fill="darken" w="56700" h="21600">
                <a:moveTo>
                  <a:pt x="56700" y="0"/>
                </a:moveTo>
                <a:lnTo>
                  <a:pt x="56700" y="21600"/>
                </a:lnTo>
                <a:lnTo>
                  <a:pt x="55300" y="20200"/>
                </a:lnTo>
                <a:lnTo>
                  <a:pt x="55300" y="1400"/>
                </a:lnTo>
                <a:close/>
              </a:path>
              <a:path fill="darkenLess" w="56700" h="21600">
                <a:moveTo>
                  <a:pt x="567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300" y="20200"/>
                </a:lnTo>
                <a:close/>
              </a:path>
              <a:path fill="lighten" w="567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700" h="21600">
                <a:moveTo>
                  <a:pt x="24851" y="10800"/>
                </a:moveTo>
                <a:lnTo>
                  <a:pt x="35356" y="3794"/>
                </a:lnTo>
                <a:lnTo>
                  <a:pt x="35356" y="17806"/>
                </a:lnTo>
                <a:close/>
              </a:path>
              <a:path fill="darken" w="56700" h="21600">
                <a:moveTo>
                  <a:pt x="21344" y="3794"/>
                </a:moveTo>
                <a:lnTo>
                  <a:pt x="23006" y="3794"/>
                </a:lnTo>
                <a:lnTo>
                  <a:pt x="23006" y="17806"/>
                </a:lnTo>
                <a:lnTo>
                  <a:pt x="21344" y="17806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4320" y="1844640"/>
            <a:ext cx="937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обака – это радость и забота. Её над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ормить, выводить на прогулку, обучать. Тог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на становится друг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Проверка упражн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>
            <a:hlinkClick r:id="rId1" action="ppaction://hlinksldjump"/>
          </p:cNvPr>
          <p:cNvSpPr/>
          <p:nvPr/>
        </p:nvSpPr>
        <p:spPr>
          <a:xfrm>
            <a:off x="8101080" y="6381720"/>
            <a:ext cx="682560" cy="250920"/>
          </a:xfrm>
          <a:custGeom>
            <a:avLst/>
            <a:gdLst>
              <a:gd name="textAreaLeft" fmla="*/ 16200 w 682560"/>
              <a:gd name="textAreaRight" fmla="*/ 666360 w 682560"/>
              <a:gd name="textAreaTop" fmla="*/ 16200 h 250920"/>
              <a:gd name="textAreaBottom" fmla="*/ 234720 h 250920"/>
            </a:gdLst>
            <a:ahLst/>
            <a:rect l="textAreaLeft" t="textAreaTop" r="textAreaRight" b="textAreaBottom"/>
            <a:pathLst>
              <a:path w="58704" h="21600">
                <a:moveTo>
                  <a:pt x="0" y="0"/>
                </a:moveTo>
                <a:lnTo>
                  <a:pt x="58704" y="0"/>
                </a:lnTo>
                <a:lnTo>
                  <a:pt x="58704" y="21600"/>
                </a:lnTo>
                <a:lnTo>
                  <a:pt x="0" y="21600"/>
                </a:lnTo>
                <a:close/>
              </a:path>
              <a:path fill="lightenLess" w="58704" h="21600">
                <a:moveTo>
                  <a:pt x="0" y="0"/>
                </a:moveTo>
                <a:lnTo>
                  <a:pt x="58704" y="0"/>
                </a:lnTo>
                <a:lnTo>
                  <a:pt x="57304" y="1400"/>
                </a:lnTo>
                <a:lnTo>
                  <a:pt x="1400" y="1400"/>
                </a:lnTo>
                <a:close/>
              </a:path>
              <a:path fill="darken" w="58704" h="21600">
                <a:moveTo>
                  <a:pt x="58704" y="0"/>
                </a:moveTo>
                <a:lnTo>
                  <a:pt x="58704" y="21600"/>
                </a:lnTo>
                <a:lnTo>
                  <a:pt x="57304" y="20200"/>
                </a:lnTo>
                <a:lnTo>
                  <a:pt x="57304" y="1400"/>
                </a:lnTo>
                <a:close/>
              </a:path>
              <a:path fill="darkenLess" w="58704" h="21600">
                <a:moveTo>
                  <a:pt x="58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304" y="20200"/>
                </a:lnTo>
                <a:close/>
              </a:path>
              <a:path fill="lighten" w="58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8704" h="21600">
                <a:moveTo>
                  <a:pt x="25853" y="10800"/>
                </a:moveTo>
                <a:lnTo>
                  <a:pt x="36358" y="3794"/>
                </a:lnTo>
                <a:lnTo>
                  <a:pt x="36358" y="17806"/>
                </a:lnTo>
                <a:close/>
              </a:path>
              <a:path fill="darken" w="58704" h="21600">
                <a:moveTo>
                  <a:pt x="22345" y="3794"/>
                </a:moveTo>
                <a:lnTo>
                  <a:pt x="24008" y="3794"/>
                </a:lnTo>
                <a:lnTo>
                  <a:pt x="24008" y="17806"/>
                </a:lnTo>
                <a:lnTo>
                  <a:pt x="22345" y="17806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5364000" y="3573360"/>
            <a:ext cx="1724040" cy="18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УРОВ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24000" y="692280"/>
            <a:ext cx="856908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Уровень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Задание: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Прочитайте и выпишите только предло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ступила осень. На птица сидела ветка. Подул холодный вете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ерхушка ель на дяте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4000" y="1989000"/>
            <a:ext cx="842472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Уровень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Задание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Составьте и запишите из слов каждой строчки предлож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робей, обедал, г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, лесу, хорошо, как, осен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щебечут, в, птицы, са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00000" y="4653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-101520" y="3933720"/>
            <a:ext cx="935712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Уровень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Задание: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Прочитайте. Найдите лишние сло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Спишите предложения, исправив ошиб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очью как ярко светит. Солнышко дети идут. На пруд. Мальчики ста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овить рыб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19120" y="5824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-14400" y="5950080"/>
            <a:ext cx="348660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5050"/>
                </a:solidFill>
                <a:uFillTx/>
                <a:latin typeface="Arial"/>
                <a:hlinkClick r:id="rId1" action="ppaction://hlinksldjump"/>
              </a:rPr>
              <a:t>Проверь с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>
            <a:hlinkClick r:id="rId2" action="ppaction://hlinksldjump"/>
          </p:cNvPr>
          <p:cNvSpPr/>
          <p:nvPr/>
        </p:nvSpPr>
        <p:spPr>
          <a:xfrm>
            <a:off x="8172360" y="6308640"/>
            <a:ext cx="647640" cy="250920"/>
          </a:xfrm>
          <a:custGeom>
            <a:avLst/>
            <a:gdLst>
              <a:gd name="textAreaLeft" fmla="*/ 16200 w 647640"/>
              <a:gd name="textAreaRight" fmla="*/ 631440 w 647640"/>
              <a:gd name="textAreaTop" fmla="*/ 16200 h 250920"/>
              <a:gd name="textAreaBottom" fmla="*/ 234720 h 250920"/>
            </a:gdLst>
            <a:ahLst/>
            <a:rect l="textAreaLeft" t="textAreaTop" r="textAreaRight" b="textAreaBottom"/>
            <a:pathLst>
              <a:path w="55702" h="21600">
                <a:moveTo>
                  <a:pt x="0" y="0"/>
                </a:moveTo>
                <a:lnTo>
                  <a:pt x="55702" y="0"/>
                </a:lnTo>
                <a:lnTo>
                  <a:pt x="55702" y="21600"/>
                </a:lnTo>
                <a:lnTo>
                  <a:pt x="0" y="21600"/>
                </a:lnTo>
                <a:close/>
              </a:path>
              <a:path fill="lightenLess" w="55702" h="21600">
                <a:moveTo>
                  <a:pt x="0" y="0"/>
                </a:moveTo>
                <a:lnTo>
                  <a:pt x="55702" y="0"/>
                </a:lnTo>
                <a:lnTo>
                  <a:pt x="54302" y="1400"/>
                </a:lnTo>
                <a:lnTo>
                  <a:pt x="1400" y="1400"/>
                </a:lnTo>
                <a:close/>
              </a:path>
              <a:path fill="darken" w="55702" h="21600">
                <a:moveTo>
                  <a:pt x="55702" y="0"/>
                </a:moveTo>
                <a:lnTo>
                  <a:pt x="55702" y="21600"/>
                </a:lnTo>
                <a:lnTo>
                  <a:pt x="54302" y="20200"/>
                </a:lnTo>
                <a:lnTo>
                  <a:pt x="54302" y="1400"/>
                </a:lnTo>
                <a:close/>
              </a:path>
              <a:path fill="darkenLess" w="55702" h="21600">
                <a:moveTo>
                  <a:pt x="557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302" y="20200"/>
                </a:lnTo>
                <a:close/>
              </a:path>
              <a:path fill="lighten" w="557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702" h="21600">
                <a:moveTo>
                  <a:pt x="24352" y="10800"/>
                </a:moveTo>
                <a:lnTo>
                  <a:pt x="34857" y="3794"/>
                </a:lnTo>
                <a:lnTo>
                  <a:pt x="34857" y="17806"/>
                </a:lnTo>
                <a:close/>
              </a:path>
              <a:path fill="darken" w="55702" h="21600">
                <a:moveTo>
                  <a:pt x="20845" y="3794"/>
                </a:moveTo>
                <a:lnTo>
                  <a:pt x="22507" y="3794"/>
                </a:lnTo>
                <a:lnTo>
                  <a:pt x="22507" y="17806"/>
                </a:lnTo>
                <a:lnTo>
                  <a:pt x="20845" y="17806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6804000" y="0"/>
            <a:ext cx="183528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79280" y="1341360"/>
            <a:ext cx="842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Уровень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ступила осень. Подул холодный вет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ПРОВЕРКА УРОВН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-92160" y="2133720"/>
            <a:ext cx="5132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Уровень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Где обедал воробе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Как хорошо осенью в лесу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 хорошо в лесу осенью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В саду щебечут пти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тицы щебечут в са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Щебечут в саду пти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-248400" y="4797360"/>
            <a:ext cx="974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Уровень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 ярко светит днем солнышко! Дети идут на пруд. Мальч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али ловить рыб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>
            <a:hlinkClick r:id="rId1" action="ppaction://hlinksldjump"/>
          </p:cNvPr>
          <p:cNvSpPr/>
          <p:nvPr/>
        </p:nvSpPr>
        <p:spPr>
          <a:xfrm>
            <a:off x="8101080" y="6308640"/>
            <a:ext cx="753840" cy="324000"/>
          </a:xfrm>
          <a:custGeom>
            <a:avLst/>
            <a:gdLst>
              <a:gd name="textAreaLeft" fmla="*/ 20880 w 753840"/>
              <a:gd name="textAreaRight" fmla="*/ 732960 w 753840"/>
              <a:gd name="textAreaTop" fmla="*/ 20880 h 324000"/>
              <a:gd name="textAreaBottom" fmla="*/ 303120 h 324000"/>
            </a:gdLst>
            <a:ahLst/>
            <a:rect l="textAreaLeft" t="textAreaTop" r="textAreaRight" b="textAreaBottom"/>
            <a:pathLst>
              <a:path w="50224" h="21600">
                <a:moveTo>
                  <a:pt x="0" y="0"/>
                </a:moveTo>
                <a:lnTo>
                  <a:pt x="50224" y="0"/>
                </a:lnTo>
                <a:lnTo>
                  <a:pt x="50224" y="21600"/>
                </a:lnTo>
                <a:lnTo>
                  <a:pt x="0" y="21600"/>
                </a:lnTo>
                <a:close/>
              </a:path>
              <a:path fill="lightenLess" w="50224" h="21600">
                <a:moveTo>
                  <a:pt x="0" y="0"/>
                </a:moveTo>
                <a:lnTo>
                  <a:pt x="50224" y="0"/>
                </a:lnTo>
                <a:lnTo>
                  <a:pt x="48824" y="1400"/>
                </a:lnTo>
                <a:lnTo>
                  <a:pt x="1400" y="1400"/>
                </a:lnTo>
                <a:close/>
              </a:path>
              <a:path fill="darken" w="50224" h="21600">
                <a:moveTo>
                  <a:pt x="50224" y="0"/>
                </a:moveTo>
                <a:lnTo>
                  <a:pt x="50224" y="21600"/>
                </a:lnTo>
                <a:lnTo>
                  <a:pt x="48824" y="20200"/>
                </a:lnTo>
                <a:lnTo>
                  <a:pt x="48824" y="1400"/>
                </a:lnTo>
                <a:close/>
              </a:path>
              <a:path fill="darkenLess" w="50224" h="21600">
                <a:moveTo>
                  <a:pt x="502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824" y="20200"/>
                </a:lnTo>
                <a:close/>
              </a:path>
              <a:path fill="lighten" w="502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224" h="21600">
                <a:moveTo>
                  <a:pt x="21613" y="10800"/>
                </a:moveTo>
                <a:lnTo>
                  <a:pt x="32119" y="3794"/>
                </a:lnTo>
                <a:lnTo>
                  <a:pt x="32119" y="17806"/>
                </a:lnTo>
                <a:close/>
              </a:path>
              <a:path fill="darken" w="50224" h="21600">
                <a:moveTo>
                  <a:pt x="18106" y="3794"/>
                </a:moveTo>
                <a:lnTo>
                  <a:pt x="19768" y="3794"/>
                </a:lnTo>
                <a:lnTo>
                  <a:pt x="19768" y="17806"/>
                </a:lnTo>
                <a:lnTo>
                  <a:pt x="18106" y="17806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БЛИ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39640" y="836640"/>
            <a:ext cx="330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Наша речь состоит из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99080" y="1413000"/>
            <a:ext cx="36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2. Предложение – это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99440" y="1916280"/>
            <a:ext cx="32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Интонация – это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84360" y="2421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99800" y="2492280"/>
            <a:ext cx="645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4. В устной речи в конце предложения делаем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98720" y="2924280"/>
            <a:ext cx="394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 Слова в предложении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98720" y="3357720"/>
            <a:ext cx="50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6. Начало предложения пишется с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97280" y="3860640"/>
            <a:ext cx="39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. В конце предложения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98720" y="4365720"/>
            <a:ext cx="80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8.  Если в предложении о чём-либо спокойно сообщается, то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99440" y="4869000"/>
            <a:ext cx="647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. Если в предложении содержится вопрос, то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03760" y="5373720"/>
            <a:ext cx="840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10. В конце предложения ставится восклицательный знак, если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>
            <a:hlinkClick r:id="rId1" action="ppaction://hlinksldjump"/>
          </p:cNvPr>
          <p:cNvSpPr/>
          <p:nvPr/>
        </p:nvSpPr>
        <p:spPr>
          <a:xfrm>
            <a:off x="8244000" y="6308640"/>
            <a:ext cx="684000" cy="289080"/>
          </a:xfrm>
          <a:custGeom>
            <a:avLst/>
            <a:gdLst>
              <a:gd name="textAreaLeft" fmla="*/ 18720 w 684000"/>
              <a:gd name="textAreaRight" fmla="*/ 665280 w 68400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51072" h="21600">
                <a:moveTo>
                  <a:pt x="0" y="0"/>
                </a:moveTo>
                <a:lnTo>
                  <a:pt x="51072" y="0"/>
                </a:lnTo>
                <a:lnTo>
                  <a:pt x="51072" y="21600"/>
                </a:lnTo>
                <a:lnTo>
                  <a:pt x="0" y="21600"/>
                </a:lnTo>
                <a:close/>
              </a:path>
              <a:path fill="lightenLess" w="51072" h="21600">
                <a:moveTo>
                  <a:pt x="0" y="0"/>
                </a:moveTo>
                <a:lnTo>
                  <a:pt x="51072" y="0"/>
                </a:lnTo>
                <a:lnTo>
                  <a:pt x="49672" y="1400"/>
                </a:lnTo>
                <a:lnTo>
                  <a:pt x="1400" y="1400"/>
                </a:lnTo>
                <a:close/>
              </a:path>
              <a:path fill="darken" w="51072" h="21600">
                <a:moveTo>
                  <a:pt x="51072" y="0"/>
                </a:moveTo>
                <a:lnTo>
                  <a:pt x="51072" y="21600"/>
                </a:lnTo>
                <a:lnTo>
                  <a:pt x="49672" y="20200"/>
                </a:lnTo>
                <a:lnTo>
                  <a:pt x="49672" y="1400"/>
                </a:lnTo>
                <a:close/>
              </a:path>
              <a:path fill="darkenLess" w="51072" h="21600">
                <a:moveTo>
                  <a:pt x="510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672" y="20200"/>
                </a:lnTo>
                <a:close/>
              </a:path>
              <a:path fill="lighten" w="510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072" h="21600">
                <a:moveTo>
                  <a:pt x="22037" y="10800"/>
                </a:moveTo>
                <a:lnTo>
                  <a:pt x="32542" y="3794"/>
                </a:lnTo>
                <a:lnTo>
                  <a:pt x="32542" y="17806"/>
                </a:lnTo>
                <a:close/>
              </a:path>
              <a:path fill="darken" w="51072" h="21600">
                <a:moveTo>
                  <a:pt x="18529" y="3794"/>
                </a:moveTo>
                <a:lnTo>
                  <a:pt x="20192" y="3794"/>
                </a:lnTo>
                <a:lnTo>
                  <a:pt x="20192" y="17806"/>
                </a:lnTo>
                <a:lnTo>
                  <a:pt x="18529" y="17806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>
            <a:hlinkClick r:id="" action="ppaction://hlinkshowjump?jump=firstslide"/>
          </p:cNvPr>
          <p:cNvSpPr/>
          <p:nvPr/>
        </p:nvSpPr>
        <p:spPr>
          <a:xfrm>
            <a:off x="7308720" y="6308640"/>
            <a:ext cx="792360" cy="289080"/>
          </a:xfrm>
          <a:custGeom>
            <a:avLst/>
            <a:gdLst>
              <a:gd name="textAreaLeft" fmla="*/ 18720 w 792360"/>
              <a:gd name="textAreaRight" fmla="*/ 773640 w 792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59158" h="21600">
                <a:moveTo>
                  <a:pt x="0" y="0"/>
                </a:moveTo>
                <a:lnTo>
                  <a:pt x="59158" y="0"/>
                </a:lnTo>
                <a:lnTo>
                  <a:pt x="59158" y="21600"/>
                </a:lnTo>
                <a:lnTo>
                  <a:pt x="0" y="21600"/>
                </a:lnTo>
                <a:close/>
              </a:path>
              <a:path fill="lightenLess" w="59158" h="21600">
                <a:moveTo>
                  <a:pt x="0" y="0"/>
                </a:moveTo>
                <a:lnTo>
                  <a:pt x="59158" y="0"/>
                </a:lnTo>
                <a:lnTo>
                  <a:pt x="57758" y="1400"/>
                </a:lnTo>
                <a:lnTo>
                  <a:pt x="1400" y="1400"/>
                </a:lnTo>
                <a:close/>
              </a:path>
              <a:path fill="darken" w="59158" h="21600">
                <a:moveTo>
                  <a:pt x="59158" y="0"/>
                </a:moveTo>
                <a:lnTo>
                  <a:pt x="59158" y="21600"/>
                </a:lnTo>
                <a:lnTo>
                  <a:pt x="57758" y="20200"/>
                </a:lnTo>
                <a:lnTo>
                  <a:pt x="57758" y="1400"/>
                </a:lnTo>
                <a:close/>
              </a:path>
              <a:path fill="darkenLess" w="59158" h="21600">
                <a:moveTo>
                  <a:pt x="591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758" y="20200"/>
                </a:lnTo>
                <a:close/>
              </a:path>
              <a:path fill="lighten" w="591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158" h="21600">
                <a:moveTo>
                  <a:pt x="29579" y="3837"/>
                </a:moveTo>
                <a:lnTo>
                  <a:pt x="32155" y="6448"/>
                </a:lnTo>
                <a:lnTo>
                  <a:pt x="32155" y="4707"/>
                </a:lnTo>
                <a:lnTo>
                  <a:pt x="33931" y="4707"/>
                </a:lnTo>
                <a:lnTo>
                  <a:pt x="33931" y="8224"/>
                </a:lnTo>
                <a:lnTo>
                  <a:pt x="36542" y="10800"/>
                </a:lnTo>
                <a:lnTo>
                  <a:pt x="34888" y="10800"/>
                </a:lnTo>
                <a:lnTo>
                  <a:pt x="34888" y="17989"/>
                </a:lnTo>
                <a:lnTo>
                  <a:pt x="24270" y="17989"/>
                </a:lnTo>
                <a:lnTo>
                  <a:pt x="24270" y="10800"/>
                </a:lnTo>
                <a:lnTo>
                  <a:pt x="22616" y="10800"/>
                </a:lnTo>
                <a:close/>
              </a:path>
              <a:path fill="darkenLess" w="59158" h="21600">
                <a:moveTo>
                  <a:pt x="32155" y="6448"/>
                </a:moveTo>
                <a:lnTo>
                  <a:pt x="32155" y="4707"/>
                </a:lnTo>
                <a:lnTo>
                  <a:pt x="33931" y="4707"/>
                </a:lnTo>
                <a:lnTo>
                  <a:pt x="33931" y="8224"/>
                </a:lnTo>
                <a:close/>
              </a:path>
              <a:path fill="darkenLess" w="59158" h="21600">
                <a:moveTo>
                  <a:pt x="28657" y="14299"/>
                </a:moveTo>
                <a:lnTo>
                  <a:pt x="30502" y="14299"/>
                </a:lnTo>
                <a:lnTo>
                  <a:pt x="30502" y="17989"/>
                </a:lnTo>
                <a:lnTo>
                  <a:pt x="34888" y="17989"/>
                </a:lnTo>
                <a:lnTo>
                  <a:pt x="34888" y="10800"/>
                </a:lnTo>
                <a:lnTo>
                  <a:pt x="24270" y="10800"/>
                </a:lnTo>
                <a:lnTo>
                  <a:pt x="24270" y="17989"/>
                </a:lnTo>
                <a:lnTo>
                  <a:pt x="28657" y="17989"/>
                </a:lnTo>
                <a:close/>
              </a:path>
            </a:pathLst>
          </a:custGeom>
          <a:solidFill>
            <a:srgbClr val="777777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6588000" y="260280"/>
            <a:ext cx="107964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3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3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3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3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3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3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3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3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3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3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3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3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3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3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3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СРАВНИТ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50920" y="1916280"/>
            <a:ext cx="86421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скимосские лайки способна на длительные переходы в упряж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скимосские лайки способны на длительные переходы в упряж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101080" y="6308640"/>
            <a:ext cx="753840" cy="324000"/>
          </a:xfrm>
          <a:custGeom>
            <a:avLst/>
            <a:gdLst>
              <a:gd name="textAreaLeft" fmla="*/ 20880 w 753840"/>
              <a:gd name="textAreaRight" fmla="*/ 732960 w 753840"/>
              <a:gd name="textAreaTop" fmla="*/ 20880 h 324000"/>
              <a:gd name="textAreaBottom" fmla="*/ 303120 h 324000"/>
            </a:gdLst>
            <a:ahLst/>
            <a:rect l="textAreaLeft" t="textAreaTop" r="textAreaRight" b="textAreaBottom"/>
            <a:pathLst>
              <a:path w="50224" h="21600">
                <a:moveTo>
                  <a:pt x="0" y="0"/>
                </a:moveTo>
                <a:lnTo>
                  <a:pt x="50224" y="0"/>
                </a:lnTo>
                <a:lnTo>
                  <a:pt x="50224" y="21600"/>
                </a:lnTo>
                <a:lnTo>
                  <a:pt x="0" y="21600"/>
                </a:lnTo>
                <a:close/>
              </a:path>
              <a:path fill="lightenLess" w="50224" h="21600">
                <a:moveTo>
                  <a:pt x="0" y="0"/>
                </a:moveTo>
                <a:lnTo>
                  <a:pt x="50224" y="0"/>
                </a:lnTo>
                <a:lnTo>
                  <a:pt x="48824" y="1400"/>
                </a:lnTo>
                <a:lnTo>
                  <a:pt x="1400" y="1400"/>
                </a:lnTo>
                <a:close/>
              </a:path>
              <a:path fill="darken" w="50224" h="21600">
                <a:moveTo>
                  <a:pt x="50224" y="0"/>
                </a:moveTo>
                <a:lnTo>
                  <a:pt x="50224" y="21600"/>
                </a:lnTo>
                <a:lnTo>
                  <a:pt x="48824" y="20200"/>
                </a:lnTo>
                <a:lnTo>
                  <a:pt x="48824" y="1400"/>
                </a:lnTo>
                <a:close/>
              </a:path>
              <a:path fill="darkenLess" w="50224" h="21600">
                <a:moveTo>
                  <a:pt x="502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824" y="20200"/>
                </a:lnTo>
                <a:close/>
              </a:path>
              <a:path fill="lighten" w="502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224" h="21600">
                <a:moveTo>
                  <a:pt x="21613" y="10800"/>
                </a:moveTo>
                <a:lnTo>
                  <a:pt x="32119" y="3794"/>
                </a:lnTo>
                <a:lnTo>
                  <a:pt x="32119" y="17806"/>
                </a:lnTo>
                <a:close/>
              </a:path>
              <a:path fill="darken" w="50224" h="21600">
                <a:moveTo>
                  <a:pt x="18106" y="3794"/>
                </a:moveTo>
                <a:lnTo>
                  <a:pt x="19768" y="3794"/>
                </a:lnTo>
                <a:lnTo>
                  <a:pt x="19768" y="17806"/>
                </a:lnTo>
                <a:lnTo>
                  <a:pt x="18106" y="17806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250920" y="622800"/>
            <a:ext cx="86756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СКИМОССКАЯ ЛАЙ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Eskimo Dog, American Husky, Esquimaux Сanadian Eskimo Dog), порода служебных собак; известна с древнейших времен, относится к арктическим ездовым собакам. Эскимосская лайка происходит из Гренландии, находится в близком родстве с другими ездовыми собаками: маламутом, сибирским хаски и самоедской лайкой. Эскимосы и жители севера Канады называют эту собаку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ингмик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Мощная эскимосская лайка — средство передвижения для народов Севера. Они могут возить тяжелые грузы и вытаскивать на берег рыбачьи лодки. С этими лайками охотятся на медвед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щный вид, пропорциональное сложение свидетельствуют о предназначении этой собаки для тяжелой работы. Высота в холке 51-69 см, вес 27-48 см. Голова широкая, клиновидная, переход плавный. Морда средней длины, слегка суживается к мочке носа. Грудь глубокая. Лопатки широкие. Мускулатура хорошо развита, конечности крепкие, сильные. Хвост высоко посажен, длинный, пушистый, закинут на спину, держится с бо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Шерсть длинная, прямая, с плотным, непроницаемым подшерстком. Окрас различный, с любыми комбинациями. Эскимосская лайка — сильная, неприхотливая собака, способная на длительные переходы в упряжке и даже самостоятельно добывать пищу. Как ездовая собака не знает себе равных. Жить в помещении не приспособле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8244000" y="6308640"/>
            <a:ext cx="684000" cy="333360"/>
          </a:xfrm>
          <a:custGeom>
            <a:avLst/>
            <a:gdLst>
              <a:gd name="textAreaLeft" fmla="*/ 21600 w 684000"/>
              <a:gd name="textAreaRight" fmla="*/ 662400 w 68400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44295" h="21600">
                <a:moveTo>
                  <a:pt x="0" y="0"/>
                </a:moveTo>
                <a:lnTo>
                  <a:pt x="44295" y="0"/>
                </a:lnTo>
                <a:lnTo>
                  <a:pt x="44295" y="21600"/>
                </a:lnTo>
                <a:lnTo>
                  <a:pt x="0" y="21600"/>
                </a:lnTo>
                <a:close/>
              </a:path>
              <a:path fill="lightenLess" w="44295" h="21600">
                <a:moveTo>
                  <a:pt x="0" y="0"/>
                </a:moveTo>
                <a:lnTo>
                  <a:pt x="44295" y="0"/>
                </a:lnTo>
                <a:lnTo>
                  <a:pt x="42895" y="1400"/>
                </a:lnTo>
                <a:lnTo>
                  <a:pt x="1400" y="1400"/>
                </a:lnTo>
                <a:close/>
              </a:path>
              <a:path fill="darken" w="44295" h="21600">
                <a:moveTo>
                  <a:pt x="44295" y="0"/>
                </a:moveTo>
                <a:lnTo>
                  <a:pt x="44295" y="21600"/>
                </a:lnTo>
                <a:lnTo>
                  <a:pt x="42895" y="20200"/>
                </a:lnTo>
                <a:lnTo>
                  <a:pt x="42895" y="1400"/>
                </a:lnTo>
                <a:close/>
              </a:path>
              <a:path fill="darkenLess" w="44295" h="21600">
                <a:moveTo>
                  <a:pt x="442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895" y="20200"/>
                </a:lnTo>
                <a:close/>
              </a:path>
              <a:path fill="lighten" w="442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295" h="21600">
                <a:moveTo>
                  <a:pt x="15141" y="7493"/>
                </a:moveTo>
                <a:lnTo>
                  <a:pt x="18649" y="7493"/>
                </a:lnTo>
                <a:lnTo>
                  <a:pt x="18649" y="12828"/>
                </a:lnTo>
                <a:cubicBezTo>
                  <a:pt x="18649" y="13751"/>
                  <a:pt x="19449" y="14482"/>
                  <a:pt x="20485" y="14482"/>
                </a:cubicBezTo>
                <a:lnTo>
                  <a:pt x="22148" y="14482"/>
                </a:lnTo>
                <a:cubicBezTo>
                  <a:pt x="23183" y="14482"/>
                  <a:pt x="23984" y="13751"/>
                  <a:pt x="23984" y="12828"/>
                </a:cubicBezTo>
                <a:lnTo>
                  <a:pt x="23984" y="7493"/>
                </a:lnTo>
                <a:lnTo>
                  <a:pt x="22148" y="7493"/>
                </a:lnTo>
                <a:lnTo>
                  <a:pt x="25655" y="3985"/>
                </a:lnTo>
                <a:lnTo>
                  <a:pt x="29328" y="7493"/>
                </a:lnTo>
                <a:lnTo>
                  <a:pt x="27492" y="7493"/>
                </a:lnTo>
                <a:lnTo>
                  <a:pt x="27492" y="12828"/>
                </a:lnTo>
                <a:cubicBezTo>
                  <a:pt x="27492" y="15596"/>
                  <a:pt x="24915" y="18155"/>
                  <a:pt x="22148" y="18155"/>
                </a:cubicBezTo>
                <a:lnTo>
                  <a:pt x="20485" y="18155"/>
                </a:lnTo>
                <a:cubicBezTo>
                  <a:pt x="17717" y="18155"/>
                  <a:pt x="15141" y="15596"/>
                  <a:pt x="15141" y="12828"/>
                </a:cubicBez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851280" y="2997360"/>
            <a:ext cx="1152360" cy="718920"/>
          </a:xfrm>
          <a:prstGeom prst="rect">
            <a:avLst/>
          </a:prstGeom>
          <a:solidFill>
            <a:srgbClr val="ffff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5050"/>
                </a:solidFill>
                <a:uFillTx/>
                <a:latin typeface="Arial"/>
                <a:hlinkClick r:id="rId1" action="ppaction://hlinksldjump"/>
              </a:rPr>
              <a:t>( </a:t>
            </a:r>
            <a:r>
              <a:rPr b="0" lang="en-US" sz="2800" spc="-1" strike="noStrike" u="sng">
                <a:solidFill>
                  <a:srgbClr val="ff5050"/>
                </a:solidFill>
                <a:uFillTx/>
                <a:latin typeface="Arial"/>
                <a:hlinkClick r:id="rId2" action="ppaction://hlinksldjump"/>
              </a:rPr>
              <a:t>?  </a:t>
            </a:r>
            <a:r>
              <a:rPr b="0" lang="en-US" sz="2800" spc="-1" strike="noStrike" u="sng">
                <a:solidFill>
                  <a:srgbClr val="ff5050"/>
                </a:solidFill>
                <a:uFillTx/>
                <a:latin typeface="Arial"/>
                <a:hlinkClick r:id="rId3" action="ppaction://hlinksldjump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340000" y="2060640"/>
            <a:ext cx="1520640" cy="94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8360" y="1052640"/>
            <a:ext cx="1879560" cy="1008000"/>
          </a:xfrm>
          <a:prstGeom prst="rect">
            <a:avLst/>
          </a:prstGeom>
          <a:solidFill>
            <a:srgbClr val="ffff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_о_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659640" y="1052640"/>
            <a:ext cx="1873080" cy="934920"/>
          </a:xfrm>
          <a:prstGeom prst="rect">
            <a:avLst/>
          </a:prstGeom>
          <a:solidFill>
            <a:srgbClr val="ffff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_о_е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5003640" y="1988640"/>
            <a:ext cx="165600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4869000"/>
            <a:ext cx="1852560" cy="865080"/>
          </a:xfrm>
          <a:prstGeom prst="rect">
            <a:avLst/>
          </a:prstGeom>
          <a:solidFill>
            <a:srgbClr val="ffff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_о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268360" y="3716280"/>
            <a:ext cx="159228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16720" y="4869000"/>
            <a:ext cx="1995480" cy="893520"/>
          </a:xfrm>
          <a:prstGeom prst="rect">
            <a:avLst/>
          </a:prstGeom>
          <a:solidFill>
            <a:srgbClr val="ffff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_коро_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03640" y="3716280"/>
            <a:ext cx="1519560" cy="113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851280" y="2997360"/>
            <a:ext cx="1152360" cy="718920"/>
          </a:xfrm>
          <a:prstGeom prst="rect">
            <a:avLst/>
          </a:prstGeom>
          <a:solidFill>
            <a:srgbClr val="ffff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340000" y="2060640"/>
            <a:ext cx="1520640" cy="94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1052640"/>
            <a:ext cx="1879560" cy="1008000"/>
          </a:xfrm>
          <a:prstGeom prst="rect">
            <a:avLst/>
          </a:prstGeom>
          <a:solidFill>
            <a:srgbClr val="ffff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ос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659640" y="1052640"/>
            <a:ext cx="1873080" cy="934920"/>
          </a:xfrm>
          <a:prstGeom prst="rect">
            <a:avLst/>
          </a:prstGeom>
          <a:solidFill>
            <a:srgbClr val="ffff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осе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5003640" y="1988640"/>
            <a:ext cx="165600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8360" y="4869000"/>
            <a:ext cx="1852560" cy="865080"/>
          </a:xfrm>
          <a:prstGeom prst="rect">
            <a:avLst/>
          </a:prstGeom>
          <a:solidFill>
            <a:srgbClr val="ffff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с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268360" y="3716280"/>
            <a:ext cx="159228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16720" y="4869000"/>
            <a:ext cx="1995480" cy="893520"/>
          </a:xfrm>
          <a:prstGeom prst="rect">
            <a:avLst/>
          </a:prstGeom>
          <a:solidFill>
            <a:srgbClr val="ffff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кор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003640" y="3716280"/>
            <a:ext cx="1519560" cy="113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rId1" action="ppaction://hlinksldjump"/>
          </p:cNvPr>
          <p:cNvSpPr/>
          <p:nvPr/>
        </p:nvSpPr>
        <p:spPr>
          <a:xfrm>
            <a:off x="7164360" y="6237360"/>
            <a:ext cx="720720" cy="404640"/>
          </a:xfrm>
          <a:custGeom>
            <a:avLst/>
            <a:gdLst>
              <a:gd name="textAreaLeft" fmla="*/ 25920 w 720720"/>
              <a:gd name="textAreaRight" fmla="*/ 694800 w 720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8458" h="21600">
                <a:moveTo>
                  <a:pt x="0" y="0"/>
                </a:moveTo>
                <a:lnTo>
                  <a:pt x="38458" y="0"/>
                </a:lnTo>
                <a:lnTo>
                  <a:pt x="38458" y="21600"/>
                </a:lnTo>
                <a:lnTo>
                  <a:pt x="0" y="21600"/>
                </a:lnTo>
                <a:close/>
              </a:path>
              <a:path fill="lightenLess" w="38458" h="21600">
                <a:moveTo>
                  <a:pt x="0" y="0"/>
                </a:moveTo>
                <a:lnTo>
                  <a:pt x="38458" y="0"/>
                </a:lnTo>
                <a:lnTo>
                  <a:pt x="37058" y="1400"/>
                </a:lnTo>
                <a:lnTo>
                  <a:pt x="1400" y="1400"/>
                </a:lnTo>
                <a:close/>
              </a:path>
              <a:path fill="darken" w="38458" h="21600">
                <a:moveTo>
                  <a:pt x="38458" y="0"/>
                </a:moveTo>
                <a:lnTo>
                  <a:pt x="38458" y="21600"/>
                </a:lnTo>
                <a:lnTo>
                  <a:pt x="37058" y="20200"/>
                </a:lnTo>
                <a:lnTo>
                  <a:pt x="37058" y="1400"/>
                </a:lnTo>
                <a:close/>
              </a:path>
              <a:path fill="darkenLess" w="38458" h="21600">
                <a:moveTo>
                  <a:pt x="384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58" y="20200"/>
                </a:lnTo>
                <a:close/>
              </a:path>
              <a:path fill="lighten" w="384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58" h="21600">
                <a:moveTo>
                  <a:pt x="15730" y="10800"/>
                </a:moveTo>
                <a:lnTo>
                  <a:pt x="26235" y="3794"/>
                </a:lnTo>
                <a:lnTo>
                  <a:pt x="26235" y="17806"/>
                </a:lnTo>
                <a:close/>
              </a:path>
              <a:path fill="darken" w="38458" h="21600">
                <a:moveTo>
                  <a:pt x="12222" y="3794"/>
                </a:moveTo>
                <a:lnTo>
                  <a:pt x="13885" y="3794"/>
                </a:lnTo>
                <a:lnTo>
                  <a:pt x="13885" y="17806"/>
                </a:lnTo>
                <a:lnTo>
                  <a:pt x="12222" y="17806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835280" y="620640"/>
            <a:ext cx="450720" cy="38412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16000" y="692280"/>
            <a:ext cx="433440" cy="39024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627280" y="692280"/>
            <a:ext cx="432000" cy="36504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492360" y="620640"/>
            <a:ext cx="373320" cy="401760"/>
          </a:xfrm>
          <a:prstGeom prst="diamond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5640" y="1197000"/>
            <a:ext cx="0" cy="20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55640" y="1197000"/>
            <a:ext cx="3179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2720" y="1195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2720" y="1771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50920" y="2349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0920" y="2852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87280" y="1268280"/>
            <a:ext cx="39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773080" y="12682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773080" y="24210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637080" y="1844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89080" y="1844640"/>
            <a:ext cx="3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89440" y="242100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050920" y="1268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52360" y="18446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52360" y="242100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73440" y="18446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773800" y="2924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637080" y="1268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637080" y="2421000"/>
            <a:ext cx="34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637080" y="2924280"/>
            <a:ext cx="40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11280" y="4365720"/>
            <a:ext cx="56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ШИФ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87280" y="4869000"/>
            <a:ext cx="362160" cy="31896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00000" y="47959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195640" y="4797360"/>
            <a:ext cx="35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484360" y="4869000"/>
            <a:ext cx="287280" cy="2934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421440" y="4797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45440" y="4797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932360" y="4797360"/>
            <a:ext cx="372960" cy="401760"/>
          </a:xfrm>
          <a:prstGeom prst="diamond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797800" y="4797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84720" y="4869000"/>
            <a:ext cx="287640" cy="2934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05800" y="4797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93080" y="4797360"/>
            <a:ext cx="372960" cy="401760"/>
          </a:xfrm>
          <a:prstGeom prst="diamond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688800" y="1557360"/>
            <a:ext cx="1704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 u="sng">
                <a:solidFill>
                  <a:srgbClr val="ff5050"/>
                </a:solidFill>
                <a:uFillTx/>
                <a:latin typeface="Arial"/>
                <a:hlinkClick r:id="rId1" action="ppaction://hlinksldjump"/>
              </a:rPr>
              <a:t>(</a:t>
            </a:r>
            <a:r>
              <a:rPr b="0" lang="en-US" sz="8000" spc="-1" strike="noStrike" u="sng">
                <a:solidFill>
                  <a:srgbClr val="ff5050"/>
                </a:solidFill>
                <a:uFillTx/>
                <a:latin typeface="Arial"/>
                <a:hlinkClick r:id="rId2" action="ppaction://hlinksldjump"/>
              </a:rPr>
              <a:t>? </a:t>
            </a:r>
            <a:r>
              <a:rPr b="0" lang="en-US" sz="8000" spc="-1" strike="noStrike" u="sng">
                <a:solidFill>
                  <a:srgbClr val="ff5050"/>
                </a:solidFill>
                <a:uFillTx/>
                <a:latin typeface="Arial"/>
                <a:hlinkClick r:id="rId3" action="ppaction://hlinksldjump"/>
              </a:rPr>
              <a:t>)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65760" y="0"/>
            <a:ext cx="330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ОТГАДАЙ СЛО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50920" y="2924280"/>
            <a:ext cx="4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708360" y="4724280"/>
            <a:ext cx="450720" cy="38412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46360" y="2924280"/>
            <a:ext cx="103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rId4" action="ppaction://hlinksldjump"/>
          </p:cNvPr>
          <p:cNvSpPr/>
          <p:nvPr/>
        </p:nvSpPr>
        <p:spPr>
          <a:xfrm>
            <a:off x="6877080" y="6165720"/>
            <a:ext cx="755640" cy="287640"/>
          </a:xfrm>
          <a:custGeom>
            <a:avLst/>
            <a:gdLst>
              <a:gd name="textAreaLeft" fmla="*/ 18360 w 755640"/>
              <a:gd name="textAreaRight" fmla="*/ 737280 w 75564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56700" h="21600">
                <a:moveTo>
                  <a:pt x="0" y="0"/>
                </a:moveTo>
                <a:lnTo>
                  <a:pt x="56700" y="0"/>
                </a:lnTo>
                <a:lnTo>
                  <a:pt x="56700" y="21600"/>
                </a:lnTo>
                <a:lnTo>
                  <a:pt x="0" y="21600"/>
                </a:lnTo>
                <a:close/>
              </a:path>
              <a:path fill="lightenLess" w="56700" h="21600">
                <a:moveTo>
                  <a:pt x="0" y="0"/>
                </a:moveTo>
                <a:lnTo>
                  <a:pt x="56700" y="0"/>
                </a:lnTo>
                <a:lnTo>
                  <a:pt x="55300" y="1400"/>
                </a:lnTo>
                <a:lnTo>
                  <a:pt x="1400" y="1400"/>
                </a:lnTo>
                <a:close/>
              </a:path>
              <a:path fill="darken" w="56700" h="21600">
                <a:moveTo>
                  <a:pt x="56700" y="0"/>
                </a:moveTo>
                <a:lnTo>
                  <a:pt x="56700" y="21600"/>
                </a:lnTo>
                <a:lnTo>
                  <a:pt x="55300" y="20200"/>
                </a:lnTo>
                <a:lnTo>
                  <a:pt x="55300" y="1400"/>
                </a:lnTo>
                <a:close/>
              </a:path>
              <a:path fill="darkenLess" w="56700" h="21600">
                <a:moveTo>
                  <a:pt x="567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300" y="20200"/>
                </a:lnTo>
                <a:close/>
              </a:path>
              <a:path fill="lighten" w="567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700" h="21600">
                <a:moveTo>
                  <a:pt x="24851" y="10800"/>
                </a:moveTo>
                <a:lnTo>
                  <a:pt x="35356" y="3794"/>
                </a:lnTo>
                <a:lnTo>
                  <a:pt x="35356" y="17806"/>
                </a:lnTo>
                <a:close/>
              </a:path>
              <a:path fill="darken" w="56700" h="21600">
                <a:moveTo>
                  <a:pt x="21344" y="3794"/>
                </a:moveTo>
                <a:lnTo>
                  <a:pt x="23006" y="3794"/>
                </a:lnTo>
                <a:lnTo>
                  <a:pt x="23006" y="17806"/>
                </a:lnTo>
                <a:lnTo>
                  <a:pt x="21344" y="17806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nextslide"/>
          </p:cNvPr>
          <p:cNvSpPr/>
          <p:nvPr/>
        </p:nvSpPr>
        <p:spPr>
          <a:xfrm>
            <a:off x="7740720" y="6165720"/>
            <a:ext cx="679320" cy="287640"/>
          </a:xfrm>
          <a:custGeom>
            <a:avLst/>
            <a:gdLst>
              <a:gd name="textAreaLeft" fmla="*/ 18360 w 679320"/>
              <a:gd name="textAreaRight" fmla="*/ 660960 w 67932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50976" h="21600">
                <a:moveTo>
                  <a:pt x="0" y="0"/>
                </a:moveTo>
                <a:lnTo>
                  <a:pt x="50976" y="0"/>
                </a:lnTo>
                <a:lnTo>
                  <a:pt x="50976" y="21600"/>
                </a:lnTo>
                <a:lnTo>
                  <a:pt x="0" y="21600"/>
                </a:lnTo>
                <a:close/>
              </a:path>
              <a:path fill="lightenLess" w="50976" h="21600">
                <a:moveTo>
                  <a:pt x="0" y="0"/>
                </a:moveTo>
                <a:lnTo>
                  <a:pt x="50976" y="0"/>
                </a:lnTo>
                <a:lnTo>
                  <a:pt x="49576" y="1400"/>
                </a:lnTo>
                <a:lnTo>
                  <a:pt x="1400" y="1400"/>
                </a:lnTo>
                <a:close/>
              </a:path>
              <a:path fill="darken" w="50976" h="21600">
                <a:moveTo>
                  <a:pt x="50976" y="0"/>
                </a:moveTo>
                <a:lnTo>
                  <a:pt x="50976" y="21600"/>
                </a:lnTo>
                <a:lnTo>
                  <a:pt x="49576" y="20200"/>
                </a:lnTo>
                <a:lnTo>
                  <a:pt x="49576" y="1400"/>
                </a:lnTo>
                <a:close/>
              </a:path>
              <a:path fill="darkenLess" w="50976" h="21600">
                <a:moveTo>
                  <a:pt x="509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576" y="20200"/>
                </a:lnTo>
                <a:close/>
              </a:path>
              <a:path fill="lighten" w="509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976" h="21600">
                <a:moveTo>
                  <a:pt x="18482" y="3794"/>
                </a:moveTo>
                <a:lnTo>
                  <a:pt x="32494" y="10800"/>
                </a:lnTo>
                <a:lnTo>
                  <a:pt x="18482" y="17806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995200" y="333360"/>
            <a:ext cx="3435840" cy="100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6000" spc="-1" strike="noStrike">
                <a:solidFill>
                  <a:srgbClr val="ff5050"/>
                </a:solidFill>
                <a:latin typeface="Arial"/>
              </a:rPr>
              <a:t>О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БА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64000" y="1484280"/>
            <a:ext cx="311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5050"/>
                </a:solidFill>
                <a:uFillTx/>
                <a:latin typeface="Arial"/>
                <a:hlinkClick r:id="rId1" action="ppaction://hlinksldjump"/>
              </a:rPr>
              <a:t>ОДОМАШНИВАНИЕ</a:t>
            </a:r>
            <a:r>
              <a:rPr b="0" lang="en-US" sz="1800" spc="-1" strike="noStrike" u="sng">
                <a:solidFill>
                  <a:srgbClr val="ff5050"/>
                </a:solidFill>
                <a:uFillTx/>
                <a:latin typeface="Arial"/>
                <a:hlinkClick r:id="rId2" action="ppaction://hlinksldjump"/>
              </a:rPr>
              <a:t> </a:t>
            </a:r>
            <a:r>
              <a:rPr b="0" lang="en-US" sz="1800" spc="-1" strike="noStrike" u="sng">
                <a:solidFill>
                  <a:srgbClr val="ff5050"/>
                </a:solidFill>
                <a:uFillTx/>
                <a:latin typeface="Arial"/>
                <a:hlinkClick r:id="rId3" action="ppaction://hlinksldjump"/>
              </a:rPr>
              <a:t>СОБА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11880" y="2205000"/>
            <a:ext cx="274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5050"/>
                </a:solidFill>
                <a:uFillTx/>
                <a:latin typeface="Arial"/>
                <a:hlinkClick r:id="rId4" action="ppaction://hlinksldjump"/>
              </a:rPr>
              <a:t>ИСТОРИЯ СОБА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5050"/>
                </a:solidFill>
                <a:uFillTx/>
                <a:latin typeface="Arial"/>
                <a:hlinkClick r:id="rId5" action="ppaction://hlinksldjump"/>
              </a:rPr>
              <a:t>В РАЗНЫХ КУЛЬТУР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63640" y="2924280"/>
            <a:ext cx="273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ОТО: </a:t>
            </a:r>
            <a:r>
              <a:rPr b="0" lang="en-US" sz="1800" spc="-1" strike="noStrike" u="sng">
                <a:solidFill>
                  <a:srgbClr val="ff5050"/>
                </a:solidFill>
                <a:uFillTx/>
                <a:latin typeface="Arial"/>
                <a:hlinkClick r:id="rId6" action="ppaction://hlinksldjump"/>
              </a:rPr>
              <a:t>1,</a:t>
            </a:r>
            <a:r>
              <a:rPr b="0" lang="en-US" sz="1800" spc="-1" strike="noStrike" u="sng">
                <a:solidFill>
                  <a:srgbClr val="ff5050"/>
                </a:solidFill>
                <a:uFillTx/>
                <a:latin typeface="Arial"/>
                <a:hlinkClick r:id="rId7" action="ppaction://hlinksldjump"/>
              </a:rPr>
              <a:t> </a:t>
            </a:r>
            <a:r>
              <a:rPr b="0" lang="en-US" sz="1800" spc="-1" strike="noStrike" u="sng">
                <a:solidFill>
                  <a:srgbClr val="ff5050"/>
                </a:solidFill>
                <a:uFillTx/>
                <a:latin typeface="Arial"/>
                <a:hlinkClick r:id="rId8" action="ppaction://hlinksldjump"/>
              </a:rPr>
              <a:t>2, </a:t>
            </a:r>
            <a:r>
              <a:rPr b="0" lang="en-US" sz="1800" spc="-1" strike="noStrike" u="sng">
                <a:solidFill>
                  <a:srgbClr val="ff5050"/>
                </a:solidFill>
                <a:uFillTx/>
                <a:latin typeface="Arial"/>
                <a:hlinkClick r:id="rId9" action="ppaction://hlinksldjump"/>
              </a:rPr>
              <a:t>3, </a:t>
            </a:r>
            <a:r>
              <a:rPr b="0" lang="en-US" sz="1800" spc="-1" strike="noStrike" u="sng">
                <a:solidFill>
                  <a:srgbClr val="ff5050"/>
                </a:solidFill>
                <a:uFillTx/>
                <a:latin typeface="Arial"/>
                <a:hlinkClick r:id="rId10" action="ppaction://hlinksldjump"/>
              </a:rPr>
              <a:t>4, </a:t>
            </a:r>
            <a:r>
              <a:rPr b="0" lang="en-US" sz="1800" spc="-1" strike="noStrike" u="sng">
                <a:solidFill>
                  <a:srgbClr val="ff5050"/>
                </a:solidFill>
                <a:uFillTx/>
                <a:latin typeface="Arial"/>
                <a:hlinkClick r:id="rId11" action="ppaction://hlinksldjump"/>
              </a:rPr>
              <a:t>5, </a:t>
            </a:r>
            <a:r>
              <a:rPr b="0" lang="en-US" sz="1800" spc="-1" strike="noStrike" u="sng">
                <a:solidFill>
                  <a:srgbClr val="ff5050"/>
                </a:solidFill>
                <a:uFillTx/>
                <a:latin typeface="Arial"/>
                <a:hlinkClick r:id="rId12" action="ppaction://hlinksldjump"/>
              </a:rPr>
              <a:t>6, </a:t>
            </a:r>
            <a:r>
              <a:rPr b="0" lang="en-US" sz="1800" spc="-1" strike="noStrike" u="sng">
                <a:solidFill>
                  <a:srgbClr val="ff5050"/>
                </a:solidFill>
                <a:uFillTx/>
                <a:latin typeface="Arial"/>
                <a:hlinkClick r:id="rId13" action="ppaction://hlinksldjump"/>
              </a:rPr>
              <a:t>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94240" y="3429000"/>
            <a:ext cx="245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5050"/>
                </a:solidFill>
                <a:uFillTx/>
                <a:latin typeface="Arial"/>
                <a:hlinkClick r:id="rId14" action="ppaction://hlinksldjump"/>
              </a:rPr>
              <a:t>ПОВЕДЕНИЕ СОБ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03600" y="5661000"/>
            <a:ext cx="43063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скимосская лай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читай обо мне, если интересн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2560" y="433692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67240" y="4076640"/>
            <a:ext cx="318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ЛОВА – РОДСТВЕН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2080" y="4724280"/>
            <a:ext cx="309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5050"/>
                </a:solidFill>
                <a:uFillTx/>
                <a:latin typeface="Arial"/>
                <a:hlinkClick r:id="rId15" action="ppaction://hlinksldjump"/>
              </a:rPr>
              <a:t>ПОСЛОВИЦЫ О СОБАК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364000" y="5373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rId16" action="ppaction://hlinksldjump"/>
          </p:cNvPr>
          <p:cNvSpPr/>
          <p:nvPr/>
        </p:nvSpPr>
        <p:spPr>
          <a:xfrm>
            <a:off x="8028000" y="6381720"/>
            <a:ext cx="682560" cy="322200"/>
          </a:xfrm>
          <a:custGeom>
            <a:avLst/>
            <a:gdLst>
              <a:gd name="textAreaLeft" fmla="*/ 20880 w 682560"/>
              <a:gd name="textAreaRight" fmla="*/ 661680 w 682560"/>
              <a:gd name="textAreaTop" fmla="*/ 20880 h 322200"/>
              <a:gd name="textAreaBottom" fmla="*/ 301320 h 322200"/>
            </a:gdLst>
            <a:ahLst/>
            <a:rect l="textAreaLeft" t="textAreaTop" r="textAreaRight" b="textAreaBottom"/>
            <a:pathLst>
              <a:path w="45731" h="21600">
                <a:moveTo>
                  <a:pt x="0" y="0"/>
                </a:moveTo>
                <a:lnTo>
                  <a:pt x="45731" y="0"/>
                </a:lnTo>
                <a:lnTo>
                  <a:pt x="45731" y="21600"/>
                </a:lnTo>
                <a:lnTo>
                  <a:pt x="0" y="21600"/>
                </a:lnTo>
                <a:close/>
              </a:path>
              <a:path fill="lightenLess" w="45731" h="21600">
                <a:moveTo>
                  <a:pt x="0" y="0"/>
                </a:moveTo>
                <a:lnTo>
                  <a:pt x="45731" y="0"/>
                </a:lnTo>
                <a:lnTo>
                  <a:pt x="44331" y="1400"/>
                </a:lnTo>
                <a:lnTo>
                  <a:pt x="1400" y="1400"/>
                </a:lnTo>
                <a:close/>
              </a:path>
              <a:path fill="darken" w="45731" h="21600">
                <a:moveTo>
                  <a:pt x="45731" y="0"/>
                </a:moveTo>
                <a:lnTo>
                  <a:pt x="45731" y="21600"/>
                </a:lnTo>
                <a:lnTo>
                  <a:pt x="44331" y="20200"/>
                </a:lnTo>
                <a:lnTo>
                  <a:pt x="44331" y="1400"/>
                </a:lnTo>
                <a:close/>
              </a:path>
              <a:path fill="darkenLess" w="45731" h="21600">
                <a:moveTo>
                  <a:pt x="457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331" y="20200"/>
                </a:lnTo>
                <a:close/>
              </a:path>
              <a:path fill="lighten" w="457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731" h="21600">
                <a:moveTo>
                  <a:pt x="19367" y="10800"/>
                </a:moveTo>
                <a:lnTo>
                  <a:pt x="29872" y="3794"/>
                </a:lnTo>
                <a:lnTo>
                  <a:pt x="29872" y="17806"/>
                </a:lnTo>
                <a:close/>
              </a:path>
              <a:path fill="darken" w="45731" h="21600">
                <a:moveTo>
                  <a:pt x="15859" y="3794"/>
                </a:moveTo>
                <a:lnTo>
                  <a:pt x="17522" y="3794"/>
                </a:lnTo>
                <a:lnTo>
                  <a:pt x="17522" y="17806"/>
                </a:lnTo>
                <a:lnTo>
                  <a:pt x="15859" y="17806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7"/>
          <a:stretch/>
        </p:blipFill>
        <p:spPr>
          <a:xfrm>
            <a:off x="1042920" y="1484280"/>
            <a:ext cx="369108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24000" y="331200"/>
            <a:ext cx="845964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ДОМАШНИЕ СОБАК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Canis familiaris), одомашненные млекопитающ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емейства псовых (Canidae), отряда хищных. Начало одомашнивания соба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тносится к мезолиту (не менее 14 тысяч лет назад). Свыше 400 пород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аспространены повсеместно. Наука о собаках — кинолог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ОДОМАШНИВАНИЕ СОБА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обака — древнейшее животное, прирученное и одомашненное человек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 давних лет является предметом спора, происходит ли все многообразие современных пород от одного предка (подавляющее большинство исследователей считают таковым волка), или это результат скрещивания волков, шакалов и даже лисиц. Большинство кинологов считает единственным предком собаки волка (мнение Чарльза Дарвина), а все современные породы — результатом искусственного отбор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>
            <a:hlinkClick r:id="rId1" action="ppaction://hlinksldjump"/>
          </p:cNvPr>
          <p:cNvSpPr/>
          <p:nvPr/>
        </p:nvSpPr>
        <p:spPr>
          <a:xfrm>
            <a:off x="8236080" y="6178680"/>
            <a:ext cx="664920" cy="509400"/>
          </a:xfrm>
          <a:custGeom>
            <a:avLst/>
            <a:gdLst>
              <a:gd name="textAreaLeft" fmla="*/ 32760 w 664920"/>
              <a:gd name="textAreaRight" fmla="*/ 632160 w 66492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28190" h="21600">
                <a:moveTo>
                  <a:pt x="0" y="0"/>
                </a:moveTo>
                <a:lnTo>
                  <a:pt x="28190" y="0"/>
                </a:lnTo>
                <a:lnTo>
                  <a:pt x="28190" y="21600"/>
                </a:lnTo>
                <a:lnTo>
                  <a:pt x="0" y="21600"/>
                </a:lnTo>
                <a:close/>
              </a:path>
              <a:path fill="lightenLess" w="28190" h="21600">
                <a:moveTo>
                  <a:pt x="0" y="0"/>
                </a:moveTo>
                <a:lnTo>
                  <a:pt x="28190" y="0"/>
                </a:lnTo>
                <a:lnTo>
                  <a:pt x="26790" y="1400"/>
                </a:lnTo>
                <a:lnTo>
                  <a:pt x="1400" y="1400"/>
                </a:lnTo>
                <a:close/>
              </a:path>
              <a:path fill="darken" w="28190" h="21600">
                <a:moveTo>
                  <a:pt x="28190" y="0"/>
                </a:moveTo>
                <a:lnTo>
                  <a:pt x="28190" y="21600"/>
                </a:lnTo>
                <a:lnTo>
                  <a:pt x="26790" y="20200"/>
                </a:lnTo>
                <a:lnTo>
                  <a:pt x="26790" y="1400"/>
                </a:lnTo>
                <a:close/>
              </a:path>
              <a:path fill="darkenLess" w="28190" h="21600">
                <a:moveTo>
                  <a:pt x="281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90" y="20200"/>
                </a:lnTo>
                <a:close/>
              </a:path>
              <a:path fill="lighten" w="281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190" h="21600">
                <a:moveTo>
                  <a:pt x="7088" y="7493"/>
                </a:moveTo>
                <a:lnTo>
                  <a:pt x="10596" y="7493"/>
                </a:lnTo>
                <a:lnTo>
                  <a:pt x="10596" y="12828"/>
                </a:lnTo>
                <a:cubicBezTo>
                  <a:pt x="10596" y="13751"/>
                  <a:pt x="11397" y="14482"/>
                  <a:pt x="12433" y="14482"/>
                </a:cubicBezTo>
                <a:lnTo>
                  <a:pt x="14095" y="14482"/>
                </a:lnTo>
                <a:cubicBezTo>
                  <a:pt x="15131" y="14482"/>
                  <a:pt x="15931" y="13751"/>
                  <a:pt x="15931" y="12828"/>
                </a:cubicBezTo>
                <a:lnTo>
                  <a:pt x="15931" y="7493"/>
                </a:lnTo>
                <a:lnTo>
                  <a:pt x="14095" y="7493"/>
                </a:lnTo>
                <a:lnTo>
                  <a:pt x="17603" y="3985"/>
                </a:lnTo>
                <a:lnTo>
                  <a:pt x="21275" y="7493"/>
                </a:lnTo>
                <a:lnTo>
                  <a:pt x="19439" y="7493"/>
                </a:lnTo>
                <a:lnTo>
                  <a:pt x="19439" y="12828"/>
                </a:lnTo>
                <a:cubicBezTo>
                  <a:pt x="19439" y="15596"/>
                  <a:pt x="16863" y="18155"/>
                  <a:pt x="14095" y="18155"/>
                </a:cubicBezTo>
                <a:lnTo>
                  <a:pt x="12433" y="18155"/>
                </a:lnTo>
                <a:cubicBezTo>
                  <a:pt x="9665" y="18155"/>
                  <a:pt x="7088" y="15596"/>
                  <a:pt x="7088" y="12828"/>
                </a:cubicBez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rId2" action="ppaction://hlinksldjump"/>
          </p:cNvPr>
          <p:cNvSpPr/>
          <p:nvPr/>
        </p:nvSpPr>
        <p:spPr>
          <a:xfrm>
            <a:off x="7380360" y="6165720"/>
            <a:ext cx="755640" cy="503280"/>
          </a:xfrm>
          <a:custGeom>
            <a:avLst/>
            <a:gdLst>
              <a:gd name="textAreaLeft" fmla="*/ 32400 w 755640"/>
              <a:gd name="textAreaRight" fmla="*/ 723240 w 755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2423" h="21600">
                <a:moveTo>
                  <a:pt x="0" y="0"/>
                </a:moveTo>
                <a:lnTo>
                  <a:pt x="32423" y="0"/>
                </a:lnTo>
                <a:lnTo>
                  <a:pt x="32423" y="21600"/>
                </a:lnTo>
                <a:lnTo>
                  <a:pt x="0" y="21600"/>
                </a:lnTo>
                <a:close/>
              </a:path>
              <a:path fill="lightenLess" w="32423" h="21600">
                <a:moveTo>
                  <a:pt x="0" y="0"/>
                </a:moveTo>
                <a:lnTo>
                  <a:pt x="32423" y="0"/>
                </a:lnTo>
                <a:lnTo>
                  <a:pt x="31023" y="1400"/>
                </a:lnTo>
                <a:lnTo>
                  <a:pt x="1400" y="1400"/>
                </a:lnTo>
                <a:close/>
              </a:path>
              <a:path fill="darken" w="32423" h="21600">
                <a:moveTo>
                  <a:pt x="32423" y="0"/>
                </a:moveTo>
                <a:lnTo>
                  <a:pt x="32423" y="21600"/>
                </a:lnTo>
                <a:lnTo>
                  <a:pt x="31023" y="20200"/>
                </a:lnTo>
                <a:lnTo>
                  <a:pt x="31023" y="1400"/>
                </a:lnTo>
                <a:close/>
              </a:path>
              <a:path fill="darkenLess" w="32423" h="21600">
                <a:moveTo>
                  <a:pt x="324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23" y="20200"/>
                </a:lnTo>
                <a:close/>
              </a:path>
              <a:path fill="lighten" w="324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23" h="21600">
                <a:moveTo>
                  <a:pt x="12713" y="10800"/>
                </a:moveTo>
                <a:lnTo>
                  <a:pt x="23218" y="3794"/>
                </a:lnTo>
                <a:lnTo>
                  <a:pt x="23218" y="17806"/>
                </a:lnTo>
                <a:close/>
              </a:path>
              <a:path fill="darken" w="32423" h="21600">
                <a:moveTo>
                  <a:pt x="9205" y="3794"/>
                </a:moveTo>
                <a:lnTo>
                  <a:pt x="10868" y="3794"/>
                </a:lnTo>
                <a:lnTo>
                  <a:pt x="10868" y="17806"/>
                </a:lnTo>
                <a:lnTo>
                  <a:pt x="9205" y="17806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8028000" y="476280"/>
            <a:ext cx="70956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574560" y="13680"/>
            <a:ext cx="8569440" cy="66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История собак в разных культур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обака, как и многие другие животные, в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Египте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обожествлялась. В связи со смертью собаки в египетских домах, по свидетельству Геродота, объявлялся траур, а хозяин дома сбривал себе волос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Иране, Индии, Месопотами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существовал культ собак, считавшихся хранителями царства мертвых. Четырехглазый пес, по мнению жителей древней Месопотамии, сторожил мост, через который шла в подземный мир душа усопшег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Риме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боевые собаки стали выступать как гладиаторы, в одиночку соперничая с быками, львами, слонами, медведями. Но в Риме получили распространение и миниатюрные декоративные мелиты, предки нынешних болонок. Увлечение матрон собачками было так велико, что императоры неоднократно осуждали его, так как, по их мнению, это препятствовало благородным дамам обзаводиться деть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Китае и Япони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с древнейших времен собаки играли важную роль в религии, фольклоре и мифологии. Черных псов на Дальнем Востоке считали воплощением злых си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Древнейшей китайской породой считается пекинес. Другая местная декоративная собачка — японский хин — гораздо молож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татуэтки собак, найденные при раскопках в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Мексике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свидетельствуют об их почитан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о черных собак, как и черных котов, считали воплощением дьявол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России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обак разводили в основном для охоты. Первое изображение гончей в Софийском соборе в Киеве датируется 11 веком. Ценились такие псы недешево: породистая собака могла стоить целой деревни со всем населением. Из русских пород прежде всего следует упомянуть, конечно, борзых, гончих и лаек, умных и преданных собак, нередких в крестьянском хозяйств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>
            <a:hlinkClick r:id="rId1" action="ppaction://hlinksldjump"/>
          </p:cNvPr>
          <p:cNvSpPr/>
          <p:nvPr/>
        </p:nvSpPr>
        <p:spPr>
          <a:xfrm>
            <a:off x="8317080" y="6597720"/>
            <a:ext cx="610920" cy="260280"/>
          </a:xfrm>
          <a:custGeom>
            <a:avLst/>
            <a:gdLst>
              <a:gd name="textAreaLeft" fmla="*/ 16560 w 610920"/>
              <a:gd name="textAreaRight" fmla="*/ 594360 w 61092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50659" h="21600">
                <a:moveTo>
                  <a:pt x="0" y="0"/>
                </a:moveTo>
                <a:lnTo>
                  <a:pt x="50659" y="0"/>
                </a:lnTo>
                <a:lnTo>
                  <a:pt x="50659" y="21600"/>
                </a:lnTo>
                <a:lnTo>
                  <a:pt x="0" y="21600"/>
                </a:lnTo>
                <a:close/>
              </a:path>
              <a:path fill="lightenLess" w="50659" h="21600">
                <a:moveTo>
                  <a:pt x="0" y="0"/>
                </a:moveTo>
                <a:lnTo>
                  <a:pt x="50659" y="0"/>
                </a:lnTo>
                <a:lnTo>
                  <a:pt x="49259" y="1400"/>
                </a:lnTo>
                <a:lnTo>
                  <a:pt x="1400" y="1400"/>
                </a:lnTo>
                <a:close/>
              </a:path>
              <a:path fill="darken" w="50659" h="21600">
                <a:moveTo>
                  <a:pt x="50659" y="0"/>
                </a:moveTo>
                <a:lnTo>
                  <a:pt x="50659" y="21600"/>
                </a:lnTo>
                <a:lnTo>
                  <a:pt x="49259" y="20200"/>
                </a:lnTo>
                <a:lnTo>
                  <a:pt x="49259" y="1400"/>
                </a:lnTo>
                <a:close/>
              </a:path>
              <a:path fill="darkenLess" w="50659" h="21600">
                <a:moveTo>
                  <a:pt x="506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259" y="20200"/>
                </a:lnTo>
                <a:close/>
              </a:path>
              <a:path fill="lighten" w="506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659" h="21600">
                <a:moveTo>
                  <a:pt x="18323" y="7493"/>
                </a:moveTo>
                <a:lnTo>
                  <a:pt x="21830" y="7493"/>
                </a:lnTo>
                <a:lnTo>
                  <a:pt x="21830" y="12828"/>
                </a:lnTo>
                <a:cubicBezTo>
                  <a:pt x="21830" y="13751"/>
                  <a:pt x="22631" y="14482"/>
                  <a:pt x="23667" y="14482"/>
                </a:cubicBezTo>
                <a:lnTo>
                  <a:pt x="25329" y="14482"/>
                </a:lnTo>
                <a:cubicBezTo>
                  <a:pt x="26365" y="14482"/>
                  <a:pt x="27166" y="13751"/>
                  <a:pt x="27166" y="12828"/>
                </a:cubicBezTo>
                <a:lnTo>
                  <a:pt x="27166" y="7493"/>
                </a:lnTo>
                <a:lnTo>
                  <a:pt x="25329" y="7493"/>
                </a:lnTo>
                <a:lnTo>
                  <a:pt x="28837" y="3985"/>
                </a:lnTo>
                <a:lnTo>
                  <a:pt x="32510" y="7493"/>
                </a:lnTo>
                <a:lnTo>
                  <a:pt x="30673" y="7493"/>
                </a:lnTo>
                <a:lnTo>
                  <a:pt x="30673" y="12828"/>
                </a:lnTo>
                <a:cubicBezTo>
                  <a:pt x="30673" y="15596"/>
                  <a:pt x="28097" y="18155"/>
                  <a:pt x="25329" y="18155"/>
                </a:cubicBezTo>
                <a:lnTo>
                  <a:pt x="23667" y="18155"/>
                </a:lnTo>
                <a:cubicBezTo>
                  <a:pt x="20899" y="18155"/>
                  <a:pt x="18323" y="15596"/>
                  <a:pt x="18323" y="12828"/>
                </a:cubicBez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>
            <a:hlinkClick r:id="rId2" action="ppaction://hlinksldjump"/>
          </p:cNvPr>
          <p:cNvSpPr/>
          <p:nvPr/>
        </p:nvSpPr>
        <p:spPr>
          <a:xfrm>
            <a:off x="7451640" y="6580080"/>
            <a:ext cx="792360" cy="277920"/>
          </a:xfrm>
          <a:custGeom>
            <a:avLst/>
            <a:gdLst>
              <a:gd name="textAreaLeft" fmla="*/ 18000 w 792360"/>
              <a:gd name="textAreaRight" fmla="*/ 774360 w 792360"/>
              <a:gd name="textAreaTop" fmla="*/ 18000 h 277920"/>
              <a:gd name="textAreaBottom" fmla="*/ 259920 h 277920"/>
            </a:gdLst>
            <a:ahLst/>
            <a:rect l="textAreaLeft" t="textAreaTop" r="textAreaRight" b="textAreaBottom"/>
            <a:pathLst>
              <a:path w="61531" h="21600">
                <a:moveTo>
                  <a:pt x="0" y="0"/>
                </a:moveTo>
                <a:lnTo>
                  <a:pt x="61531" y="0"/>
                </a:lnTo>
                <a:lnTo>
                  <a:pt x="61531" y="21600"/>
                </a:lnTo>
                <a:lnTo>
                  <a:pt x="0" y="21600"/>
                </a:lnTo>
                <a:close/>
              </a:path>
              <a:path fill="lightenLess" w="61531" h="21600">
                <a:moveTo>
                  <a:pt x="0" y="0"/>
                </a:moveTo>
                <a:lnTo>
                  <a:pt x="61531" y="0"/>
                </a:lnTo>
                <a:lnTo>
                  <a:pt x="60131" y="1400"/>
                </a:lnTo>
                <a:lnTo>
                  <a:pt x="1400" y="1400"/>
                </a:lnTo>
                <a:close/>
              </a:path>
              <a:path fill="darken" w="61531" h="21600">
                <a:moveTo>
                  <a:pt x="61531" y="0"/>
                </a:moveTo>
                <a:lnTo>
                  <a:pt x="61531" y="21600"/>
                </a:lnTo>
                <a:lnTo>
                  <a:pt x="60131" y="20200"/>
                </a:lnTo>
                <a:lnTo>
                  <a:pt x="60131" y="1400"/>
                </a:lnTo>
                <a:close/>
              </a:path>
              <a:path fill="darkenLess" w="61531" h="21600">
                <a:moveTo>
                  <a:pt x="615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131" y="20200"/>
                </a:lnTo>
                <a:close/>
              </a:path>
              <a:path fill="lighten" w="615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1531" h="21600">
                <a:moveTo>
                  <a:pt x="27266" y="10800"/>
                </a:moveTo>
                <a:lnTo>
                  <a:pt x="37772" y="3794"/>
                </a:lnTo>
                <a:lnTo>
                  <a:pt x="37772" y="17806"/>
                </a:lnTo>
                <a:close/>
              </a:path>
              <a:path fill="darken" w="61531" h="21600">
                <a:moveTo>
                  <a:pt x="23759" y="3794"/>
                </a:moveTo>
                <a:lnTo>
                  <a:pt x="25421" y="3794"/>
                </a:lnTo>
                <a:lnTo>
                  <a:pt x="25421" y="17806"/>
                </a:lnTo>
                <a:lnTo>
                  <a:pt x="23759" y="17806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7885080" y="3789360"/>
            <a:ext cx="1001880" cy="8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84360" y="333360"/>
            <a:ext cx="8064360" cy="50925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67680" y="5589720"/>
            <a:ext cx="9061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бака помогает Тутанхамону охотиться на страусов. Пластинка опахала из гробниц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утанхамона. Ок. 1345 до н.э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>
            <a:hlinkClick r:id="rId2" action="ppaction://hlinksldjump"/>
          </p:cNvPr>
          <p:cNvSpPr/>
          <p:nvPr/>
        </p:nvSpPr>
        <p:spPr>
          <a:xfrm>
            <a:off x="7164360" y="6308640"/>
            <a:ext cx="720720" cy="262080"/>
          </a:xfrm>
          <a:custGeom>
            <a:avLst/>
            <a:gdLst>
              <a:gd name="textAreaLeft" fmla="*/ 16920 w 720720"/>
              <a:gd name="textAreaRight" fmla="*/ 703800 w 720720"/>
              <a:gd name="textAreaTop" fmla="*/ 16920 h 262080"/>
              <a:gd name="textAreaBottom" fmla="*/ 245160 h 262080"/>
            </a:gdLst>
            <a:ahLst/>
            <a:rect l="textAreaLeft" t="textAreaTop" r="textAreaRight" b="textAreaBottom"/>
            <a:pathLst>
              <a:path w="59348" h="21600">
                <a:moveTo>
                  <a:pt x="0" y="0"/>
                </a:moveTo>
                <a:lnTo>
                  <a:pt x="59348" y="0"/>
                </a:lnTo>
                <a:lnTo>
                  <a:pt x="59348" y="21600"/>
                </a:lnTo>
                <a:lnTo>
                  <a:pt x="0" y="21600"/>
                </a:lnTo>
                <a:close/>
              </a:path>
              <a:path fill="lightenLess" w="59348" h="21600">
                <a:moveTo>
                  <a:pt x="0" y="0"/>
                </a:moveTo>
                <a:lnTo>
                  <a:pt x="59348" y="0"/>
                </a:lnTo>
                <a:lnTo>
                  <a:pt x="57948" y="1400"/>
                </a:lnTo>
                <a:lnTo>
                  <a:pt x="1400" y="1400"/>
                </a:lnTo>
                <a:close/>
              </a:path>
              <a:path fill="darken" w="59348" h="21600">
                <a:moveTo>
                  <a:pt x="59348" y="0"/>
                </a:moveTo>
                <a:lnTo>
                  <a:pt x="59348" y="21600"/>
                </a:lnTo>
                <a:lnTo>
                  <a:pt x="57948" y="20200"/>
                </a:lnTo>
                <a:lnTo>
                  <a:pt x="57948" y="1400"/>
                </a:lnTo>
                <a:close/>
              </a:path>
              <a:path fill="darkenLess" w="59348" h="21600">
                <a:moveTo>
                  <a:pt x="59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48" y="20200"/>
                </a:lnTo>
                <a:close/>
              </a:path>
              <a:path fill="lighten" w="59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348" h="21600">
                <a:moveTo>
                  <a:pt x="22668" y="7493"/>
                </a:moveTo>
                <a:lnTo>
                  <a:pt x="26175" y="7493"/>
                </a:lnTo>
                <a:lnTo>
                  <a:pt x="26175" y="12828"/>
                </a:lnTo>
                <a:cubicBezTo>
                  <a:pt x="26175" y="13751"/>
                  <a:pt x="26976" y="14482"/>
                  <a:pt x="28012" y="14482"/>
                </a:cubicBezTo>
                <a:lnTo>
                  <a:pt x="29674" y="14482"/>
                </a:lnTo>
                <a:cubicBezTo>
                  <a:pt x="30710" y="14482"/>
                  <a:pt x="31511" y="13751"/>
                  <a:pt x="31511" y="12828"/>
                </a:cubicBezTo>
                <a:lnTo>
                  <a:pt x="31511" y="7493"/>
                </a:lnTo>
                <a:lnTo>
                  <a:pt x="29674" y="7493"/>
                </a:lnTo>
                <a:lnTo>
                  <a:pt x="33182" y="3985"/>
                </a:lnTo>
                <a:lnTo>
                  <a:pt x="36855" y="7493"/>
                </a:lnTo>
                <a:lnTo>
                  <a:pt x="35018" y="7493"/>
                </a:lnTo>
                <a:lnTo>
                  <a:pt x="35018" y="12828"/>
                </a:lnTo>
                <a:cubicBezTo>
                  <a:pt x="35018" y="15596"/>
                  <a:pt x="32442" y="18155"/>
                  <a:pt x="29674" y="18155"/>
                </a:cubicBezTo>
                <a:lnTo>
                  <a:pt x="28012" y="18155"/>
                </a:lnTo>
                <a:cubicBezTo>
                  <a:pt x="25244" y="18155"/>
                  <a:pt x="22668" y="15596"/>
                  <a:pt x="22668" y="12828"/>
                </a:cubicBez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>
            <a:hlinkClick r:id="" action="ppaction://hlinkshowjump?jump=nextslide"/>
          </p:cNvPr>
          <p:cNvSpPr/>
          <p:nvPr/>
        </p:nvSpPr>
        <p:spPr>
          <a:xfrm>
            <a:off x="795672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31186" y="10800"/>
                </a:lnTo>
                <a:lnTo>
                  <a:pt x="17173" y="17806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07:25:51Z</dcterms:created>
  <dc:creator>Anna</dc:creator>
  <dc:description/>
  <dc:language>en-US</dc:language>
  <cp:lastModifiedBy>Anna</cp:lastModifiedBy>
  <dcterms:modified xsi:type="dcterms:W3CDTF">2007-11-26T17:13:46Z</dcterms:modified>
  <cp:revision>8</cp:revision>
  <dc:subject/>
  <dc:title>Урок русского языка во 2 классе</dc:title>
</cp:coreProperties>
</file>